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28E-94AB-4F6E-8345-D4E4F21E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FDC-15AA-4B01-B7FD-39665A8D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BC6-E393-4967-BC95-7603976A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24D-CE42-44C5-AFE3-8731DA7D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540-E1C6-45CC-B41E-2849F1E7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EF5-D447-4F5D-A405-C7DD71B8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83E-DDE8-4F80-95A1-E42CE4B2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A65-AFD4-459F-82E7-21F70CA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29F-A8D5-4B9B-A042-D29FD680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3D0-5611-4DD2-BB2B-E36057E7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919-BC60-4F7E-A4CC-4B4923D4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9B6-5239-43EE-A541-E7CF95C8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04E4-009F-43DA-AC7E-B61DE32906B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aatschappijl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indexamen v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Je rondt het af in de 3</a:t>
            </a:r>
            <a:r>
              <a:rPr b="0" lang="nl-NL" sz="3200" spc="-1" strike="noStrike" baseline="30000">
                <a:solidFill>
                  <a:srgbClr val="898989"/>
                </a:solidFill>
                <a:latin typeface="Calibri"/>
              </a:rPr>
              <a:t>e</a:t>
            </a: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 kl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980640"/>
            <a:ext cx="822960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indexamenvak: Alleen SETs (school examen toets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n schriftelijk centraal exa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7 of hoger gemiddeld: telt mee voor eindexamen als compens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 SET herkansbaar in juni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SET: ongeoorloofd afwezig = 1.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Ziek tijdens set: ouders/verzorgers tekenen briefje nog zelfde dag bij receptie. (geoorloofd afwezi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Niet getekend: ongeoorloofd afwezig =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Krijgt dan datum mee wanneer SET in te halen! Staat ook op jaarplan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andarts, dokter, ortho, etc = geen excuus voor afwezigheid!  Ongeoorloofd afwezig = 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Data inhaal SE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7 of 18 november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 of 2 februar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3 of 4 april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1 jun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8 juni HERKANSING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it j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6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1 praktische opdrach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 het huiswerk + set dat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Onderwerpen + Dat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olitiek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D01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7 okt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assamedia ED02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2 dec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ongeren ED03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3 feb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Relaties ED04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2 apr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Criminaliteit ED05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4 me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ulticulti ED06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6 jun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Opschrijven in je agenda!!!!!!!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raktische opdracht (ed07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elt voor 20% m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NIET herkan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 twee t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rkstuk + Presen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76464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andelingsde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, Voldoende of Go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: GEEN Diploma/ taak in de zomervakant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Bestaat uit: huiswerk controle en opdrachten in de 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Vóór ieder rapport wordt minstens 1x hw gecheck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tijd al het huiswerk (ziek = zelf check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Nb: 20-04 bij ED04 moet 2-4 zij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1513" t="32716" r="16432" b="24760"/>
          <a:stretch/>
        </p:blipFill>
        <p:spPr>
          <a:xfrm>
            <a:off x="0" y="1341360"/>
            <a:ext cx="91756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9:03:26Z</dcterms:created>
  <dc:creator>Floris Hirschfeld</dc:creator>
  <dc:description/>
  <dc:language>en-US</dc:language>
  <cp:lastModifiedBy>Floris Hirschfeld</cp:lastModifiedBy>
  <dcterms:modified xsi:type="dcterms:W3CDTF">2011-08-29T19:35:23Z</dcterms:modified>
  <cp:revision>5</cp:revision>
  <dc:subject/>
  <dc:title>Maatschappijleer</dc:title>
</cp:coreProperties>
</file>