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9D4-7128-40CB-8F94-886C7B74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260-95DA-49ED-80E6-ADA6DA2B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6A7-71ED-4D74-9CFB-E21798E8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055-A3CC-4585-BE03-507CF70F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121-8D21-4CBC-9B39-6DDC0BF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C4F-6045-41C1-9CD5-6E667C1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07C-3736-4958-9009-667130D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ACA-DE28-405F-9BF8-04BDA5C0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3CF-98CD-45B6-AA21-85A95590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45D-4027-4198-9444-23440C5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635-299D-445B-AD40-B069AB45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2E4-3646-4396-BC65-0A21872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ADAC-3267-4EDB-9F1A-AEB2572231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B47-91E6-4A19-AFD8-79D6129C14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zinloosgeweld"/>
          <p:cNvPicPr/>
          <p:nvPr/>
        </p:nvPicPr>
        <p:blipFill>
          <a:blip r:embed="rId1"/>
          <a:stretch/>
        </p:blipFill>
        <p:spPr>
          <a:xfrm rot="1223400">
            <a:off x="5651280" y="1484280"/>
            <a:ext cx="3024000" cy="28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inloos_geweld"/>
          <p:cNvPicPr/>
          <p:nvPr/>
        </p:nvPicPr>
        <p:blipFill>
          <a:blip r:embed="rId2"/>
          <a:stretch/>
        </p:blipFill>
        <p:spPr>
          <a:xfrm rot="20426400">
            <a:off x="468000" y="436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1050923.JPG"/>
          <p:cNvPicPr/>
          <p:nvPr/>
        </p:nvPicPr>
        <p:blipFill>
          <a:blip r:embed="rId4"/>
          <a:stretch/>
        </p:blipFill>
        <p:spPr>
          <a:xfrm>
            <a:off x="3059280" y="386064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A799-7217-4E65-BFBC-7F0F461BFE4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133720"/>
          <a:ext cx="7859520" cy="431964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BIED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ARD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zin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club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eer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FEA-407C-4E7E-B2A4-F477130DBF4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erschillen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roeger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en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roeger"/>
          <p:cNvPicPr/>
          <p:nvPr/>
        </p:nvPicPr>
        <p:blipFill>
          <a:blip r:embed="rId1"/>
          <a:stretch/>
        </p:blipFill>
        <p:spPr>
          <a:xfrm>
            <a:off x="179280" y="3716280"/>
            <a:ext cx="3810240" cy="275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9169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172-B78F-4E22-B8E1-CDB34ABAF3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86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270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916280"/>
          <a:ext cx="8137440" cy="48132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2808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oeger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vol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 werken 50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t werken 38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er uit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t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       werk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geld om uit te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nig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kter, minder vrij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r en vrije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respect voor elkaa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aker wapens me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el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inderde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en jong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agressi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12" name="Oval 183"/>
          <p:cNvSpPr/>
          <p:nvPr/>
        </p:nvSpPr>
        <p:spPr>
          <a:xfrm>
            <a:off x="3492360" y="3357720"/>
            <a:ext cx="216000" cy="21564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8" descr="symbool_man"/>
          <p:cNvPicPr/>
          <p:nvPr/>
        </p:nvPicPr>
        <p:blipFill>
          <a:blip r:embed="rId1"/>
          <a:stretch/>
        </p:blipFill>
        <p:spPr>
          <a:xfrm>
            <a:off x="684360" y="3387600"/>
            <a:ext cx="358560" cy="352440"/>
          </a:xfrm>
          <a:prstGeom prst="rect">
            <a:avLst/>
          </a:prstGeom>
          <a:ln w="0">
            <a:noFill/>
          </a:ln>
        </p:spPr>
      </p:pic>
      <p:sp>
        <p:nvSpPr>
          <p:cNvPr id="114" name="Line 189"/>
          <p:cNvSpPr/>
          <p:nvPr/>
        </p:nvSpPr>
        <p:spPr>
          <a:xfrm>
            <a:off x="3564000" y="35733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0"/>
          <p:cNvSpPr/>
          <p:nvPr/>
        </p:nvSpPr>
        <p:spPr>
          <a:xfrm flipV="1">
            <a:off x="3492360" y="3645000"/>
            <a:ext cx="142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1" descr="symbool_man"/>
          <p:cNvPicPr/>
          <p:nvPr/>
        </p:nvPicPr>
        <p:blipFill>
          <a:blip r:embed="rId2"/>
          <a:stretch/>
        </p:blipFill>
        <p:spPr>
          <a:xfrm>
            <a:off x="3995640" y="3357720"/>
            <a:ext cx="358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626E-820D-4632-B10F-CA7D28C266D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 (voor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349360"/>
            <a:ext cx="80643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e doet er wat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Overheid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k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j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ces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2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lorbands,50"/>
          <p:cNvPicPr/>
          <p:nvPr/>
        </p:nvPicPr>
        <p:blipFill>
          <a:blip r:embed="rId2"/>
          <a:stretch/>
        </p:blipFill>
        <p:spPr>
          <a:xfrm>
            <a:off x="2843280" y="5445000"/>
            <a:ext cx="3606840" cy="12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rcRect l="57588" t="46272" r="4769" b="11414"/>
          <a:stretch/>
        </p:blipFill>
        <p:spPr>
          <a:xfrm>
            <a:off x="6300720" y="3716280"/>
            <a:ext cx="2448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7B0-F71A-461A-B901-9B15ABC9BC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etten verbieden geweld 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en alcohol onder de 1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pakken van mensen als ze ve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ik op stuk bel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Camera’s opha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fouil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eenAlcoholOnder16"/>
          <p:cNvPicPr/>
          <p:nvPr/>
        </p:nvPicPr>
        <p:blipFill>
          <a:blip r:embed="rId2"/>
          <a:stretch/>
        </p:blipFill>
        <p:spPr>
          <a:xfrm rot="20184000">
            <a:off x="4622760" y="4314960"/>
            <a:ext cx="3565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842B-643F-4303-A217-E7ABFAB9FE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2349360"/>
            <a:ext cx="806436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lijk zinloos gew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lchol en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ypisch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6842-5538-4222-8954-874A2ED100E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wi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349360"/>
            <a:ext cx="806436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Kijken naar je eigen normen en waard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andacht spenderen aan zinloos gewel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Eigenaren disco’s beter opletten dat jongeren niet straalbezop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rugsgebruik tegenhou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lorbands,50"/>
          <p:cNvPicPr/>
          <p:nvPr/>
        </p:nvPicPr>
        <p:blipFill>
          <a:blip r:embed="rId1"/>
          <a:stretch/>
        </p:blipFill>
        <p:spPr>
          <a:xfrm>
            <a:off x="5148360" y="1413000"/>
            <a:ext cx="3606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0F1B-AFAD-496E-A6CA-828397FDD55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2349360"/>
            <a:ext cx="806436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fspraken maken met vrien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men uit, samen thuis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Rustig blijven als je wordt gepes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57588" t="46272" r="4769" b="11414"/>
          <a:stretch/>
        </p:blipFill>
        <p:spPr>
          <a:xfrm>
            <a:off x="5940360" y="1197000"/>
            <a:ext cx="1943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D40E-FADA-4008-9E09-013BCAC98EA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 gemiddelde hoger dan een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dereen een (mini)appelfl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179664517geweld"/>
          <p:cNvPicPr/>
          <p:nvPr/>
        </p:nvPicPr>
        <p:blipFill>
          <a:blip r:embed="rId1"/>
          <a:stretch/>
        </p:blipFill>
        <p:spPr>
          <a:xfrm>
            <a:off x="284328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61E2-D1F4-4B90-B907-0AA4BACBADD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goede m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 je moet feiten w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 verschillende kanten be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 goede argumenten hebben (waarom vind je iet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0F4-B0A3-4BA7-90B3-4035070FA40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s je een mening ge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nder dat je weet w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precies gebeurd 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ek j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0328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VOOROORDEL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4506-C855-4036-BD35-77AF6C5E2CD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maatschappelij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el mensen hebben er mee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zijn verschillende m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overheid bemoeit zich er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gument"/>
          <p:cNvPicPr/>
          <p:nvPr/>
        </p:nvPicPr>
        <p:blipFill>
          <a:blip r:embed="rId1"/>
          <a:stretch/>
        </p:blipFill>
        <p:spPr>
          <a:xfrm>
            <a:off x="608472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CBA6-8B69-47BB-AF30-37B0CD4948D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877080" y="1197000"/>
            <a:ext cx="180036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8360" y="2349360"/>
          <a:ext cx="8218440" cy="436428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N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de jonger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zier maken, veiligheid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eca ondernemer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e omzet, goede naam, geen vechtpartijen, etc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, rust, veiligheid, weinig dronke mens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gemeester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d goede naam houden, niet negatief in het nieuw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urtbewoners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en overlast, strenge 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41F-24BB-4640-B069-1C171A951FC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n uitgaan naar zinloosgew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d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 veel alcohol, te veel drug, thrillseekers, vechtersbaa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lachtoff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keerde plek, verkeer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05C-09B2-4C79-8DCF-1A762A0140F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t voordeel dat je ergens bij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meenschappelijke bela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owel jij als de politie wil veiligheid bij het uit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belang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reca wil veel drank verkopen, de politie wil geen dronken mensen op str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3192-EFFA-40D6-9C7C-718F7CD57E6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9640" y="27082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belangrijk vindt in het leven 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BE3B-57FF-473C-B0F4-615F1649DB5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normen en waarden bij zinloos  gew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3357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zelligheid                      Gewel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6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Geen ruzie maken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      Vechten is leu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70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26436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84720" y="2708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462560" y="4724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Rustig met drank       Dronken worden mo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7840" y="335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eiligheid                  Uit je dak ga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92360" y="3573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6156360" y="357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050920" y="486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9528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35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4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32:26Z</dcterms:modified>
  <cp:revision>80</cp:revision>
  <dc:subject/>
  <dc:title>Dia 1</dc:title>
</cp:coreProperties>
</file>