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4.png" ContentType="image/png"/>
  <Override PartName="/ppt/media/image10.gif" ContentType="image/gif"/>
  <Override PartName="/ppt/media/image12.jpeg" ContentType="image/jpeg"/>
  <Override PartName="/ppt/media/image9.png" ContentType="image/png"/>
  <Override PartName="/ppt/media/image8.gif" ContentType="image/gif"/>
  <Override PartName="/ppt/media/image7.gif" ContentType="image/gif"/>
  <Override PartName="/ppt/media/image6.png" ContentType="image/png"/>
  <Override PartName="/ppt/media/image3.gif" ContentType="image/gif"/>
  <Override PartName="/ppt/media/image26.gif" ContentType="image/gif"/>
  <Override PartName="/ppt/media/image5.png" ContentType="image/png"/>
  <Override PartName="/ppt/media/image25.gif" ContentType="image/gif"/>
  <Override PartName="/ppt/media/image23.gif" ContentType="image/gif"/>
  <Override PartName="/ppt/media/image15.png" ContentType="image/png"/>
  <Override PartName="/ppt/media/image20.png" ContentType="image/png"/>
  <Override PartName="/ppt/media/image17.gif" ContentType="image/gif"/>
  <Override PartName="/ppt/media/image16.png" ContentType="image/png"/>
  <Override PartName="/ppt/media/image21.gif" ContentType="image/gif"/>
  <Override PartName="/ppt/media/image19.gif" ContentType="image/gif"/>
  <Override PartName="/ppt/media/image1.png" ContentType="image/png"/>
  <Override PartName="/ppt/media/image22.gif" ContentType="image/gif"/>
  <Override PartName="/ppt/media/image2.png" ContentType="image/png"/>
  <Override PartName="/ppt/media/image24.gif" ContentType="image/gif"/>
  <Override PartName="/ppt/media/image4.png" ContentType="image/png"/>
  <Override PartName="/ppt/media/image13.jpeg" ContentType="image/jpeg"/>
  <Override PartName="/ppt/media/image1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67CB-CF0C-4687-ADA7-6062EFAA0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3E56-554C-4658-B299-2047F4B9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501E-AAB4-442A-A0BE-18576A5FA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4A94-4403-4AD6-9416-D01B2E173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241C-DEE7-409C-944E-ADB6CA4B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52F1-154D-4969-BD35-A9D096F0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E80C-0C19-49E2-9E11-E1F683D9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5AC6-756C-4F16-A2DB-460C2ABC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F1CD-54BF-4CDE-9E95-1D85BF3C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BDED-286E-4193-9DF4-FA2FE5A4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3C18-5B3C-4333-8812-26E75ECC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A8ED-F22A-4DEE-8ABD-FF580ED7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DFA5-C354-479D-A5AC-19F33EC2D2B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nl.youtube.com/watch?v=1HF35xuN0vQ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5.gif"/><Relationship Id="rId5" Type="http://schemas.openxmlformats.org/officeDocument/2006/relationships/image" Target="../media/image26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208A-57A4-4684-BA4F-933C41AFCC7B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7236000" y="4869000"/>
            <a:ext cx="190800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ag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24 t/m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1117013462jongeren"/>
          <p:cNvPicPr/>
          <p:nvPr/>
        </p:nvPicPr>
        <p:blipFill>
          <a:blip r:embed="rId1"/>
          <a:stretch/>
        </p:blipFill>
        <p:spPr>
          <a:xfrm>
            <a:off x="1042920" y="1197000"/>
            <a:ext cx="6226200" cy="50259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2"/>
          <p:cNvSpPr/>
          <p:nvPr/>
        </p:nvSpPr>
        <p:spPr>
          <a:xfrm>
            <a:off x="2372040" y="333360"/>
            <a:ext cx="3288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ONGEREN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5085-CE68-4C59-858A-414B2C52FE22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82872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4: Ieder zijn stij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50920" y="2276640"/>
            <a:ext cx="806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Socialisatie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543640" y="3357720"/>
            <a:ext cx="360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Sociale controle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-900000" y="3357720"/>
            <a:ext cx="554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Normen en </a:t>
            </a:r>
            <a:br>
              <a:rPr sz="3000"/>
            </a:b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waarden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24000" y="5805360"/>
            <a:ext cx="806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Internalisatie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-973080" y="5157720"/>
            <a:ext cx="554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Cultuur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5543640" y="4869000"/>
            <a:ext cx="360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Sancties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7"/>
          <p:cNvSpPr/>
          <p:nvPr/>
        </p:nvSpPr>
        <p:spPr>
          <a:xfrm rot="19491000">
            <a:off x="1763640" y="2420640"/>
            <a:ext cx="1368360" cy="71892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96120 h 718920"/>
              <a:gd name="textAreaBottom" fmla="*/ 622800 h 71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8"/>
          <p:cNvSpPr/>
          <p:nvPr/>
        </p:nvSpPr>
        <p:spPr>
          <a:xfrm rot="3993000">
            <a:off x="5615640" y="2385000"/>
            <a:ext cx="1368360" cy="71928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9"/>
          <p:cNvSpPr/>
          <p:nvPr/>
        </p:nvSpPr>
        <p:spPr>
          <a:xfrm rot="3993000">
            <a:off x="6584760" y="4064040"/>
            <a:ext cx="1225440" cy="574560"/>
          </a:xfrm>
          <a:custGeom>
            <a:avLst/>
            <a:gdLst>
              <a:gd name="textAreaLeft" fmla="*/ 214200 w 1225440"/>
              <a:gd name="textAreaRight" fmla="*/ 888480 w 1225440"/>
              <a:gd name="textAreaTop" fmla="*/ 76680 h 574560"/>
              <a:gd name="textAreaBottom" fmla="*/ 497880 h 57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0"/>
          <p:cNvSpPr/>
          <p:nvPr/>
        </p:nvSpPr>
        <p:spPr>
          <a:xfrm rot="8839800">
            <a:off x="5940000" y="5660640"/>
            <a:ext cx="1368360" cy="71928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1"/>
          <p:cNvSpPr/>
          <p:nvPr/>
        </p:nvSpPr>
        <p:spPr>
          <a:xfrm rot="12125400">
            <a:off x="1618920" y="5876280"/>
            <a:ext cx="1368360" cy="71892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96120 h 718920"/>
              <a:gd name="textAreaBottom" fmla="*/ 622800 h 71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2"/>
          <p:cNvSpPr/>
          <p:nvPr/>
        </p:nvSpPr>
        <p:spPr>
          <a:xfrm rot="15039000">
            <a:off x="1206360" y="4565520"/>
            <a:ext cx="1082880" cy="501840"/>
          </a:xfrm>
          <a:custGeom>
            <a:avLst/>
            <a:gdLst>
              <a:gd name="textAreaLeft" fmla="*/ 189360 w 1082880"/>
              <a:gd name="textAreaRight" fmla="*/ 785160 w 1082880"/>
              <a:gd name="textAreaTop" fmla="*/ 66960 h 501840"/>
              <a:gd name="textAreaBottom" fmla="*/ 434880 h 501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3"/>
          <p:cNvSpPr/>
          <p:nvPr/>
        </p:nvSpPr>
        <p:spPr>
          <a:xfrm>
            <a:off x="2916360" y="2852640"/>
            <a:ext cx="2952720" cy="2881440"/>
          </a:xfrm>
          <a:custGeom>
            <a:avLst/>
            <a:gdLst>
              <a:gd name="textAreaLeft" fmla="*/ 432360 w 2952720"/>
              <a:gd name="textAreaRight" fmla="*/ 2520360 w 2952720"/>
              <a:gd name="textAreaTop" fmla="*/ 421920 h 2881440"/>
              <a:gd name="textAreaBottom" fmla="*/ 2459520 h 2881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CAC4-29CB-4924-BB10-5B8E1EE1E451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5: Jongerencult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24000" y="2349360"/>
            <a:ext cx="80643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De eerste jeugdculturen ontstonden in de jaren 60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Komt door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Meer welvaar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Meer vrije tij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Lonen gingen omhoo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Kans om door te ler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9" descr="teenager.gif"/>
          <p:cNvPicPr/>
          <p:nvPr/>
        </p:nvPicPr>
        <p:blipFill>
          <a:blip r:embed="rId1"/>
          <a:stretch/>
        </p:blipFill>
        <p:spPr>
          <a:xfrm>
            <a:off x="5508720" y="43657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43C1-3BD1-41AC-94B8-4C99014F2521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5: Jongerencult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24000" y="2349360"/>
            <a:ext cx="8064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Waarom bij een groep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Meer vrije tijd en geld </a:t>
            </a:r>
            <a:r>
              <a:rPr b="1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 dingen kopen/do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Bij een groep willen hor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Anders zij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Andere ideeën/normen/waarden dan je ouders =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Generatie conflic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teenager"/>
          <p:cNvPicPr/>
          <p:nvPr/>
        </p:nvPicPr>
        <p:blipFill>
          <a:blip r:embed="rId1"/>
          <a:stretch/>
        </p:blipFill>
        <p:spPr>
          <a:xfrm>
            <a:off x="6372360" y="549360"/>
            <a:ext cx="22190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34D7-F32B-4B76-B37D-AEB2370A7DBB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eeldvorming: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het beeld dat je van iemand 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rmt door bijvoorbeeld gedrag en uiterlij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Rolgedrag: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 jij j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volgens anderen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oet 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dragen in bepaalde situa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ensen hebben verschillende ro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it je rol vallen: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s je even anders gedraagd, je rol ‘los laten’ en helemaal jezelf 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Roldoorbrekend gedrag: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B: dat mannen traditionele vrouwentaken verrichten en vrouwen traditionele mannen t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jongeren"/>
          <p:cNvPicPr/>
          <p:nvPr/>
        </p:nvPicPr>
        <p:blipFill>
          <a:blip r:embed="rId1"/>
          <a:stretch/>
        </p:blipFill>
        <p:spPr>
          <a:xfrm>
            <a:off x="7308720" y="1916280"/>
            <a:ext cx="1428840" cy="18475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684360" y="1197000"/>
            <a:ext cx="764352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6: Hoe kijk je tegen anderen aan?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E31C-FCA2-4EAB-961A-F701880AC599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7: Hoe we samen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24000" y="2349360"/>
            <a:ext cx="8064360" cy="36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Bindingen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Mensen zijn afhankelijk van anderen. </a:t>
            </a:r>
            <a:br>
              <a:rPr sz="2400"/>
            </a:b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Je hebt ‘bindingen’ met ze.</a:t>
            </a:r>
            <a:br>
              <a:rPr sz="2400"/>
            </a:b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Zo hebben er mensen gezorgd voor jouw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pullen (fiets, wekker, kleding, leidingen voor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water etc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79C3-7B4E-40F6-9DBA-EE9A234265BA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7: Hoe we samen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24000" y="2349360"/>
            <a:ext cx="8064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Bindingen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gevoelsbinding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economische binding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kennisbinding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politieke binding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A7C8-6968-43F9-8A9B-4E0B3576AE37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7: Hoe we samen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324000" y="2349360"/>
            <a:ext cx="806436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Bindingen: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 gevoelsbinding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mensen hebben elkaar nodig voor v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riendschap, steun en liefd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relaties</a:t>
            </a:r>
            <a:br>
              <a:rPr sz="2800"/>
            </a:b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gezinnen/ families</a:t>
            </a:r>
            <a:br>
              <a:rPr sz="2800"/>
            </a:b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vriend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Zijn (vaak) positieve 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gevoelens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Beating_Hearts"/>
          <p:cNvPicPr/>
          <p:nvPr/>
        </p:nvPicPr>
        <p:blipFill>
          <a:blip r:embed="rId1"/>
          <a:stretch/>
        </p:blipFill>
        <p:spPr>
          <a:xfrm>
            <a:off x="6300720" y="476280"/>
            <a:ext cx="2619360" cy="2381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Hearts"/>
          <p:cNvPicPr/>
          <p:nvPr/>
        </p:nvPicPr>
        <p:blipFill>
          <a:blip r:embed="rId2"/>
          <a:stretch/>
        </p:blipFill>
        <p:spPr>
          <a:xfrm>
            <a:off x="395280" y="4005360"/>
            <a:ext cx="21970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8DD7-DC19-44B4-8E42-B9D6B24E6245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7: Hoe we samen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324000" y="2349360"/>
            <a:ext cx="806436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Bindingen: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 economische binding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Alles wat me je levensondehoud te maken heeft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wat je eet/ drinkt</a:t>
            </a:r>
            <a:br>
              <a:rPr sz="2800"/>
            </a:b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wat je gebruikt/ koop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Je bent afhankelijk van zakgeld of lo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rembrandt.gif"/>
          <p:cNvPicPr/>
          <p:nvPr/>
        </p:nvPicPr>
        <p:blipFill>
          <a:blip r:embed="rId1"/>
          <a:stretch/>
        </p:blipFill>
        <p:spPr>
          <a:xfrm>
            <a:off x="6659640" y="692280"/>
            <a:ext cx="213984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2E9C-C38B-4365-9080-4A20442BD654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7: Hoe we samen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24000" y="2349360"/>
            <a:ext cx="806436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Bindingen: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 kennisbinding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heeft te maken met alles wat je leer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via school</a:t>
            </a:r>
            <a:br>
              <a:rPr sz="2800"/>
            </a:b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via je ouders</a:t>
            </a:r>
            <a:br>
              <a:rPr sz="2800"/>
            </a:b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via vrienden</a:t>
            </a:r>
            <a:br>
              <a:rPr sz="2800"/>
            </a:b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etc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aangeleerd"/>
          <p:cNvPicPr/>
          <p:nvPr/>
        </p:nvPicPr>
        <p:blipFill>
          <a:blip r:embed="rId1"/>
          <a:stretch/>
        </p:blipFill>
        <p:spPr>
          <a:xfrm>
            <a:off x="4788000" y="3429000"/>
            <a:ext cx="29401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7FA3-E07C-4283-AA2B-B710B76EF72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99760" y="162828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7: Hoe we samen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324000" y="234936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Bindingen: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 politieke binding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Omdat je onmogelijk alles zelf </a:t>
            </a:r>
            <a:br>
              <a:rPr sz="2800"/>
            </a:b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kan regelen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Overheid beschermt ons, legt </a:t>
            </a:r>
            <a:br>
              <a:rPr sz="2800"/>
            </a:b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weten aan, zorgt voor politie </a:t>
            </a:r>
            <a:br>
              <a:rPr sz="2800"/>
            </a:b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en onderwijs, etc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Wetten en regel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balkenende"/>
          <p:cNvPicPr/>
          <p:nvPr/>
        </p:nvPicPr>
        <p:blipFill>
          <a:blip r:embed="rId1"/>
          <a:stretch/>
        </p:blipFill>
        <p:spPr>
          <a:xfrm>
            <a:off x="6012000" y="1844640"/>
            <a:ext cx="2857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2204-D92A-40C2-B28B-5BC292564812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1 Hoe word je wie je b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angeboren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pvoe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genschappe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   fatso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riftig zij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   pr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erlegen zij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   l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uzikaal zij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   naar wc g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tc..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  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angebor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angelee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1" descr="Teenager"/>
          <p:cNvPicPr/>
          <p:nvPr/>
        </p:nvPicPr>
        <p:blipFill>
          <a:blip r:embed="rId1"/>
          <a:stretch/>
        </p:blipFill>
        <p:spPr>
          <a:xfrm>
            <a:off x="3564000" y="2708280"/>
            <a:ext cx="1649520" cy="367200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12"/>
          <p:cNvSpPr/>
          <p:nvPr/>
        </p:nvSpPr>
        <p:spPr>
          <a:xfrm rot="10800000">
            <a:off x="1331640" y="1628280"/>
            <a:ext cx="6048360" cy="936720"/>
          </a:xfrm>
          <a:custGeom>
            <a:avLst/>
            <a:gdLst>
              <a:gd name="textAreaLeft" fmla="*/ 604800 w 6048360"/>
              <a:gd name="textAreaRight" fmla="*/ 5443560 w 6048360"/>
              <a:gd name="textAreaTop" fmla="*/ 535320 h 936720"/>
              <a:gd name="textAreaBottom" fmla="*/ 803160 h 9367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1258920" y="5013360"/>
            <a:ext cx="288720" cy="936720"/>
          </a:xfrm>
          <a:prstGeom prst="upDownArrow">
            <a:avLst>
              <a:gd name="adj1" fmla="val 50000"/>
              <a:gd name="adj2" fmla="val 6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4"/>
          <p:cNvSpPr/>
          <p:nvPr/>
        </p:nvSpPr>
        <p:spPr>
          <a:xfrm>
            <a:off x="6443640" y="4941720"/>
            <a:ext cx="289080" cy="936720"/>
          </a:xfrm>
          <a:prstGeom prst="upDownArrow">
            <a:avLst>
              <a:gd name="adj1" fmla="val 50000"/>
              <a:gd name="adj2" fmla="val 645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9B59-1429-4FB6-98A6-AF97FCC0B053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cces met ler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eb je hoger dan een 8.5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an iets lekker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24000" y="2349360"/>
            <a:ext cx="80643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Afbeelding 13" descr="child.gif"/>
          <p:cNvPicPr/>
          <p:nvPr/>
        </p:nvPicPr>
        <p:blipFill>
          <a:blip r:embed="rId1"/>
          <a:stretch/>
        </p:blipFill>
        <p:spPr>
          <a:xfrm>
            <a:off x="5508720" y="465300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168" name="Afbeelding 14" descr="preteen.gif"/>
          <p:cNvPicPr/>
          <p:nvPr/>
        </p:nvPicPr>
        <p:blipFill>
          <a:blip r:embed="rId2"/>
          <a:stretch/>
        </p:blipFill>
        <p:spPr>
          <a:xfrm>
            <a:off x="3995640" y="465300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169" name="Afbeelding 15" descr="schoolchild.gif"/>
          <p:cNvPicPr/>
          <p:nvPr/>
        </p:nvPicPr>
        <p:blipFill>
          <a:blip r:embed="rId3"/>
          <a:stretch/>
        </p:blipFill>
        <p:spPr>
          <a:xfrm>
            <a:off x="755640" y="465300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170" name="Afbeelding 16" descr="wirish.gif"/>
          <p:cNvPicPr/>
          <p:nvPr/>
        </p:nvPicPr>
        <p:blipFill>
          <a:blip r:embed="rId4"/>
          <a:stretch/>
        </p:blipFill>
        <p:spPr>
          <a:xfrm>
            <a:off x="2411280" y="465300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171" name="Afbeelding 17" descr="teenagers.gif"/>
          <p:cNvPicPr/>
          <p:nvPr/>
        </p:nvPicPr>
        <p:blipFill>
          <a:blip r:embed="rId5"/>
          <a:stretch/>
        </p:blipFill>
        <p:spPr>
          <a:xfrm>
            <a:off x="6948360" y="4653000"/>
            <a:ext cx="1656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B9E2-A6E8-4E96-A6C1-62122657DFE9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22960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1 Hoe word je wie je b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95280" y="4581360"/>
            <a:ext cx="26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Belonen en straffen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C0DCB-give"/>
          <p:cNvPicPr/>
          <p:nvPr/>
        </p:nvPicPr>
        <p:blipFill>
          <a:blip r:embed="rId1"/>
          <a:stretch/>
        </p:blipFill>
        <p:spPr>
          <a:xfrm>
            <a:off x="0" y="1773360"/>
            <a:ext cx="1944720" cy="15984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9"/>
          <p:cNvSpPr/>
          <p:nvPr/>
        </p:nvSpPr>
        <p:spPr>
          <a:xfrm>
            <a:off x="3708360" y="472428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Imitati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6227640" y="472428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Informati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" descr="illustratie"/>
          <p:cNvPicPr/>
          <p:nvPr/>
        </p:nvPicPr>
        <p:blipFill>
          <a:blip r:embed="rId2"/>
          <a:stretch/>
        </p:blipFill>
        <p:spPr>
          <a:xfrm>
            <a:off x="1835280" y="2708280"/>
            <a:ext cx="1552320" cy="19652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3"/>
          <p:cNvSpPr/>
          <p:nvPr/>
        </p:nvSpPr>
        <p:spPr>
          <a:xfrm>
            <a:off x="179280" y="5661000"/>
            <a:ext cx="26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=</a:t>
            </a:r>
            <a:br>
              <a:rPr sz="3200"/>
            </a:b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Sanctie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5" descr="information"/>
          <p:cNvPicPr/>
          <p:nvPr/>
        </p:nvPicPr>
        <p:blipFill>
          <a:blip r:embed="rId3"/>
          <a:stretch/>
        </p:blipFill>
        <p:spPr>
          <a:xfrm>
            <a:off x="6156360" y="2276640"/>
            <a:ext cx="2414520" cy="2414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elastic_parrot"/>
          <p:cNvPicPr/>
          <p:nvPr/>
        </p:nvPicPr>
        <p:blipFill>
          <a:blip r:embed="rId4"/>
          <a:stretch/>
        </p:blipFill>
        <p:spPr>
          <a:xfrm>
            <a:off x="4140360" y="3284640"/>
            <a:ext cx="1207800" cy="1312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pars"/>
          <p:cNvPicPr/>
          <p:nvPr/>
        </p:nvPicPr>
        <p:blipFill>
          <a:blip r:embed="rId5"/>
          <a:stretch/>
        </p:blipFill>
        <p:spPr>
          <a:xfrm>
            <a:off x="4067280" y="1773360"/>
            <a:ext cx="155880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FFFA-2399-41C7-964A-F8EB98EEDF37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1Hoe word je wie je b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755640" y="50846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Identificati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4932360" y="5084640"/>
            <a:ext cx="33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Eigen Persoonlijkheid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California Motorcycle Accident Lawyer Norman Gregory Fernandez discusses Britney Spears situation."/>
          <p:cNvPicPr/>
          <p:nvPr/>
        </p:nvPicPr>
        <p:blipFill>
          <a:blip r:embed="rId1"/>
          <a:stretch/>
        </p:blipFill>
        <p:spPr>
          <a:xfrm>
            <a:off x="900000" y="1773360"/>
            <a:ext cx="2435400" cy="3162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ti-animated"/>
          <p:cNvPicPr/>
          <p:nvPr/>
        </p:nvPicPr>
        <p:blipFill>
          <a:blip r:embed="rId2"/>
          <a:stretch/>
        </p:blipFill>
        <p:spPr>
          <a:xfrm>
            <a:off x="4211640" y="1989000"/>
            <a:ext cx="3809880" cy="30290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2"/>
          <p:cNvSpPr/>
          <p:nvPr/>
        </p:nvSpPr>
        <p:spPr>
          <a:xfrm>
            <a:off x="684360" y="5851440"/>
            <a:ext cx="266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Op iemand willen lijken die je bewonder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4932360" y="6093000"/>
            <a:ext cx="33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Persoonlijke invloeden, ervaringen, karakter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1A5C-A0E4-46EF-828F-49C1745BD9F1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627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2: Wat is norma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539640" y="2708280"/>
            <a:ext cx="79930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Normen: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gedragsregels; regels hoe iemand zich moet gedra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Waarden: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principes die iemand 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belangrijk vindt in het leven 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(vaak 1 woord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1" descr="avinfun.gif"/>
          <p:cNvPicPr/>
          <p:nvPr/>
        </p:nvPicPr>
        <p:blipFill>
          <a:blip r:embed="rId1"/>
          <a:stretch/>
        </p:blipFill>
        <p:spPr>
          <a:xfrm>
            <a:off x="6012000" y="4221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22"/>
          <p:cNvSpPr/>
          <p:nvPr/>
        </p:nvSpPr>
        <p:spPr>
          <a:xfrm>
            <a:off x="468360" y="3573360"/>
            <a:ext cx="676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fatsoensnormen: “het hoort nou eenmaal zo”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- opstaan in bus voor om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- hand gev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DCB7-DC59-40C1-B838-A4738904F85E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2: Wat is norma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erschillen in waarde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n normen d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  De groep waar je bij ho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 plaats waar je wo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 tijd waarin je le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éle grote verschillen: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bnorma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9" descr="gay-parade-32"/>
          <p:cNvPicPr/>
          <p:nvPr/>
        </p:nvPicPr>
        <p:blipFill>
          <a:blip r:embed="rId1"/>
          <a:stretch/>
        </p:blipFill>
        <p:spPr>
          <a:xfrm>
            <a:off x="5651640" y="1773360"/>
            <a:ext cx="3138480" cy="47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DBBA-22D3-4EA4-B40E-8A6CF7FC382D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2000"/>
          </a:bodyPr>
          <a:p>
            <a:pPr marL="41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3: Socialis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= de overdracht van kenmerken van een groep of samenlev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cialiserende institu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z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rienden en vriendi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ortcl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l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ss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18F2-ED49-4405-B8D9-A127D8010C0A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5000"/>
          </a:bodyPr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3: Socialis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ternalisat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e gedraagt je ‘automatisch’ (ongeveer) zoals de groep dat verwacht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 rechts rijden in het verk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 hand geven als je iemand ontmo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 boer/scheet inhouden tijdens het 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9D7A-E58A-45C8-8DD8-155D5C1F8E5C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82872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4: Ieder zijn stij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24000" y="2349360"/>
            <a:ext cx="806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Cultuur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5219640" y="3933720"/>
            <a:ext cx="360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Subcultuur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-973080" y="3933720"/>
            <a:ext cx="554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Dominante cultuur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324000" y="5589720"/>
            <a:ext cx="806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Jongeren cultuur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6" descr="cult"/>
          <p:cNvPicPr/>
          <p:nvPr/>
        </p:nvPicPr>
        <p:blipFill>
          <a:blip r:embed="rId1"/>
          <a:stretch/>
        </p:blipFill>
        <p:spPr>
          <a:xfrm>
            <a:off x="6084720" y="404640"/>
            <a:ext cx="2881440" cy="24926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7"/>
          <p:cNvSpPr/>
          <p:nvPr/>
        </p:nvSpPr>
        <p:spPr>
          <a:xfrm>
            <a:off x="1908000" y="2781360"/>
            <a:ext cx="55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Een groep mensen met dezelfde waarden, normen en gewoon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0" y="4437000"/>
            <a:ext cx="55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cultuur van een grote groep mensen. (in Nederland…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5580000" y="436572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cultuur van een 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kleine groep mens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2411280" y="3573360"/>
            <a:ext cx="576360" cy="503280"/>
          </a:xfrm>
          <a:prstGeom prst="leftArrow">
            <a:avLst>
              <a:gd name="adj1" fmla="val 50000"/>
              <a:gd name="adj2" fmla="val 286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2"/>
          <p:cNvSpPr/>
          <p:nvPr/>
        </p:nvSpPr>
        <p:spPr>
          <a:xfrm>
            <a:off x="5724360" y="3573360"/>
            <a:ext cx="792360" cy="505080"/>
          </a:xfrm>
          <a:prstGeom prst="rightArrow">
            <a:avLst>
              <a:gd name="adj1" fmla="val 50000"/>
              <a:gd name="adj2" fmla="val 392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3"/>
          <p:cNvSpPr/>
          <p:nvPr/>
        </p:nvSpPr>
        <p:spPr>
          <a:xfrm>
            <a:off x="2268360" y="6035760"/>
            <a:ext cx="49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cultuur van een groep jonger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Floris Hirschfeld</cp:lastModifiedBy>
  <dcterms:modified xsi:type="dcterms:W3CDTF">2011-08-24T08:02:17Z</dcterms:modified>
  <cp:revision>91</cp:revision>
  <dc:subject/>
  <dc:title>Dia 1</dc:title>
</cp:coreProperties>
</file>