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jpeg" ContentType="image/jpeg"/>
  <Override PartName="/ppt/media/image9.png" ContentType="image/png"/>
  <Override PartName="/ppt/media/image6.gif" ContentType="image/gif"/>
  <Override PartName="/ppt/media/image8.gif" ContentType="image/gif"/>
  <Override PartName="/ppt/media/image18.jpeg" ContentType="image/jpeg"/>
  <Override PartName="/ppt/media/image17.gif" ContentType="image/gif"/>
  <Override PartName="/ppt/media/image2.jpeg" ContentType="image/jpeg"/>
  <Override PartName="/ppt/media/image3.png" ContentType="image/png"/>
  <Override PartName="/ppt/media/image16.png" ContentType="image/png"/>
  <Override PartName="/ppt/media/image15.gif" ContentType="image/gif"/>
  <Override PartName="/ppt/media/image14.png" ContentType="image/png"/>
  <Override PartName="/ppt/media/image1.png" ContentType="image/png"/>
  <Override PartName="/ppt/media/image19.gif" ContentType="image/gif"/>
  <Override PartName="/ppt/media/image4.png" ContentType="image/png"/>
  <Override PartName="/ppt/media/image13.jpeg" ContentType="image/jpeg"/>
  <Override PartName="/ppt/media/image10.jpeg" ContentType="image/jpeg"/>
  <Override PartName="/ppt/media/image7.gif" ContentType="image/gif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2EFC-52C4-483F-BDF8-29B95F16D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F128-E1FD-48E2-AA77-30BE54003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D404-8E1E-4720-836D-5BBBFCA58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EDAF-D265-4DD6-8501-ECF98057F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45DC-1D58-4103-B43F-59A588C87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1F41-BD26-423C-B2F8-4F1FF2703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ADF5-692A-402D-817C-F289F7DDB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1EC5-2D12-42BF-B943-9500AD53A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BE54-0A3C-4FD7-B5BD-A0E8045A4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D75C-EE47-45FE-B60C-C5DB74D40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D930-2DFB-4937-AF64-635A3DF0F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E7E9-DEDC-4A16-B229-4DFD76E13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5F73C-D3FF-4AB2-ABA6-E7C1479F871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youtube.com/watch?v=ji9zaYR-5YQ" TargetMode="External"/><Relationship Id="rId3" Type="http://schemas.openxmlformats.org/officeDocument/2006/relationships/hyperlink" Target="http://www.youtube.com/watch?v=ByA1bmvhGto" TargetMode="External"/><Relationship Id="rId4" Type="http://schemas.openxmlformats.org/officeDocument/2006/relationships/hyperlink" Target="http://web.teleblik.kennisnet.nl/tsr/player/vo/fid/1681230" TargetMode="External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40720" y="333360"/>
            <a:ext cx="1889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900000" y="1052640"/>
            <a:ext cx="5977080" cy="52671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00360" y="1052640"/>
            <a:ext cx="24843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ag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16 t/m 1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8D35-A244-4569-A914-8AE919ADD53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4: Als het even tegenz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349360"/>
            <a:ext cx="806436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Hoe kom je weer aan we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olliciteren op Vac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etwerken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met vrienden, famil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Uitzendbure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entrum voor Werk en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komen (CW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643280" y="2492280"/>
            <a:ext cx="2791080" cy="3571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7560-255E-4260-8B0A-3EA88EBAF66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79930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4: Als het even tegenzit: discrimin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335772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lochto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148360" y="981000"/>
            <a:ext cx="3168720" cy="2484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324000" y="1052640"/>
            <a:ext cx="2881080" cy="23828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68360" y="335772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eaard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264960" y="3860640"/>
            <a:ext cx="2633760" cy="2808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340000" y="407664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rouw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illustratie: Magda Rijs"/>
          <p:cNvPicPr/>
          <p:nvPr/>
        </p:nvPicPr>
        <p:blipFill>
          <a:blip r:embed="rId5"/>
          <a:stretch/>
        </p:blipFill>
        <p:spPr>
          <a:xfrm>
            <a:off x="5724360" y="3971880"/>
            <a:ext cx="2381400" cy="28861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635280" y="580536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eeftijd </a:t>
            </a:r>
            <a:r>
              <a:rPr b="1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8D43-5F13-4BE6-8C69-39D5EC6B6AC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1765440" y="33300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4: Als het even tegenz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2349360"/>
            <a:ext cx="806436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Belang: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het voordeel dat je ergens </a:t>
            </a: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bij hebt</a:t>
            </a: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- je baas wil lage lonen geven (en dus meer winst overhouden. Jij wil veel verdienen: tegengestelde belang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Belangengroep: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komt op voor de belangen van een bepaalde groep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Vakbonden: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komen op voor werknemers. Zorgen voor CAO’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Collectieve arbeidsovereenkomst: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fspraken over lonen, vakantiedagen, pensioen, et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rcRect l="8419" t="0" r="6539" b="0"/>
          <a:stretch/>
        </p:blipFill>
        <p:spPr>
          <a:xfrm>
            <a:off x="5292720" y="404640"/>
            <a:ext cx="3598920" cy="2506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54A9-7C74-4958-B017-7DE499ED54B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5: De overheid helpt een hand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635280" y="3933720"/>
            <a:ext cx="1800360" cy="1800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556000" y="2276640"/>
            <a:ext cx="3600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ociale verzeker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00720" y="2781360"/>
            <a:ext cx="4392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erknemers verzeker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2781360"/>
            <a:ext cx="3600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olksverzeker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95280" y="3429000"/>
            <a:ext cx="360036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erzekeringen die voor iedereen gel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etaald uit belast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OW: ouderen pensio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KW:Kinderbijsl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003640" y="3413160"/>
            <a:ext cx="3959280" cy="34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erzekeringen die gelden voor werkne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etaald uit premies door werknemer én werkge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W: als je werkloos word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s je ziek wordt. 2 jaar lang 70% van je loon krij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IA: als je arbeidsongeschikt word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1773360"/>
            <a:ext cx="8497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zorgingsstaat:overheid helpt de burgers als nodig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98F2-CCBF-43A6-A8EF-BB8103794BD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1765440" y="33300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5: De overheid helpt een hand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1989000"/>
            <a:ext cx="80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Bijstan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: als je geen verzekering krijgt, maar ook geen werk hebt of niet kan werken: bijstan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244680"/>
            <a:ext cx="8064360" cy="36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Verzorginsstaat = te duur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Te veel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mensen hebben uitkering gekre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r komen steeds meer ouderen =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vergrijz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r komen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bezuinigingen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: minder snel uitkering,minder snel arbeidsongeschikt, strengere regels bij ziekte, et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timuleren van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 werken: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bedrijven minder belasting, meer vrouwen in deeltij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443640" y="2492280"/>
            <a:ext cx="1789200" cy="178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55D0-CCE0-4F2B-B485-91F900D4EBC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6: De kwaliteit van we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-324000" y="1916280"/>
            <a:ext cx="8064720" cy="18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rbeidsinhoud:</a:t>
            </a:r>
            <a:br>
              <a:rPr sz="24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at voor werk doe je precies?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euk, afwisselend, uitdagend?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erschillende tak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External Image"/>
          <p:cNvPicPr/>
          <p:nvPr/>
        </p:nvPicPr>
        <p:blipFill>
          <a:blip r:embed="rId2"/>
          <a:stretch/>
        </p:blipFill>
        <p:spPr>
          <a:xfrm>
            <a:off x="250920" y="4653000"/>
            <a:ext cx="1441440" cy="20606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240000" y="5587920"/>
            <a:ext cx="80647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rbeidsvoorwaarden</a:t>
            </a:r>
            <a:br>
              <a:rPr sz="24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e dingen in je arbeidscontract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oeveel loon, nwerktijden, vrijed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76360" y="4363920"/>
            <a:ext cx="80647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rbeidsverhoudingen</a:t>
            </a:r>
            <a:br>
              <a:rPr sz="24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oe gaan de mensen met elkaar om op ‘t werk?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euke collega’s, aardige baas?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s je werkhouding goed? Netjes gekleed, kauwg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08000" y="3139920"/>
            <a:ext cx="80647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rbeidsomstandigheden</a:t>
            </a:r>
            <a:br>
              <a:rPr sz="24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nder welke omstandigheden werk ik?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innen, buiten, zwaar tillen, geestlijk zwaar, gevaarlijk?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rbowet: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staat in waar de werkgevers zich aan moeten hou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08720" y="1413000"/>
            <a:ext cx="3311280" cy="17474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lexibel contra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een vaste aanstelling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proepcontract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1,2 jaar con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228E-4FE5-4200-8F67-D435E6CB152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643880" cy="19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ucces met ler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eb je hoger dan een 8.5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n iets lekkers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4000" y="2349360"/>
            <a:ext cx="806436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340000" y="3500280"/>
            <a:ext cx="4267080" cy="31244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0" y="476280"/>
            <a:ext cx="256212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E70C-147B-43F1-BDED-6DFEB0703F0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1: Wat is we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9280" y="2276640"/>
            <a:ext cx="806472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rbeid: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alle activiteiten die je doet, betaald of onbetaa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erk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ts doen waar je geld (loon) voor krij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020000" y="404640"/>
            <a:ext cx="1865160" cy="18655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50920" y="2637000"/>
            <a:ext cx="80643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ekke band plakke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 Helpen met ko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couting leiding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 Voetbal tr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randwee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 Kapsal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rèch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Metsela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1BD9-4694-4D94-960D-413A618CAA5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1: Wat is we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0920" y="2637000"/>
            <a:ext cx="8064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aarom werken mens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m geld te verdie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oor sociale contac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e krijgt waardering,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ieuwe dingen leren, jezelf ontwikk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940360" y="1125360"/>
            <a:ext cx="2695680" cy="220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B500-2481-4251-8DCB-78DFF437762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1: Wat is we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020000" y="404640"/>
            <a:ext cx="1865160" cy="18655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50920" y="2637000"/>
            <a:ext cx="806436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rbeidsvoorwaard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spraken die staan in een contract, arbeidsovereenkomst, zo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eveel bruto loon je ontvang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ke functie je hebt: wat ga je precies do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ke werktijden heb je: flexibel of vast, hoel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tal vrije dagen in een ja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5543-6CD6-4128-876E-C777CB23D1B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1: Wat is we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2637000"/>
            <a:ext cx="8064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uto loon: je loon met nog alles erbi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to loon: je loon als belasting en premies eraf z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567072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aal je geen belasting, heb je geen arbeidscontract, dan werk j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w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 heb j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en rechte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4005360"/>
            <a:ext cx="8497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beeld: Kees verdient 2000 Bruto.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aar moet dan nog € 250,- aan belasting en premies vanaf.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ij krijgt dan 1750 euro op zijn rekening gestort.= nettelo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867280" y="620640"/>
            <a:ext cx="2695680" cy="220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2971-9033-4B10-A738-DBCA81CB193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764388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2: Werk en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56000" y="1773360"/>
            <a:ext cx="6588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aatschappelijke positie: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de plaats die je in de samenleving inneemt.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ociale ongelijkheid: macht en rijkdom = niet eerlijk verde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tus heeft te maken m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rcRect l="22670" t="0" r="22904" b="0"/>
          <a:stretch/>
        </p:blipFill>
        <p:spPr>
          <a:xfrm>
            <a:off x="250920" y="2095560"/>
            <a:ext cx="2592360" cy="47624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806560" y="515772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oeveel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anleg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je hebt: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806560" y="465300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Kenni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die je nodig hebt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806560" y="414972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oeveel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ach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je hebt: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06560" y="609300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oeveel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e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je verdient:……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06560" y="566100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ekendhei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die je hebt: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39E3-0611-4D67-AF62-80D0F30DC37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3: Met werk kom je ve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2349360"/>
            <a:ext cx="849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ijgen op de maatschappelijke ladder: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ociale mobilit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39640" y="3068640"/>
            <a:ext cx="3816360" cy="31305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572000" y="3068640"/>
            <a:ext cx="41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aarom stijg je nu makkelijker dan vroeg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356000" y="4076640"/>
            <a:ext cx="41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anger op school (niet werken als ki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356000" y="494172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eer vervolgopleid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356000" y="5516640"/>
            <a:ext cx="41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iefinanciering: overheid stimuleert l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6303-90AB-4369-9F21-988E319507A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4: Als het even tegenz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2349360"/>
            <a:ext cx="806436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Schulden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teeds meer jongeren maken schulde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Jongeren en schuld 3.5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Voorkom Schulden! 2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Schulden, een discussie 25 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6877080" y="3357720"/>
            <a:ext cx="4886280" cy="2771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A7D3-8138-4AB0-9AF1-AC592EF90FB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77560" y="1197000"/>
            <a:ext cx="764388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4: Als het even tegenzit: ontsl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946160"/>
            <a:ext cx="80643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ntslag mag alleen met een goede red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p staande voe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pzegtermij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WORK"/>
          <p:cNvPicPr/>
          <p:nvPr/>
        </p:nvPicPr>
        <p:blipFill>
          <a:blip r:embed="rId2"/>
          <a:stretch/>
        </p:blipFill>
        <p:spPr>
          <a:xfrm>
            <a:off x="6156360" y="3284640"/>
            <a:ext cx="2987640" cy="22399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47640" y="2881440"/>
            <a:ext cx="73454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s je gestolen heb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s je dronken bent op je we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s je werk weigert te do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s je iemand mishandelt/intimidee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7640" y="5262480"/>
            <a:ext cx="5329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-als je zelf ontslag nee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s je niet goed functione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s het bedrijf failliet gaat/reorganise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968720" y="2665440"/>
            <a:ext cx="122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EEN recht op werkloos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eids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itk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968720" y="4989600"/>
            <a:ext cx="122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EL recht op werkloos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eids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itk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788000" y="3213000"/>
            <a:ext cx="215640" cy="1656000"/>
          </a:xfrm>
          <a:custGeom>
            <a:avLst/>
            <a:gdLst>
              <a:gd name="textAreaLeft" fmla="*/ 137880 w 215640"/>
              <a:gd name="textAreaRight" fmla="*/ 216000 w 215640"/>
              <a:gd name="textAreaTop" fmla="*/ 42840 h 1656000"/>
              <a:gd name="textAreaBottom" fmla="*/ 1613160 h 165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859280" y="5202360"/>
            <a:ext cx="216000" cy="1655640"/>
          </a:xfrm>
          <a:custGeom>
            <a:avLst/>
            <a:gdLst>
              <a:gd name="textAreaLeft" fmla="*/ 137880 w 216000"/>
              <a:gd name="textAreaRight" fmla="*/ 216360 w 216000"/>
              <a:gd name="textAreaTop" fmla="*/ 42840 h 1655640"/>
              <a:gd name="textAreaBottom" fmla="*/ 1612800 h 165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8484-FCB7-4827-A4F7-945D0531D43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1:57:57Z</dcterms:created>
  <dc:creator>Stanislas College</dc:creator>
  <dc:description/>
  <dc:language>en-US</dc:language>
  <cp:lastModifiedBy>cls</cp:lastModifiedBy>
  <dcterms:modified xsi:type="dcterms:W3CDTF">2009-03-16T12:30:31Z</dcterms:modified>
  <cp:revision>96</cp:revision>
  <dc:subject/>
  <dc:title>Dia 1</dc:title>
</cp:coreProperties>
</file>