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3.gif" ContentType="image/gif"/>
  <Override PartName="/ppt/media/image4.png" ContentType="image/png"/>
  <Override PartName="/ppt/media/image5.jpeg" ContentType="image/jpeg"/>
  <Override PartName="/ppt/media/image2.gif" ContentType="image/gif"/>
  <Override PartName="/ppt/media/image8.jpeg" ContentType="image/jpeg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BE9F-8BAC-4171-82C6-46DF1E722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E8B0-9720-454C-8F7B-324EA52C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844B-ACCA-49C8-B9FB-11B337743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52E8-BADF-4D7A-A714-AF1C55974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171B-17AD-4694-82D7-E7D4566C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D92F-8305-43C2-AE57-29193771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57D3-6D1B-449D-9424-7FCBEAC1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C6CA-224F-45EE-80B2-082B2003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65EF-CF53-4608-99C4-84A95734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9877-55D6-4D61-B8C6-420E1184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CB0B-4765-4B8F-9E86-1D6C28C9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B3D4-793C-438C-9657-252D5A28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7594-07F1-4596-A467-B72B36BCBD1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2A5D-2A57-46CF-BC73-949469EB2EE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44" name="Picture 8" descr="zinloosgeweld"/>
          <p:cNvPicPr/>
          <p:nvPr/>
        </p:nvPicPr>
        <p:blipFill>
          <a:blip r:embed="rId1"/>
          <a:stretch/>
        </p:blipFill>
        <p:spPr>
          <a:xfrm rot="1223400">
            <a:off x="5651280" y="1484280"/>
            <a:ext cx="3024000" cy="2884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zinloos_geweld"/>
          <p:cNvPicPr/>
          <p:nvPr/>
        </p:nvPicPr>
        <p:blipFill>
          <a:blip r:embed="rId2"/>
          <a:stretch/>
        </p:blipFill>
        <p:spPr>
          <a:xfrm rot="20426400">
            <a:off x="468000" y="436536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3"/>
          <a:stretch/>
        </p:blipFill>
        <p:spPr>
          <a:xfrm>
            <a:off x="395280" y="1125360"/>
            <a:ext cx="5184720" cy="3456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P1050923.JPG"/>
          <p:cNvPicPr/>
          <p:nvPr/>
        </p:nvPicPr>
        <p:blipFill>
          <a:blip r:embed="rId4"/>
          <a:stretch/>
        </p:blipFill>
        <p:spPr>
          <a:xfrm>
            <a:off x="3059280" y="3860640"/>
            <a:ext cx="432108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2CC1-C1C0-4EEC-B725-0B164701867D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3: Normen en waa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1280" y="2133720"/>
          <a:ext cx="7859520" cy="4319640"/>
        </p:xfrm>
        <a:graphic>
          <a:graphicData uri="http://schemas.openxmlformats.org/drawingml/2006/table">
            <a:tbl>
              <a:tblPr/>
              <a:tblGrid>
                <a:gridCol w="2619360"/>
                <a:gridCol w="2620800"/>
                <a:gridCol w="2619360"/>
              </a:tblGrid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BIED: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M: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ARDE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rk: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ool: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zin: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ortclub: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nkel: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keer: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9357-652F-4601-9858-879921F68AD3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4: Oorzaken (van zinloos gewel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24000" y="2349360"/>
            <a:ext cx="806436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Verschillen 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vroeger 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        en 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nu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vroeger"/>
          <p:cNvPicPr/>
          <p:nvPr/>
        </p:nvPicPr>
        <p:blipFill>
          <a:blip r:embed="rId1"/>
          <a:stretch/>
        </p:blipFill>
        <p:spPr>
          <a:xfrm>
            <a:off x="179280" y="3716280"/>
            <a:ext cx="3810240" cy="2752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IMG_9169"/>
          <p:cNvPicPr/>
          <p:nvPr/>
        </p:nvPicPr>
        <p:blipFill>
          <a:blip r:embed="rId2"/>
          <a:stretch/>
        </p:blipFill>
        <p:spPr>
          <a:xfrm>
            <a:off x="4427640" y="3716280"/>
            <a:ext cx="403200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jdelijke aanduiding voor dianumm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B021-C67B-4F71-89B0-6081249FDC40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7786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4: Oorzaken (van zinloos gewel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539640" y="27082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11280" y="1916280"/>
          <a:ext cx="8137440" cy="4813200"/>
        </p:xfrm>
        <a:graphic>
          <a:graphicData uri="http://schemas.openxmlformats.org/drawingml/2006/table">
            <a:tbl>
              <a:tblPr/>
              <a:tblGrid>
                <a:gridCol w="2736720"/>
                <a:gridCol w="2592360"/>
                <a:gridCol w="2808360"/>
              </a:tblGrid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oeger 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volg: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ng werken 50 uur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rt werken 38 uur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ker uit gaan 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rukker 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er ruzie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er vrije tijd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er vrije tijd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rkt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       werken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er geld om uit te gaan 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rukker 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zie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7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inig €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er €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ikter, minder vrij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sser en vrijer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er respect voor elkaar 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vaker wapens mee 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ruzie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el normen en waarden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minderde normen en waarden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er drank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er en jonger drank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er agressie 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meer ruzie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  <p:sp>
        <p:nvSpPr>
          <p:cNvPr id="112" name="Oval 183"/>
          <p:cNvSpPr/>
          <p:nvPr/>
        </p:nvSpPr>
        <p:spPr>
          <a:xfrm>
            <a:off x="3492360" y="3357720"/>
            <a:ext cx="216000" cy="215640"/>
          </a:xfrm>
          <a:prstGeom prst="ellipse">
            <a:avLst/>
          </a:prstGeom>
          <a:solidFill>
            <a:srgbClr val="808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88" descr="symbool_man"/>
          <p:cNvPicPr/>
          <p:nvPr/>
        </p:nvPicPr>
        <p:blipFill>
          <a:blip r:embed="rId1"/>
          <a:stretch/>
        </p:blipFill>
        <p:spPr>
          <a:xfrm>
            <a:off x="684360" y="3387600"/>
            <a:ext cx="358560" cy="352440"/>
          </a:xfrm>
          <a:prstGeom prst="rect">
            <a:avLst/>
          </a:prstGeom>
          <a:ln w="0">
            <a:noFill/>
          </a:ln>
        </p:spPr>
      </p:pic>
      <p:sp>
        <p:nvSpPr>
          <p:cNvPr id="114" name="Line 189"/>
          <p:cNvSpPr/>
          <p:nvPr/>
        </p:nvSpPr>
        <p:spPr>
          <a:xfrm>
            <a:off x="3564000" y="3573360"/>
            <a:ext cx="0" cy="142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90"/>
          <p:cNvSpPr/>
          <p:nvPr/>
        </p:nvSpPr>
        <p:spPr>
          <a:xfrm flipV="1">
            <a:off x="3492360" y="3645000"/>
            <a:ext cx="14292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91" descr="symbool_man"/>
          <p:cNvPicPr/>
          <p:nvPr/>
        </p:nvPicPr>
        <p:blipFill>
          <a:blip r:embed="rId2"/>
          <a:stretch/>
        </p:blipFill>
        <p:spPr>
          <a:xfrm>
            <a:off x="3995640" y="3357720"/>
            <a:ext cx="35892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8296-B3EA-457D-8AE9-248D96303A21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5: Oplossingen (voor zinloos gewel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324000" y="2349360"/>
            <a:ext cx="8064360" cy="30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Wie doet er wat?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Overheid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ik 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wij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reces"/>
          <p:cNvPicPr/>
          <p:nvPr/>
        </p:nvPicPr>
        <p:blipFill>
          <a:blip r:embed="rId1"/>
          <a:stretch/>
        </p:blipFill>
        <p:spPr>
          <a:xfrm>
            <a:off x="395280" y="3716280"/>
            <a:ext cx="2808360" cy="2287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colorbands,50"/>
          <p:cNvPicPr/>
          <p:nvPr/>
        </p:nvPicPr>
        <p:blipFill>
          <a:blip r:embed="rId2"/>
          <a:stretch/>
        </p:blipFill>
        <p:spPr>
          <a:xfrm>
            <a:off x="2843280" y="5445000"/>
            <a:ext cx="3606840" cy="1227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"/>
          <p:cNvPicPr/>
          <p:nvPr/>
        </p:nvPicPr>
        <p:blipFill>
          <a:blip r:embed="rId3"/>
          <a:srcRect l="57588" t="46272" r="4769" b="11414"/>
          <a:stretch/>
        </p:blipFill>
        <p:spPr>
          <a:xfrm>
            <a:off x="6300720" y="3716280"/>
            <a:ext cx="244800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5ADF-A5AA-4E87-B169-8EB286C619A2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5: Oplossingen: over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324000" y="2349360"/>
            <a:ext cx="806436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Wetten verbieden geweld e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Geen alcohol onder de 16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oppakken van mensen als ze vech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Lik op stuk bel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Camera’s ophan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Mensen fouiller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Spotjes van postbus 51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reces"/>
          <p:cNvPicPr/>
          <p:nvPr/>
        </p:nvPicPr>
        <p:blipFill>
          <a:blip r:embed="rId1"/>
          <a:stretch/>
        </p:blipFill>
        <p:spPr>
          <a:xfrm>
            <a:off x="6227640" y="1197000"/>
            <a:ext cx="1656000" cy="1349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GeenAlcoholOnder16"/>
          <p:cNvPicPr/>
          <p:nvPr/>
        </p:nvPicPr>
        <p:blipFill>
          <a:blip r:embed="rId2"/>
          <a:stretch/>
        </p:blipFill>
        <p:spPr>
          <a:xfrm rot="20184000">
            <a:off x="4622760" y="4314960"/>
            <a:ext cx="3565440" cy="9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EF7B-B7D8-4C9D-8B27-748569495512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5: Oplossingen: over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324000" y="2349360"/>
            <a:ext cx="8064360" cy="68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Spotjes van postbus 51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huislijk zinloos gewel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Alchol en jonger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typisch postbus 51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reces"/>
          <p:cNvPicPr/>
          <p:nvPr/>
        </p:nvPicPr>
        <p:blipFill>
          <a:blip r:embed="rId1"/>
          <a:stretch/>
        </p:blipFill>
        <p:spPr>
          <a:xfrm>
            <a:off x="6227640" y="1197000"/>
            <a:ext cx="165600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C62B-0ECF-42DC-B0B8-879478FE933F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5: Oplossingen: “wij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24000" y="2349360"/>
            <a:ext cx="8064360" cy="51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Kijken naar je eigen normen en waarde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Aandacht spenderen aan zinloos geweld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Eigenaren disco’s beter opletten dat jongeren niet straalbezopen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Drugsgebruik tegenhouden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colorbands,50"/>
          <p:cNvPicPr/>
          <p:nvPr/>
        </p:nvPicPr>
        <p:blipFill>
          <a:blip r:embed="rId1"/>
          <a:stretch/>
        </p:blipFill>
        <p:spPr>
          <a:xfrm>
            <a:off x="5148360" y="1413000"/>
            <a:ext cx="3606840" cy="122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9885-8D7E-40DA-AF9B-5DDC65211052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5: Oplossingen: “ik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324000" y="2349360"/>
            <a:ext cx="8064360" cy="47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Afspraken maken met vrienden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samen uit, samen thuis”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Rustig blijven als je wordt gepest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 …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 …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rcRect l="57588" t="46272" r="4769" b="11414"/>
          <a:stretch/>
        </p:blipFill>
        <p:spPr>
          <a:xfrm>
            <a:off x="5940360" y="1197000"/>
            <a:ext cx="194328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85E3-A8E4-4E70-80DA-A716149917D0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ucces met ler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et gemiddelde hoger dan een 8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edereen een (mini)appelfla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24000" y="2349360"/>
            <a:ext cx="806436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1179664517geweld"/>
          <p:cNvPicPr/>
          <p:nvPr/>
        </p:nvPicPr>
        <p:blipFill>
          <a:blip r:embed="rId1"/>
          <a:stretch/>
        </p:blipFill>
        <p:spPr>
          <a:xfrm>
            <a:off x="2843280" y="3429000"/>
            <a:ext cx="3240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89C1-BC40-4F24-9968-B1F65EC34329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1 Wat leer je bij maatschappijle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at is een goede me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: je moet feiten w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2: verschillende kanten beli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3: goede argumenten hebben (waarom vind je iets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argument"/>
          <p:cNvPicPr/>
          <p:nvPr/>
        </p:nvPicPr>
        <p:blipFill>
          <a:blip r:embed="rId1"/>
          <a:stretch/>
        </p:blipFill>
        <p:spPr>
          <a:xfrm>
            <a:off x="5867280" y="2133720"/>
            <a:ext cx="280836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6614-234B-4290-86A6-722AB5ED5A89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1 Wat leer je bij maatschappijle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s je een mening geeft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zonder dat je weet wat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r precies gebeurd is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preek je v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argument"/>
          <p:cNvPicPr/>
          <p:nvPr/>
        </p:nvPicPr>
        <p:blipFill>
          <a:blip r:embed="rId1"/>
          <a:stretch/>
        </p:blipFill>
        <p:spPr>
          <a:xfrm>
            <a:off x="5867280" y="2133720"/>
            <a:ext cx="2808360" cy="21081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1403280" y="530064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VOOROORDELEN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5BB1-37C2-4900-BF6E-B4F32194A53F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1 Wat leer je bij maatschappijle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at is een maatschappelijk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oble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eel mensen hebben er mee te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r zijn verschillende m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 overheid bemoeit zich erm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argument"/>
          <p:cNvPicPr/>
          <p:nvPr/>
        </p:nvPicPr>
        <p:blipFill>
          <a:blip r:embed="rId1"/>
          <a:stretch/>
        </p:blipFill>
        <p:spPr>
          <a:xfrm>
            <a:off x="6084720" y="2133720"/>
            <a:ext cx="280836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1CAD-D7F9-4BB6-9B6A-5988A15960A5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2: Bela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Belangen, emoties en meningen"/>
          <p:cNvPicPr/>
          <p:nvPr/>
        </p:nvPicPr>
        <p:blipFill>
          <a:blip r:embed="rId1"/>
          <a:stretch/>
        </p:blipFill>
        <p:spPr>
          <a:xfrm>
            <a:off x="6877080" y="1197000"/>
            <a:ext cx="1800360" cy="128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468360" y="2349360"/>
          <a:ext cx="8218440" cy="4364280"/>
        </p:xfrm>
        <a:graphic>
          <a:graphicData uri="http://schemas.openxmlformats.org/drawingml/2006/table">
            <a:tbl>
              <a:tblPr/>
              <a:tblGrid>
                <a:gridCol w="4110120"/>
                <a:gridCol w="410832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ITGAAN: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LANG: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itgaande jongeren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ezier maken, veiligheid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reca ondernemers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ge omzet, goede naam, geen vechtpartijen, etc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litie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de, rust, veiligheid, weinig dronke mensen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rgemeester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d goede naam houden, niet negatief in het nieuws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urtbewoners: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en overlast, strenge politie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B672-986E-4AF7-933D-3445649D8807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2: Bela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an uitgaan naar zinloosgew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aders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e veel alcohol, te veel drug, thrillseekers, vechtersbaas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lachtoffers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erkeerde plek, verkeerde tij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Belangen, emoties en meningen"/>
          <p:cNvPicPr/>
          <p:nvPr/>
        </p:nvPicPr>
        <p:blipFill>
          <a:blip r:embed="rId1"/>
          <a:stretch/>
        </p:blipFill>
        <p:spPr>
          <a:xfrm>
            <a:off x="6948360" y="1484280"/>
            <a:ext cx="180036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EA60-5667-49D8-A7E5-658636E1240C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2: Bela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t voordeel dat je ergens bij heb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meenschappelijke belan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Zowel jij als de politie wil veiligheid bij het uitga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egengestelde belange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reca wil veel drank verkopen, de politie wil geen dronken mensen op str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Belangen, emoties en meningen"/>
          <p:cNvPicPr/>
          <p:nvPr/>
        </p:nvPicPr>
        <p:blipFill>
          <a:blip r:embed="rId1"/>
          <a:stretch/>
        </p:blipFill>
        <p:spPr>
          <a:xfrm>
            <a:off x="6948360" y="1484280"/>
            <a:ext cx="180036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CB1F-894E-458A-A3C3-0DECBBCCF9A3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627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3: Normen en waa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539640" y="2708280"/>
            <a:ext cx="78487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Normen: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gedragsregels; regels hoe iemand zich moet gedra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Waarden: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principes die iemand belangrijk vindt in het leven (vaak 1 woord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BA42-90BE-4914-B233-84881BEEFCC3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3: Normen en waa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egengestelde normen en waarden bij zinloos  gew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0" y="335772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Gezelligheid                      Gewel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0" y="465300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Geen ruzie maken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      Vechten is leuk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1476360" y="501336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ffff00"/>
                </a:solidFill>
                <a:latin typeface="Arial"/>
              </a:rPr>
              <a:t>Norm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1403280" y="270828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ffff00"/>
                </a:solidFill>
                <a:latin typeface="Arial"/>
              </a:rPr>
              <a:t>Waard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6264360" y="5084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ffff00"/>
                </a:solidFill>
                <a:latin typeface="Arial"/>
              </a:rPr>
              <a:t>Norm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6084720" y="270828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ffff00"/>
                </a:solidFill>
                <a:latin typeface="Arial"/>
              </a:rPr>
              <a:t>Waard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4462560" y="4724280"/>
            <a:ext cx="46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Rustig met drank       Dronken worden moe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4"/>
          <p:cNvSpPr/>
          <p:nvPr/>
        </p:nvSpPr>
        <p:spPr>
          <a:xfrm>
            <a:off x="4857840" y="335772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Veiligheid                  Uit je dak gaa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5"/>
          <p:cNvSpPr/>
          <p:nvPr/>
        </p:nvSpPr>
        <p:spPr>
          <a:xfrm>
            <a:off x="1692360" y="3573360"/>
            <a:ext cx="11509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6"/>
          <p:cNvSpPr/>
          <p:nvPr/>
        </p:nvSpPr>
        <p:spPr>
          <a:xfrm>
            <a:off x="6156360" y="3573360"/>
            <a:ext cx="10796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7"/>
          <p:cNvSpPr/>
          <p:nvPr/>
        </p:nvSpPr>
        <p:spPr>
          <a:xfrm>
            <a:off x="2050920" y="48690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8"/>
          <p:cNvSpPr/>
          <p:nvPr/>
        </p:nvSpPr>
        <p:spPr>
          <a:xfrm>
            <a:off x="6372360" y="494172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9"/>
          <p:cNvSpPr/>
          <p:nvPr/>
        </p:nvSpPr>
        <p:spPr>
          <a:xfrm>
            <a:off x="395280" y="378936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0"/>
          <p:cNvSpPr/>
          <p:nvPr/>
        </p:nvSpPr>
        <p:spPr>
          <a:xfrm>
            <a:off x="8172360" y="378936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1"/>
          <p:cNvSpPr/>
          <p:nvPr/>
        </p:nvSpPr>
        <p:spPr>
          <a:xfrm>
            <a:off x="5435640" y="378936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2"/>
          <p:cNvSpPr/>
          <p:nvPr/>
        </p:nvSpPr>
        <p:spPr>
          <a:xfrm>
            <a:off x="3419640" y="378936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Floris Hirschfeld</cp:lastModifiedBy>
  <dcterms:modified xsi:type="dcterms:W3CDTF">2011-08-24T07:32:26Z</dcterms:modified>
  <cp:revision>80</cp:revision>
  <dc:subject/>
  <dc:title>Dia 1</dc:title>
</cp:coreProperties>
</file>