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7.png" ContentType="image/png"/>
  <Override PartName="/ppt/media/image4.gif" ContentType="image/gif"/>
  <Override PartName="/ppt/media/image24.gif" ContentType="image/gif"/>
  <Override PartName="/ppt/media/image17.png" ContentType="image/png"/>
  <Override PartName="/ppt/media/image26.png" ContentType="image/png"/>
  <Override PartName="/ppt/media/image3.gif" ContentType="image/gif"/>
  <Override PartName="/ppt/media/image9.png" ContentType="image/png"/>
  <Override PartName="/ppt/media/image13.png" ContentType="image/png"/>
  <Override PartName="/ppt/media/image8.png" ContentType="image/png"/>
  <Override PartName="/ppt/media/image33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gif" ContentType="image/gif"/>
  <Override PartName="/ppt/media/image29.png" ContentType="image/png"/>
  <Override PartName="/ppt/media/image11.png" ContentType="image/png"/>
  <Override PartName="/ppt/media/image5.gif" ContentType="image/gif"/>
  <Override PartName="/ppt/media/image28.png" ContentType="image/png"/>
  <Override PartName="/ppt/media/image35.gif" ContentType="image/gif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6.png" ContentType="image/pn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76BA-9308-42E4-A6AE-CA09F0C0E2E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F825-AFDE-4587-A914-7627FF6515E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C14-9EF2-4511-BE22-4331F850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EBD-864A-414B-A0F3-83FAF0D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F47-6E55-42F7-A0B6-0B059141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509-0E6D-425A-A70F-9053C251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729-8A27-45CC-9BE5-2C05A8CB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B6D-9246-4106-A420-64168663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607-BC4D-4FBD-80EC-9048E531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A0E-8313-4DF8-9FCC-48A3E0AD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F5D-4641-4528-9BC0-393DBA20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528-4247-454F-A4BE-66C5C4B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625-4220-40ED-BDCF-731935ED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5AB-C707-4EDA-ACCA-200A6F9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6E08-320C-43BE-84F0-4932EF69DF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20D8-C673-4C24-BD98-F596BC52816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636560" y="836640"/>
            <a:ext cx="341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Criminalitei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43280" y="2637000"/>
            <a:ext cx="2484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32 tot 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t 1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GIF_boef"/>
          <p:cNvPicPr/>
          <p:nvPr/>
        </p:nvPicPr>
        <p:blipFill>
          <a:blip r:embed="rId1"/>
          <a:stretch/>
        </p:blipFill>
        <p:spPr>
          <a:xfrm>
            <a:off x="1825560" y="2359080"/>
            <a:ext cx="26370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0B1-6FFA-441F-AD6B-66F8718270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7344-C519-4376-9151-3F32340396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3049-B607-4C14-95BC-A0FB5B5BF45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politie"/>
          <p:cNvPicPr/>
          <p:nvPr/>
        </p:nvPicPr>
        <p:blipFill>
          <a:blip r:embed="rId1"/>
          <a:stretch/>
        </p:blipFill>
        <p:spPr>
          <a:xfrm>
            <a:off x="6804000" y="549360"/>
            <a:ext cx="149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724F-11D7-4765-88D2-2F6683AD7C8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5410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9"/>
          <p:cNvGraphicFramePr/>
          <p:nvPr/>
        </p:nvGraphicFramePr>
        <p:xfrm>
          <a:off x="6516720" y="1125360"/>
          <a:ext cx="2228760" cy="12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125360"/>
                    <a:ext cx="22287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984F-BCF6-4B26-9EA2-617B8AEF1E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t gebeurt er met verd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2"/>
          <p:cNvGraphicFramePr/>
          <p:nvPr/>
        </p:nvGraphicFramePr>
        <p:xfrm>
          <a:off x="684360" y="2349360"/>
          <a:ext cx="8001000" cy="35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800100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14FE-FEC7-4685-979D-E0B34E5C714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337B-D897-4AF1-834D-A99F4D32E2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6"/>
          <p:cNvSpPr/>
          <p:nvPr/>
        </p:nvSpPr>
        <p:spPr>
          <a:xfrm>
            <a:off x="7020000" y="306864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cassatie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vak 7"/>
          <p:cNvSpPr/>
          <p:nvPr/>
        </p:nvSpPr>
        <p:spPr>
          <a:xfrm>
            <a:off x="7020000" y="436572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hoger beroep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vak 8"/>
          <p:cNvSpPr/>
          <p:nvPr/>
        </p:nvSpPr>
        <p:spPr>
          <a:xfrm>
            <a:off x="539640" y="227664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 hoge ra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kstvak 9"/>
          <p:cNvSpPr/>
          <p:nvPr/>
        </p:nvSpPr>
        <p:spPr>
          <a:xfrm>
            <a:off x="179280" y="350028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 gerechts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o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kstvak 10"/>
          <p:cNvSpPr/>
          <p:nvPr/>
        </p:nvSpPr>
        <p:spPr>
          <a:xfrm>
            <a:off x="395280" y="50846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9 recht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0916-1D77-403F-8111-9A14375F04A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82F9-0A85-4AC5-94F6-33043AF1D2E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Enter Taylors Solicitors web pages"/>
          <p:cNvPicPr/>
          <p:nvPr/>
        </p:nvPicPr>
        <p:blipFill>
          <a:blip r:embed="rId1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jail"/>
          <p:cNvPicPr/>
          <p:nvPr/>
        </p:nvPicPr>
        <p:blipFill>
          <a:blip r:embed="rId2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9EB8-B992-45C6-9799-7F42CD29EB4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3180-CA99-44B9-8CA1-4DDB43B61BA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79280" y="1844640"/>
            <a:ext cx="8064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Zwaardere straf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minder zware straf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Criminee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overtreder/ of nie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stopPolitie"/>
          <p:cNvPicPr/>
          <p:nvPr/>
        </p:nvPicPr>
        <p:blipFill>
          <a:blip r:embed="rId1"/>
          <a:stretch/>
        </p:blipFill>
        <p:spPr>
          <a:xfrm>
            <a:off x="7308720" y="549360"/>
            <a:ext cx="15843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416A-2FC9-4DA3-89B8-F98FA23A44B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British_police"/>
          <p:cNvPicPr/>
          <p:nvPr/>
        </p:nvPicPr>
        <p:blipFill>
          <a:blip r:embed="rId1"/>
          <a:stretch/>
        </p:blipFill>
        <p:spPr>
          <a:xfrm>
            <a:off x="6804000" y="5493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95280" y="299736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fschr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40AA-45F3-4137-A471-3FBC2B56B4C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250920" y="1341360"/>
            <a:ext cx="7643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E1F3-EE13-48E9-8E4C-CB01010A3BF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0" y="1989000"/>
            <a:ext cx="8064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ieter was agressief mede door de hoeveelheden drank die hij genomen had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rugs en drank zijn vaak de oorzaak van misdrijv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3645000"/>
            <a:ext cx="8064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piumwet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alle regels over drug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5" descr="drugs"/>
          <p:cNvPicPr/>
          <p:nvPr/>
        </p:nvPicPr>
        <p:blipFill>
          <a:blip r:embed="rId1"/>
          <a:stretch/>
        </p:blipFill>
        <p:spPr>
          <a:xfrm>
            <a:off x="6877080" y="429264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No_Drugs_gif"/>
          <p:cNvPicPr/>
          <p:nvPr/>
        </p:nvPicPr>
        <p:blipFill>
          <a:blip r:embed="rId2"/>
          <a:stretch/>
        </p:blipFill>
        <p:spPr>
          <a:xfrm>
            <a:off x="6886440" y="3645000"/>
            <a:ext cx="2257560" cy="16761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6"/>
          <p:cNvSpPr/>
          <p:nvPr/>
        </p:nvSpPr>
        <p:spPr>
          <a:xfrm>
            <a:off x="1494360" y="4076640"/>
            <a:ext cx="39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oft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asj, wiet </a:t>
            </a: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OOGD NIET LEGAAL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1425600" y="4941720"/>
            <a:ext cx="47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ard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eroïne, cocaïne, x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LLEG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35640" y="5877000"/>
            <a:ext cx="685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doogbeleid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handel en gebruik van sof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ugs wordt met rust gela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FEE1-673C-4183-9A8A-463F05FFA25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1989000"/>
            <a:ext cx="9144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bestrijden door de grote misdaadorganisaties aan te pakken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De politie…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0" y="3429000"/>
            <a:ext cx="8064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akt grote handel in soft- en </a:t>
            </a:r>
            <a:br>
              <a:rPr sz="22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hard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Laat kleine handel in softdrugs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t rus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akt het gebruik van klein beetje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oft- of harddrugs niet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alcohol"/>
          <p:cNvPicPr/>
          <p:nvPr/>
        </p:nvPicPr>
        <p:blipFill>
          <a:blip r:embed="rId1"/>
          <a:stretch/>
        </p:blipFill>
        <p:spPr>
          <a:xfrm>
            <a:off x="5580000" y="3068640"/>
            <a:ext cx="2624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A210-7BF8-4F0D-992A-54F4CC9F84E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05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Buitenland heeft veel kritiek op het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Nederlandse gedoogbelei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3284640"/>
            <a:ext cx="39243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oordelen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dogen softdrugs, daardoor minder gebruik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gedogen verkoop in coffeeshops, minder overlast op straa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Criminaliteit"/>
          <p:cNvPicPr/>
          <p:nvPr/>
        </p:nvPicPr>
        <p:blipFill>
          <a:blip r:embed="rId1"/>
          <a:stretch/>
        </p:blipFill>
        <p:spPr>
          <a:xfrm>
            <a:off x="6443640" y="170028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4140360" y="3357720"/>
            <a:ext cx="50036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Tegenstanders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Kleine stap softdrugs </a:t>
            </a:r>
            <a:r>
              <a:rPr b="0" i="1" lang="nl-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Risico’s aan sofrdrugs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inder concentrati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estelijk verslaafd aan raken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F750-EB93-4980-941D-80267EF37EF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oordvrouwe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4149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1778-EBB7-4BA0-8367-4D458A98A96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50920" y="1739880"/>
            <a:ext cx="80643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elvoorkomendecriminaliteit: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misdrijven die relatief vaak voorkomen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winkeldiefstal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zakkenrollen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oetbal vandalism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vernieling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Zware criminaliteit: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erkracht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moord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oofoverva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rborgen criminaliteit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belastingfraud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onterechte uitker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internetcriminalitei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7542-4B13-4594-99B9-2596C9FCA9B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-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olitie"/>
          <p:cNvPicPr/>
          <p:nvPr/>
        </p:nvPicPr>
        <p:blipFill>
          <a:blip r:embed="rId1"/>
          <a:stretch/>
        </p:blipFill>
        <p:spPr>
          <a:xfrm>
            <a:off x="6012000" y="350028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CEDC-5825-417C-993E-79041240DE3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523880" y="2286000"/>
            <a:ext cx="72392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nnen vaker dan vrouw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AD5D-B145-4C72-8AEC-83815409E1F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B74B-DC43-4BCC-84C3-A953498403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08D7-E834-46C8-B355-BCBC593166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AAF7-07A2-4E31-AE53-BDD6C50676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1:43:56Z</dcterms:modified>
  <cp:revision>135</cp:revision>
  <dc:subject/>
  <dc:title>Dia 1</dc:title>
</cp:coreProperties>
</file>