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gif" ContentType="image/gif"/>
  <Override PartName="/ppt/media/image6.png" ContentType="image/png"/>
  <Override PartName="/ppt/media/image3.gif" ContentType="image/gif"/>
  <Override PartName="/ppt/media/image26.gif" ContentType="image/gif"/>
  <Override PartName="/ppt/media/image5.png" ContentType="image/png"/>
  <Override PartName="/ppt/media/image25.gif" ContentType="image/gif"/>
  <Override PartName="/ppt/media/image23.gif" ContentType="image/gif"/>
  <Override PartName="/ppt/media/image15.png" ContentType="image/png"/>
  <Override PartName="/ppt/media/image20.png" ContentType="image/png"/>
  <Override PartName="/ppt/media/image17.gif" ContentType="image/gif"/>
  <Override PartName="/ppt/media/image16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24.gif" ContentType="image/gif"/>
  <Override PartName="/ppt/media/image4.png" ContentType="image/png"/>
  <Override PartName="/ppt/media/image13.jpeg" ContentType="image/jpeg"/>
  <Override PartName="/ppt/media/image1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FE2-FA31-44F8-B692-298532F8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199-0A03-42DF-960B-E528E392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18B-6E73-46B7-A49F-A3C5D779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8EF-2F5F-40A1-BB23-23DB1E89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36F-F64E-4B49-A74D-B5D1BB3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54D-F27C-42CE-9E97-739E88A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8F0-22CB-43DE-AD5E-F82F28DC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B0D-846A-4ABF-A081-FB97B372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794-1920-42D9-9EB3-319F423C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9E7-A71C-4342-9854-B453604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617-5ABD-4997-AA24-7D123E56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C37-EC9C-408B-B7BF-BBD22CE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252B-C993-4A82-9CE3-6BCE9C854B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nl.youtube.com/watch?v=1HF35xuN0vQ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6F1-7BD8-4D35-AC17-75C8B740312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236000" y="4869000"/>
            <a:ext cx="19080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4 t/m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1117013462jongeren"/>
          <p:cNvPicPr/>
          <p:nvPr/>
        </p:nvPicPr>
        <p:blipFill>
          <a:blip r:embed="rId1"/>
          <a:stretch/>
        </p:blipFill>
        <p:spPr>
          <a:xfrm>
            <a:off x="1042920" y="1197000"/>
            <a:ext cx="6226200" cy="5025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2372040" y="333360"/>
            <a:ext cx="32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DAD3-30ED-4B1F-9E61-E8E9E728FD2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0920" y="227664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543640" y="3357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e control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-900000" y="3357720"/>
            <a:ext cx="554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ormen en </a:t>
            </a:r>
            <a:br>
              <a:rPr sz="3000"/>
            </a:b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aar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4000" y="5805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ntern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-973080" y="5157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543640" y="486900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 rot="19491000">
            <a:off x="1763640" y="242064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 rot="3993000">
            <a:off x="5615640" y="238500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 rot="3993000">
            <a:off x="6584760" y="4064040"/>
            <a:ext cx="1225440" cy="57456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 rot="8839800">
            <a:off x="5940000" y="566064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 rot="12125400">
            <a:off x="1618920" y="587628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 rot="15039000">
            <a:off x="1206360" y="4565520"/>
            <a:ext cx="1082880" cy="501840"/>
          </a:xfrm>
          <a:custGeom>
            <a:avLst/>
            <a:gdLst>
              <a:gd name="textAreaLeft" fmla="*/ 189360 w 1082880"/>
              <a:gd name="textAreaRight" fmla="*/ 785160 w 1082880"/>
              <a:gd name="textAreaTop" fmla="*/ 66960 h 501840"/>
              <a:gd name="textAreaBottom" fmla="*/ 434880 h 50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2916360" y="2852640"/>
            <a:ext cx="2952720" cy="2881440"/>
          </a:xfrm>
          <a:custGeom>
            <a:avLst/>
            <a:gdLst>
              <a:gd name="textAreaLeft" fmla="*/ 432360 w 2952720"/>
              <a:gd name="textAreaRight" fmla="*/ 2520360 w 295272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A412-A3F0-498C-97D9-75A676987B8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2349360"/>
            <a:ext cx="8064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eerste jeugdculturen ontstonden in de jaren 6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omt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welvaar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onen gingen omhoo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ans om door te 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teenager.gif"/>
          <p:cNvPicPr/>
          <p:nvPr/>
        </p:nvPicPr>
        <p:blipFill>
          <a:blip r:embed="rId1"/>
          <a:stretch/>
        </p:blipFill>
        <p:spPr>
          <a:xfrm>
            <a:off x="550872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963-72BE-4CA0-AAD9-1728717016B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bij een groep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 en geld </a:t>
            </a:r>
            <a:r>
              <a:rPr b="1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dingen kopen/do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j een groep will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s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e ideeën/normen/waarden dan je ouders =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neratie conflic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teenager"/>
          <p:cNvPicPr/>
          <p:nvPr/>
        </p:nvPicPr>
        <p:blipFill>
          <a:blip r:embed="rId1"/>
          <a:stretch/>
        </p:blipFill>
        <p:spPr>
          <a:xfrm>
            <a:off x="6372360" y="549360"/>
            <a:ext cx="2219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77BD-0F39-4976-BA9E-7D9923AD7C1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eldvorming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het beeld dat je van iemand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rmt door bijvoorbeeld gedrag en uiter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 jij j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olgens ander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et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dragen in bepaalde situa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hebben verschillende 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 je rol vallen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je even anders gedraagd, je rol ‘los laten’ en helemaal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doorbrekend 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B: dat mannen traditionele vrouwentaken verrichten en vrouwen traditionele mannen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jongeren"/>
          <p:cNvPicPr/>
          <p:nvPr/>
        </p:nvPicPr>
        <p:blipFill>
          <a:blip r:embed="rId1"/>
          <a:stretch/>
        </p:blipFill>
        <p:spPr>
          <a:xfrm>
            <a:off x="7308720" y="1916280"/>
            <a:ext cx="1428840" cy="1847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684360" y="1197000"/>
            <a:ext cx="76435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Hoe kijk je tegen anderen 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EDA-8556-4D69-A3F3-C2B47ACF734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4000" y="2349360"/>
            <a:ext cx="80643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zijn afhankelijk van anderen. 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Je hebt ‘bindingen’ met ze.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Zo hebben er mensen gezorgd voor jouw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ullen (fiets, wekker, kleding, leidingen voor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ter etc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AB78-D4EB-4B38-99EC-BE837FF6B73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4000" y="2349360"/>
            <a:ext cx="806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C016-A7BC-4E5C-A3B4-B0E5CD3678C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24000" y="234936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mensen hebben elkaar nodig voor v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riendschap, steun en liefd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relat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zinnen/ famil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riend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Zijn (vaak) positieve 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gevoelens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Beating_Hearts"/>
          <p:cNvPicPr/>
          <p:nvPr/>
        </p:nvPicPr>
        <p:blipFill>
          <a:blip r:embed="rId1"/>
          <a:stretch/>
        </p:blipFill>
        <p:spPr>
          <a:xfrm>
            <a:off x="6300720" y="476280"/>
            <a:ext cx="2619360" cy="2381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earts"/>
          <p:cNvPicPr/>
          <p:nvPr/>
        </p:nvPicPr>
        <p:blipFill>
          <a:blip r:embed="rId2"/>
          <a:stretch/>
        </p:blipFill>
        <p:spPr>
          <a:xfrm>
            <a:off x="395280" y="4005360"/>
            <a:ext cx="2197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6334-55C1-44BA-BA5B-99707B738E7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4000" y="2349360"/>
            <a:ext cx="8064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Alles wat me je levensondehoud te maken heeft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eet/ drinkt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gebruikt/ koop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Je bent afhankelijk van zakgeld of lo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rembrandt.gif"/>
          <p:cNvPicPr/>
          <p:nvPr/>
        </p:nvPicPr>
        <p:blipFill>
          <a:blip r:embed="rId1"/>
          <a:stretch/>
        </p:blipFill>
        <p:spPr>
          <a:xfrm>
            <a:off x="6659640" y="692280"/>
            <a:ext cx="2139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7528-3FE0-480B-9C20-A560A374A65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4000" y="2349360"/>
            <a:ext cx="8064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heeft te maken met alles wat je leer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school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je ouder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vrienden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angeleerd"/>
          <p:cNvPicPr/>
          <p:nvPr/>
        </p:nvPicPr>
        <p:blipFill>
          <a:blip r:embed="rId1"/>
          <a:stretch/>
        </p:blipFill>
        <p:spPr>
          <a:xfrm>
            <a:off x="4788000" y="3429000"/>
            <a:ext cx="2940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BC05-54D3-4267-BACB-E8481F965D8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99760" y="1628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234936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mdat je onmogelijk alles zelf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kan regelen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verheid beschermt ons, legt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en aan, zorgt voor politie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en onderwijs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ten en rege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alkenende"/>
          <p:cNvPicPr/>
          <p:nvPr/>
        </p:nvPicPr>
        <p:blipFill>
          <a:blip r:embed="rId1"/>
          <a:stretch/>
        </p:blipFill>
        <p:spPr>
          <a:xfrm>
            <a:off x="6012000" y="184464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9DBC-D6C5-48AB-80B6-72A590FB26B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pvoe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genschapp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fats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iftig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legen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zikaal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naar wc 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c..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le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Teenager"/>
          <p:cNvPicPr/>
          <p:nvPr/>
        </p:nvPicPr>
        <p:blipFill>
          <a:blip r:embed="rId1"/>
          <a:stretch/>
        </p:blipFill>
        <p:spPr>
          <a:xfrm>
            <a:off x="3564000" y="2708280"/>
            <a:ext cx="1649520" cy="3672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2"/>
          <p:cNvSpPr/>
          <p:nvPr/>
        </p:nvSpPr>
        <p:spPr>
          <a:xfrm rot="10800000">
            <a:off x="1331640" y="1628280"/>
            <a:ext cx="6048360" cy="936720"/>
          </a:xfrm>
          <a:custGeom>
            <a:avLst/>
            <a:gdLst>
              <a:gd name="textAreaLeft" fmla="*/ 604800 w 6048360"/>
              <a:gd name="textAreaRight" fmla="*/ 5443560 w 6048360"/>
              <a:gd name="textAreaTop" fmla="*/ 535320 h 936720"/>
              <a:gd name="textAreaBottom" fmla="*/ 803160 h 936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1258920" y="5013360"/>
            <a:ext cx="288720" cy="936720"/>
          </a:xfrm>
          <a:prstGeom prst="upDownArrow">
            <a:avLst>
              <a:gd name="adj1" fmla="val 50000"/>
              <a:gd name="adj2" fmla="val 6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6443640" y="4941720"/>
            <a:ext cx="289080" cy="936720"/>
          </a:xfrm>
          <a:prstGeom prst="upDownArrow">
            <a:avLst>
              <a:gd name="adj1" fmla="val 50000"/>
              <a:gd name="adj2" fmla="val 645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3449-89DC-48B1-84C3-ED7D3BC7B33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Afbeelding 13" descr="child.gif"/>
          <p:cNvPicPr/>
          <p:nvPr/>
        </p:nvPicPr>
        <p:blipFill>
          <a:blip r:embed="rId1"/>
          <a:stretch/>
        </p:blipFill>
        <p:spPr>
          <a:xfrm>
            <a:off x="550872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68" name="Afbeelding 14" descr="preteen.gif"/>
          <p:cNvPicPr/>
          <p:nvPr/>
        </p:nvPicPr>
        <p:blipFill>
          <a:blip r:embed="rId2"/>
          <a:stretch/>
        </p:blipFill>
        <p:spPr>
          <a:xfrm>
            <a:off x="399564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15" descr="schoolchild.gif"/>
          <p:cNvPicPr/>
          <p:nvPr/>
        </p:nvPicPr>
        <p:blipFill>
          <a:blip r:embed="rId3"/>
          <a:stretch/>
        </p:blipFill>
        <p:spPr>
          <a:xfrm>
            <a:off x="75564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70" name="Afbeelding 16" descr="wirish.gif"/>
          <p:cNvPicPr/>
          <p:nvPr/>
        </p:nvPicPr>
        <p:blipFill>
          <a:blip r:embed="rId4"/>
          <a:stretch/>
        </p:blipFill>
        <p:spPr>
          <a:xfrm>
            <a:off x="241128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Afbeelding 17" descr="teenagers.gif"/>
          <p:cNvPicPr/>
          <p:nvPr/>
        </p:nvPicPr>
        <p:blipFill>
          <a:blip r:embed="rId5"/>
          <a:stretch/>
        </p:blipFill>
        <p:spPr>
          <a:xfrm>
            <a:off x="6948360" y="465300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66ED-224F-49D7-A88C-B9DB4980218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45813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Belonen en straff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0DCB-give"/>
          <p:cNvPicPr/>
          <p:nvPr/>
        </p:nvPicPr>
        <p:blipFill>
          <a:blip r:embed="rId1"/>
          <a:stretch/>
        </p:blipFill>
        <p:spPr>
          <a:xfrm>
            <a:off x="0" y="177336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70836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mit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22764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nform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illustratie"/>
          <p:cNvPicPr/>
          <p:nvPr/>
        </p:nvPicPr>
        <p:blipFill>
          <a:blip r:embed="rId2"/>
          <a:stretch/>
        </p:blipFill>
        <p:spPr>
          <a:xfrm>
            <a:off x="1835280" y="2708280"/>
            <a:ext cx="1552320" cy="1965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179280" y="566100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=</a:t>
            </a:r>
            <a:br>
              <a:rPr sz="3200"/>
            </a:b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nformation"/>
          <p:cNvPicPr/>
          <p:nvPr/>
        </p:nvPicPr>
        <p:blipFill>
          <a:blip r:embed="rId3"/>
          <a:stretch/>
        </p:blipFill>
        <p:spPr>
          <a:xfrm>
            <a:off x="6156360" y="2276640"/>
            <a:ext cx="2414520" cy="241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elastic_parrot"/>
          <p:cNvPicPr/>
          <p:nvPr/>
        </p:nvPicPr>
        <p:blipFill>
          <a:blip r:embed="rId4"/>
          <a:stretch/>
        </p:blipFill>
        <p:spPr>
          <a:xfrm>
            <a:off x="4140360" y="3284640"/>
            <a:ext cx="120780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ars"/>
          <p:cNvPicPr/>
          <p:nvPr/>
        </p:nvPicPr>
        <p:blipFill>
          <a:blip r:embed="rId5"/>
          <a:stretch/>
        </p:blipFill>
        <p:spPr>
          <a:xfrm>
            <a:off x="4067280" y="1773360"/>
            <a:ext cx="15588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E03F-5D96-41F9-B14B-7A69FEA8305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5640" y="508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dentific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932360" y="5084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Eigen Persoonlijkhei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alifornia Motorcycle Accident Lawyer Norman Gregory Fernandez discusses Britney Spears situation."/>
          <p:cNvPicPr/>
          <p:nvPr/>
        </p:nvPicPr>
        <p:blipFill>
          <a:blip r:embed="rId1"/>
          <a:stretch/>
        </p:blipFill>
        <p:spPr>
          <a:xfrm>
            <a:off x="900000" y="1773360"/>
            <a:ext cx="2435400" cy="316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ti-animated"/>
          <p:cNvPicPr/>
          <p:nvPr/>
        </p:nvPicPr>
        <p:blipFill>
          <a:blip r:embed="rId2"/>
          <a:stretch/>
        </p:blipFill>
        <p:spPr>
          <a:xfrm>
            <a:off x="4211640" y="1989000"/>
            <a:ext cx="3809880" cy="3029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684360" y="585144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Op iemand willen lijken die je bewonder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932360" y="609300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ersoonlijke invloeden, ervaringen, karakter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149B-96FD-4DBE-8F8F-7F783C1C565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9640" y="2708280"/>
            <a:ext cx="799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langrijk vindt in het lev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avinfun.gif"/>
          <p:cNvPicPr/>
          <p:nvPr/>
        </p:nvPicPr>
        <p:blipFill>
          <a:blip r:embed="rId1"/>
          <a:stretch/>
        </p:blipFill>
        <p:spPr>
          <a:xfrm>
            <a:off x="6012000" y="4221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468360" y="3573360"/>
            <a:ext cx="67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fatsoensnormen: “het hoort nou eenmaal zo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opstaan in bus voor 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hand ge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A08A-7194-49B3-A08B-E71A30E6543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chillen in waa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normen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 De groep waar je bij h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plaats waar je wo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tijd waarin je le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éle grote verschillen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norm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9" descr="gay-parade-32"/>
          <p:cNvPicPr/>
          <p:nvPr/>
        </p:nvPicPr>
        <p:blipFill>
          <a:blip r:embed="rId1"/>
          <a:stretch/>
        </p:blipFill>
        <p:spPr>
          <a:xfrm>
            <a:off x="5651640" y="1773360"/>
            <a:ext cx="31384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CDD4-CDBB-454C-8AAF-F459BD431D8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de overdracht van kenmerken van een groep of samenlev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ialiserende institu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rienden en vriend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ort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l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F959-396C-4254-B444-2F082ABD2DA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alis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 gedraagt je ‘automatisch’ (ongeveer) zoals de groep dat verwach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rechts rijden in het 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hand geven als je iemand ontmo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boer/scheet inhouden tijdens het 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D3C2-CA56-48DB-BC3E-8717E1AD4FF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2349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219640" y="3933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ub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-973080" y="3933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24000" y="558972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Jongeren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cult"/>
          <p:cNvPicPr/>
          <p:nvPr/>
        </p:nvPicPr>
        <p:blipFill>
          <a:blip r:embed="rId1"/>
          <a:stretch/>
        </p:blipFill>
        <p:spPr>
          <a:xfrm>
            <a:off x="6084720" y="404640"/>
            <a:ext cx="2881440" cy="2492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1908000" y="27813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groep mensen met dezelfde waarden, normen en gewoo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0" y="4437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te groep mensen. (in Nederland…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580000" y="4365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groep men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2411280" y="3573360"/>
            <a:ext cx="576360" cy="503280"/>
          </a:xfrm>
          <a:prstGeom prst="leftArrow">
            <a:avLst>
              <a:gd name="adj1" fmla="val 50000"/>
              <a:gd name="adj2" fmla="val 28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5724360" y="3573360"/>
            <a:ext cx="792360" cy="505080"/>
          </a:xfrm>
          <a:prstGeom prst="rightArrow">
            <a:avLst>
              <a:gd name="adj1" fmla="val 50000"/>
              <a:gd name="adj2" fmla="val 392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2268360" y="603576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ep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8:02:17Z</dcterms:modified>
  <cp:revision>91</cp:revision>
  <dc:subject/>
  <dc:title>Dia 1</dc:title>
</cp:coreProperties>
</file>