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D12-687F-49B5-81F8-FDF2B725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29F-B0C5-4EF7-BD93-06EF1145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1F5-7A58-429A-9045-EE59D4AF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A16-8B03-4599-A097-5A2CF76B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7830-8F17-4D3E-9001-276A7771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B2AA-10FB-43DA-B4C7-2A56DEB3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9967-6700-45A2-AF6D-8B392FA5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0598-C44E-4682-BEEA-94F8C9BF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0FEA-FF09-4324-9F3D-0F6FCE6D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40DE-58FB-48E3-9F19-43FAA383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A727-7E26-4036-9F52-046A6D95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C68-17C3-4EF6-9804-BDA6CB6D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FC1F-EA2B-4125-A68F-16852981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7744-D1E4-46BF-9C5C-1110AB80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9B6E-AD3A-4107-80E6-33ECECF4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D776-1BF0-44A4-9BD7-E1455AAA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BB89-5660-488F-9159-BD76B388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9189D-EE52-40ED-B3B0-F4BDE781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8E719-D5C7-4206-9C9E-487AB381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6531F-6950-496D-B1C4-FF41273D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02FD2-13F3-4788-882A-CD416F14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67030-7AE6-4290-8746-35807992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374-C76B-4D5D-A652-D8939B64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A9342-32D6-4622-9A58-1C9E78E4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4A3B3-861F-4347-BF5C-BFF79B9E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B0BF8-B8BF-4E03-86AD-E00ECED7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74D3C-48D5-47CC-B7A1-FCDF8B80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7CCD8-7F91-4F5D-A3CA-3EEA9054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D66E5-DDF7-445B-8B42-29DEDAFA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1CF7D-59D7-4D11-8FC6-50D19293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5D139-1808-4FB7-9182-246DC27A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06090-21AC-4ECB-8553-A020D14C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61CC0-C7C7-467B-AB34-9BA9B2B7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B2F-8348-4C41-A2E6-5EDAC132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F53B9-5876-402C-97B0-0C764109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FD811-BF53-4F37-8FFD-7EC748CA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9CF58-00B9-4630-B506-1ADF560A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94F4-1840-4064-AA26-A1A597DC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84C2-5C17-4971-8784-159366C5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378DD-F0D6-4451-8B62-19026D64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E7E68-9DF3-46DE-A898-5C51060F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8255D-823E-4C3E-A046-B326F07A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57F6-AE2B-49B9-8C6D-94CBD9EA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B16ED-6B52-4190-A01A-DD569AFC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C8C-AEB6-4BF8-BC38-E8093390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E91F3-66EA-48CC-B138-1C9D5A69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DC69F-045C-4CCF-BB92-BB4BBA38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BC5F9-DD19-4C16-A397-02C5482D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F3563-6D73-4FDB-B048-0B699ABA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2C4D0-D718-44AD-9ED6-0E45F32B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FE4CF-EDA6-47C7-A417-F8373796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BCCDC-633F-44EC-A4B5-3D63387A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CE623-030F-45AD-B91E-43137DC0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68651-0B32-48C4-893A-1B62C530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BAB64-12E6-4934-BB4E-D560F82D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C8D-27DC-468C-B2F2-1D5607DF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99A2A-12EE-4771-9D76-DE686B7C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401EB0-6015-4D72-BFB4-BC1E7694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E812A-39FA-414B-9EC4-D0259C8D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BB2F2-1015-4032-AAE2-8265B49A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3D98BA-D034-4F49-99E6-154C22AE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F2046-3701-450F-92AE-3BD643BD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C5B7A-C958-42A1-8AA8-EE2C323B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290455-A527-407A-939A-E8258531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5A757-C18D-40B6-A00D-F5B087A2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AF032B-4F30-4A48-A4A6-B85925A9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EBF-E2E7-453E-900E-0E45A9F3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4F189-55F5-436F-BA50-9F7F588D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97B5C-49A3-4C67-8822-0822A93F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64DD2-7985-4680-9305-8DB984E9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F87BC-D082-4060-858C-5E544384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16EB2-1A44-45C1-8797-8382954B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2C26E-C388-4EE4-BD6D-BC5813D4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25802-3E70-4EBA-963D-1C74ACEC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0DF9F-340C-41C2-836E-D404BAA6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F5F9E-E5C2-4683-BCCE-F2E22B70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DDA05-DF2A-4A67-9552-67FD8C6C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1F7-5164-4C98-8A25-B11779BB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61BD26-598B-4803-8C5E-3171137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5A366-2AEB-4927-992F-C1836F3F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BBD98-1AFA-4043-85F8-7A3AF499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68ABDD-9E88-4F36-ADD7-5489F9E6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99544-74D4-45A4-A964-D6C8AD8D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6DD-CD5B-4B07-89F6-99BB036A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21F3-713D-4E8A-87BF-7CD28D24F3F1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9228-3901-4A74-9DC7-26A87EE9A169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3F5E-AB37-44B4-B5FE-4F3B15E94A87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19FE-AFB6-4FC2-96F8-0CB538C602BF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B417-5EB6-4224-8577-4E477D43EA6E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2680-1CDD-4727-977B-5055EEA042AB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C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9A90-AFBF-4970-8D27-FF37A23A5C6E}" type="slidenum">
              <a:rPr b="1" lang="es-EC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763280" y="1052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e75c01"/>
                </a:solidFill>
                <a:latin typeface="Arial Black"/>
              </a:rPr>
              <a:t>We use Simple Present Tense to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sp>
        <p:nvSpPr>
          <p:cNvPr id="354" name="4 CuadroTexto"/>
          <p:cNvSpPr/>
          <p:nvPr/>
        </p:nvSpPr>
        <p:spPr>
          <a:xfrm>
            <a:off x="1972080" y="1844640"/>
            <a:ext cx="59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Talk about facts (something that exists or occ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5 Rectángulo"/>
          <p:cNvSpPr/>
          <p:nvPr/>
        </p:nvSpPr>
        <p:spPr>
          <a:xfrm>
            <a:off x="2713320" y="2660760"/>
            <a:ext cx="27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This jacket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costs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$85.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I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live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in Ecu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http://www.andreadams.com/assets/watermark%20files/jacket.jpg"/>
          <p:cNvPicPr/>
          <p:nvPr/>
        </p:nvPicPr>
        <p:blipFill>
          <a:blip r:embed="rId2"/>
          <a:stretch/>
        </p:blipFill>
        <p:spPr>
          <a:xfrm>
            <a:off x="5796000" y="2349360"/>
            <a:ext cx="1192320" cy="1224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http://blogs.laprovence.com/comptes/La-campagne-presidentielle-americaine/public/dollars.gif"/>
          <p:cNvPicPr/>
          <p:nvPr/>
        </p:nvPicPr>
        <p:blipFill>
          <a:blip r:embed="rId3"/>
          <a:stretch/>
        </p:blipFill>
        <p:spPr>
          <a:xfrm>
            <a:off x="6588000" y="2421000"/>
            <a:ext cx="538200" cy="576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http://colarebo.files.wordpress.com/2011/04/escudo-ecuador.jpg"/>
          <p:cNvPicPr/>
          <p:nvPr/>
        </p:nvPicPr>
        <p:blipFill>
          <a:blip r:embed="rId4"/>
          <a:stretch/>
        </p:blipFill>
        <p:spPr>
          <a:xfrm>
            <a:off x="4788000" y="3141720"/>
            <a:ext cx="900000" cy="1008000"/>
          </a:xfrm>
          <a:prstGeom prst="rect">
            <a:avLst/>
          </a:prstGeom>
          <a:ln w="0">
            <a:noFill/>
          </a:ln>
        </p:spPr>
      </p:pic>
      <p:sp>
        <p:nvSpPr>
          <p:cNvPr id="359" name="9 CuadroTexto"/>
          <p:cNvSpPr/>
          <p:nvPr/>
        </p:nvSpPr>
        <p:spPr>
          <a:xfrm>
            <a:off x="2125440" y="429408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Actions that happen again and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     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(habits, regular occurences, customs, rout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2712240" y="6383160"/>
            <a:ext cx="34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Pedro </a:t>
            </a:r>
            <a:r>
              <a:rPr b="0" lang="es-EC" sz="1800" spc="-1" strike="noStrike" u="sng">
                <a:solidFill>
                  <a:srgbClr val="675a00"/>
                </a:solidFill>
                <a:uFillTx/>
                <a:latin typeface="Arial Black"/>
              </a:rPr>
              <a:t>watches</a:t>
            </a:r>
            <a:r>
              <a:rPr b="0" lang="es-EC" sz="1800" spc="-1" strike="noStrike">
                <a:solidFill>
                  <a:srgbClr val="675a00"/>
                </a:solidFill>
                <a:latin typeface="Arial Black"/>
              </a:rPr>
              <a:t> TV every n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0" descr="http://images.mylot.com/userImages/images/postphotos/2269633.gif"/>
          <p:cNvPicPr/>
          <p:nvPr/>
        </p:nvPicPr>
        <p:blipFill>
          <a:blip r:embed="rId5"/>
          <a:stretch/>
        </p:blipFill>
        <p:spPr>
          <a:xfrm>
            <a:off x="7164360" y="5373720"/>
            <a:ext cx="1249560" cy="1322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2" descr="http://www.englisch-hilfen.de/images/tenses/simple_present1e.jpg"/>
          <p:cNvPicPr/>
          <p:nvPr/>
        </p:nvPicPr>
        <p:blipFill>
          <a:blip r:embed="rId6"/>
          <a:stretch/>
        </p:blipFill>
        <p:spPr>
          <a:xfrm>
            <a:off x="2627280" y="5229360"/>
            <a:ext cx="40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763640" y="1052280"/>
            <a:ext cx="6912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Add </a:t>
            </a:r>
            <a:r>
              <a:rPr b="1" lang="es-EC" sz="2400" spc="-1" strike="noStrike" u="sng">
                <a:solidFill>
                  <a:srgbClr val="9a3d01"/>
                </a:solidFill>
                <a:uFillTx/>
                <a:latin typeface="Aharoni"/>
                <a:ea typeface="Aharoni"/>
              </a:rPr>
              <a:t>S</a:t>
            </a: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 to most verb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Add </a:t>
            </a:r>
            <a:r>
              <a:rPr b="1" lang="es-EC" sz="2400" spc="-1" strike="noStrike" u="sng">
                <a:solidFill>
                  <a:srgbClr val="9a3d01"/>
                </a:solidFill>
                <a:uFillTx/>
                <a:latin typeface="Aharoni"/>
                <a:ea typeface="Aharoni"/>
              </a:rPr>
              <a:t>ES</a:t>
            </a: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 to verbs that end i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3668c4"/>
                </a:solidFill>
                <a:latin typeface="Aharoni"/>
                <a:ea typeface="Aharoni"/>
              </a:rPr>
              <a:t>	</a:t>
            </a:r>
            <a:r>
              <a:rPr b="1" lang="es-EC" sz="2400" spc="-1" strike="noStrike">
                <a:solidFill>
                  <a:srgbClr val="6e84b4"/>
                </a:solidFill>
                <a:latin typeface="Aharoni"/>
                <a:ea typeface="Aharoni"/>
              </a:rPr>
              <a:t>CH  - O  - S  -  SH  -  X  -  Z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wat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h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d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o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kis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wa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sh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– fi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xES</a:t>
            </a:r>
            <a:r>
              <a:rPr b="1" lang="es-EC" sz="1800" spc="-1" strike="noStrike">
                <a:solidFill>
                  <a:srgbClr val="575f6d"/>
                </a:solidFill>
                <a:latin typeface="Century Schoolbook"/>
              </a:rPr>
              <a:t> - buz</a:t>
            </a:r>
            <a:r>
              <a:rPr b="1" lang="es-EC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z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http://imagenes.mailxmail.com/cursos/imagenes/3/0/the-simple-present-tense_11103_1_3.gif"/>
          <p:cNvPicPr/>
          <p:nvPr/>
        </p:nvPicPr>
        <p:blipFill>
          <a:blip r:embed="rId2"/>
          <a:stretch/>
        </p:blipFill>
        <p:spPr>
          <a:xfrm>
            <a:off x="2411280" y="3860640"/>
            <a:ext cx="62848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9a3d01"/>
                </a:solidFill>
                <a:latin typeface="Cooper Black"/>
              </a:rPr>
              <a:t>SIMPLE  PRESENT  TENS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366920" cy="1944720"/>
          </a:xfrm>
          <a:prstGeom prst="rect">
            <a:avLst/>
          </a:prstGeom>
          <a:ln w="0">
            <a:noFill/>
          </a:ln>
        </p:spPr>
      </p:pic>
      <p:sp>
        <p:nvSpPr>
          <p:cNvPr id="369" name="7 Rectángulo"/>
          <p:cNvSpPr/>
          <p:nvPr/>
        </p:nvSpPr>
        <p:spPr>
          <a:xfrm>
            <a:off x="1728360" y="1684440"/>
            <a:ext cx="7767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b050"/>
                </a:solidFill>
                <a:latin typeface="Impact"/>
              </a:rPr>
              <a:t>every day / month / year</a:t>
            </a: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once a day / week / month / year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wice a day / week / month / year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hree times a day/week/month/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in the morning / evening / aftern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at night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always/usually/often/sometimes/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on Monday/Thursday /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Impact"/>
              </a:rPr>
              <a:t>in July / August /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8 Rectángulo"/>
          <p:cNvSpPr/>
          <p:nvPr/>
        </p:nvSpPr>
        <p:spPr>
          <a:xfrm>
            <a:off x="2627280" y="90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84b4"/>
                </a:solidFill>
                <a:latin typeface="Aharoni"/>
                <a:ea typeface="Aharoni"/>
              </a:rPr>
              <a:t>TIME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Present Continuous for Action at the Moment"/>
          <p:cNvPicPr/>
          <p:nvPr/>
        </p:nvPicPr>
        <p:blipFill>
          <a:blip r:embed="rId2"/>
          <a:stretch/>
        </p:blipFill>
        <p:spPr>
          <a:xfrm>
            <a:off x="3132000" y="2168640"/>
            <a:ext cx="3816360" cy="27003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763280" y="1052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800" spc="-1" strike="noStrike">
                <a:solidFill>
                  <a:srgbClr val="e75c01"/>
                </a:solidFill>
                <a:latin typeface="Arial Black"/>
              </a:rPr>
              <a:t>We use Present Progressive / Continuous Tense to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4 CuadroTexto"/>
          <p:cNvSpPr/>
          <p:nvPr/>
        </p:nvSpPr>
        <p:spPr>
          <a:xfrm>
            <a:off x="2234880" y="1484280"/>
            <a:ext cx="54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6211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862110"/>
                </a:solidFill>
                <a:latin typeface="IrisUPC"/>
                <a:ea typeface="IrisUPC"/>
              </a:rPr>
              <a:t>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Talk about an action that is happening 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       </a:t>
            </a:r>
            <a:r>
              <a:rPr b="0" lang="es-EC" sz="1800" spc="-1" strike="noStrike">
                <a:solidFill>
                  <a:srgbClr val="00b050"/>
                </a:solidFill>
                <a:latin typeface="Segoe UI Semibold"/>
                <a:ea typeface="MingLiU-ExtB"/>
              </a:rPr>
              <a:t>(at the moment of spea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http://imagenes.mailxmail.com/cursos/imagenes/3/0/the-present-continuous-tense_11103_3_1.gif"/>
          <p:cNvPicPr/>
          <p:nvPr/>
        </p:nvPicPr>
        <p:blipFill>
          <a:blip r:embed="rId3"/>
          <a:stretch/>
        </p:blipFill>
        <p:spPr>
          <a:xfrm>
            <a:off x="2484360" y="4437000"/>
            <a:ext cx="6480360" cy="23655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http://images.mylot.com/userImages/images/postphotos/2269633.gif"/>
          <p:cNvPicPr/>
          <p:nvPr/>
        </p:nvPicPr>
        <p:blipFill>
          <a:blip r:embed="rId4"/>
          <a:stretch/>
        </p:blipFill>
        <p:spPr>
          <a:xfrm>
            <a:off x="7164360" y="2479680"/>
            <a:ext cx="1465200" cy="1552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http://www.graphicsfactory.com/clip-art/image_files/tn_image/7/1329317-tn_talk.jpg"/>
          <p:cNvPicPr/>
          <p:nvPr/>
        </p:nvPicPr>
        <p:blipFill>
          <a:blip r:embed="rId5"/>
          <a:stretch/>
        </p:blipFill>
        <p:spPr>
          <a:xfrm>
            <a:off x="2124000" y="2997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2 Subtítulo" descr=""/>
          <p:cNvPicPr/>
          <p:nvPr/>
        </p:nvPicPr>
        <p:blipFill>
          <a:blip r:embed="rId2"/>
          <a:stretch/>
        </p:blipFill>
        <p:spPr>
          <a:xfrm>
            <a:off x="2316240" y="1006560"/>
            <a:ext cx="758988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2411280" cy="16891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45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9a3d01"/>
                </a:solidFill>
                <a:latin typeface="Cooper Black"/>
              </a:rPr>
              <a:t>PRESENT   PROGRESSIVE   TEN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5 Rectángulo"/>
          <p:cNvSpPr/>
          <p:nvPr/>
        </p:nvSpPr>
        <p:spPr>
          <a:xfrm>
            <a:off x="2700360" y="141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e84b4"/>
                </a:solidFill>
                <a:latin typeface="Aharoni"/>
                <a:ea typeface="Aharoni"/>
              </a:rPr>
              <a:t>TIME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6 Rectángulo"/>
          <p:cNvSpPr/>
          <p:nvPr/>
        </p:nvSpPr>
        <p:spPr>
          <a:xfrm>
            <a:off x="3318840" y="2349360"/>
            <a:ext cx="466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right 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800" spc="-1" strike="noStrike">
                <a:solidFill>
                  <a:srgbClr val="00b050"/>
                </a:solidFill>
                <a:latin typeface="Impact"/>
              </a:rPr>
              <a:t>at the mo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26:26Z</dcterms:created>
  <dc:creator>K@rly</dc:creator>
  <dc:description/>
  <dc:language>en-US</dc:language>
  <cp:lastModifiedBy>A van Schijndel</cp:lastModifiedBy>
  <dcterms:modified xsi:type="dcterms:W3CDTF">2014-12-19T10:29:08Z</dcterms:modified>
  <cp:revision>7</cp:revision>
  <dc:subject/>
  <dc:title>SIMPLE  PRESENT  TENSE</dc:title>
</cp:coreProperties>
</file>