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FC9-15FC-42E8-AE94-4A23C5EB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217-F303-4011-B39E-DC3EED6E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A82-3140-4B4D-A9A8-7511137C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CFF-96EE-438F-A52B-C956C68F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849B-5B1C-4098-99A9-C9999416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9CF1-035F-4973-999C-529336C2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8AE0-1CAC-434F-8193-7FFA312E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A9F9-265A-49C3-8863-EF46BB30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9B0F-7402-4A94-B756-E517851C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ED2F-30FE-4112-970B-0EC7A609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5CC2-8A82-47EC-92EB-0E26D14C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7A2-07D1-4D5F-921F-AC9E5210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D7B5-6F1D-4A19-82E2-789B53CD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32B8-D013-4702-9C41-284EE9F8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DA9B-DF6A-4FDB-A12D-53D9A62E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D095-C10A-4497-AC1D-5D731DE9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E99E-D2DB-4F78-81E2-FD178947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E1A21-F9E4-4469-B0C1-33DDD056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84E64-A1B2-46E7-8ADE-D524837C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81A9C-FE29-407D-B2E4-9567E012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9B41A-3304-46BA-9947-4CA96499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2EBF4-D4F8-41A9-A799-1D08F1D0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286-D456-472B-B3F8-D53544FE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10D8C-1D03-400E-A4BF-771D41BB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5504C-FDEE-4C22-B43D-FE899446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119A5-BB9F-4E80-9CBA-C433183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E7FC2-A42C-4F80-A1DC-9F4CD60F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10780-11E7-4A50-84D0-B66AD9C8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C22F7-58E6-452B-A637-7597C829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6AD7F-81BE-4C95-B2B9-FE1EFCAB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08F7A-38C0-4D6E-AE33-C1A7EE8D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FB386-C881-494E-B4E4-B84C83EF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E7159-77E7-43B1-97D5-898FEDF9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876-9D83-4841-A6A4-712711FD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61C11-DD3F-42EB-A712-D9E20ED8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FF73A-2053-4164-ADC3-AAAB3732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A7DB-B1D1-4A45-9059-DB56DC51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9D85E-2B49-40ED-B1FE-933EC61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526F-60D2-4C99-8308-660468DD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CD8D-B370-4515-AF09-06728524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C3AE6-CA7C-4F23-8661-1C0413B0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6EA40-E62A-4A25-9899-D41B2640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E60C-4A97-4E79-8243-FA1B5FEC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E4B02-11FA-4455-80CF-3DB29A23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E5C-AB61-45FA-B8DC-D57501F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AA1A3-5439-4F09-9695-87387115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8E535-00D3-48C8-826B-510404A0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10A8D-F779-4B1F-BB22-FB89C767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53A6C-29BE-43D4-8778-B3228531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AE1C6-2576-4A1C-99CD-7925ABFA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6D4EE-0964-4E7F-9419-B97610EB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AF686-6663-4EC2-8C72-34D7FA2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F313A-0A91-4A70-ADE7-98FCFD36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357C1-FF46-4DF5-9470-BCF3ACAB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B532C-92DA-47EC-A158-21222EDC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4E6-BA92-4B22-9561-A5916717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BA4D9-A63D-494B-8B59-98E8639B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596F3-B2A3-4CAF-870E-76869467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B13D7-8DA2-4B0B-A7F3-917AB6C3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8E4728-C1D2-448C-BB5A-DDBF62BF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2FD54-80F1-4E73-A034-217987C9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4B763-6E2E-4825-BB59-34BB84B5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43F2F-6FE2-4E8C-949A-84AAC464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FC6AF-6B9B-4C95-8490-071D2276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9F6F4-6380-4438-9AE7-5268E23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C2907-3E4D-4058-B0D9-50F00F77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66A-453D-4F3C-9F07-BB6F7C41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EF0EC-9726-4565-8A77-AAE81BB0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DEA10-C75A-4B92-9B94-B32E590D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84EA1-85D0-474C-84C7-36E0B6C4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F2684-2818-4508-99A2-7743B58B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6BDDC-1D31-4A15-A5F2-CBB4F21F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E1B55-4252-4253-9D63-9D6F5458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98F65-1DA6-47A1-B52B-EA596C28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EF088-994B-4310-9983-45EEFF2F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F7C41-A2B0-4BE4-85BD-A1DA6FD6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41120A-A96E-458B-9F24-E481285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271-C12A-48D3-929D-9FF34AA7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C30CE-1958-49ED-A354-200E0754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B32D3-C568-4F68-B76E-ABF41C1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C228E-292F-4990-AD0C-1CEF1D04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8ABDD-06BC-4221-968D-19FB1C8F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C89D9-2845-4DEA-9CD1-7725FB65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4F2-BC78-4EB7-B0C8-21701A1E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2838-D123-42BB-A2B7-BE53A3E81E20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A881-24DE-4EEE-9C7D-B73DA90B649D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230F-968C-4EC2-8D45-B71CEA99AEE4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29DC-A6EF-46E3-99DB-58CD1D0094F3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52A9-855A-4A63-B4DF-8DF7E6088DFF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F615-9402-4F7F-8E5D-798F6D38D34C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D772-07CB-466B-9F3B-1A47AFA05BAA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Simple Present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54" name="4 CuadroTexto"/>
          <p:cNvSpPr/>
          <p:nvPr/>
        </p:nvSpPr>
        <p:spPr>
          <a:xfrm>
            <a:off x="1972080" y="1844640"/>
            <a:ext cx="59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facts (something that exists or occ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 Rectángulo"/>
          <p:cNvSpPr/>
          <p:nvPr/>
        </p:nvSpPr>
        <p:spPr>
          <a:xfrm>
            <a:off x="2713320" y="266076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This jacket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cost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$85.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I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live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in Ecu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http://www.andreadams.com/assets/watermark%20files/jacket.jpg"/>
          <p:cNvPicPr/>
          <p:nvPr/>
        </p:nvPicPr>
        <p:blipFill>
          <a:blip r:embed="rId2"/>
          <a:stretch/>
        </p:blipFill>
        <p:spPr>
          <a:xfrm>
            <a:off x="5796000" y="2349360"/>
            <a:ext cx="1192320" cy="1224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ttp://blogs.laprovence.com/comptes/La-campagne-presidentielle-americaine/public/dollars.gif"/>
          <p:cNvPicPr/>
          <p:nvPr/>
        </p:nvPicPr>
        <p:blipFill>
          <a:blip r:embed="rId3"/>
          <a:stretch/>
        </p:blipFill>
        <p:spPr>
          <a:xfrm>
            <a:off x="6588000" y="2421000"/>
            <a:ext cx="538200" cy="576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colarebo.files.wordpress.com/2011/04/escudo-ecuador.jpg"/>
          <p:cNvPicPr/>
          <p:nvPr/>
        </p:nvPicPr>
        <p:blipFill>
          <a:blip r:embed="rId4"/>
          <a:stretch/>
        </p:blipFill>
        <p:spPr>
          <a:xfrm>
            <a:off x="4788000" y="3141720"/>
            <a:ext cx="900000" cy="1008000"/>
          </a:xfrm>
          <a:prstGeom prst="rect">
            <a:avLst/>
          </a:prstGeom>
          <a:ln w="0">
            <a:noFill/>
          </a:ln>
        </p:spPr>
      </p:pic>
      <p:sp>
        <p:nvSpPr>
          <p:cNvPr id="359" name="9 CuadroTexto"/>
          <p:cNvSpPr/>
          <p:nvPr/>
        </p:nvSpPr>
        <p:spPr>
          <a:xfrm>
            <a:off x="2125440" y="4294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Actions that happen again a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habits, regular occurences, customs, rout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2712240" y="6383160"/>
            <a:ext cx="34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Pedro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watche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TV every n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0" descr="http://images.mylot.com/userImages/images/postphotos/2269633.gif"/>
          <p:cNvPicPr/>
          <p:nvPr/>
        </p:nvPicPr>
        <p:blipFill>
          <a:blip r:embed="rId5"/>
          <a:stretch/>
        </p:blipFill>
        <p:spPr>
          <a:xfrm>
            <a:off x="7164360" y="5373720"/>
            <a:ext cx="1249560" cy="1322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http://www.englisch-hilfen.de/images/tenses/simple_present1e.jpg"/>
          <p:cNvPicPr/>
          <p:nvPr/>
        </p:nvPicPr>
        <p:blipFill>
          <a:blip r:embed="rId6"/>
          <a:stretch/>
        </p:blipFill>
        <p:spPr>
          <a:xfrm>
            <a:off x="2627280" y="5229360"/>
            <a:ext cx="40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763640" y="1052280"/>
            <a:ext cx="6912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most verb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E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verbs that end i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	</a:t>
            </a:r>
            <a:r>
              <a:rPr b="1" lang="es-EC" sz="2400" spc="-1" strike="noStrike">
                <a:solidFill>
                  <a:srgbClr val="6e84b4"/>
                </a:solidFill>
                <a:latin typeface="Aharoni"/>
                <a:ea typeface="Aharoni"/>
              </a:rPr>
              <a:t>CH  - O  - S  -  SH  -  X  -  Z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wat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d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o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kis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wa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fi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x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- buz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z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http://imagenes.mailxmail.com/cursos/imagenes/3/0/the-simple-present-tense_11103_1_3.gif"/>
          <p:cNvPicPr/>
          <p:nvPr/>
        </p:nvPicPr>
        <p:blipFill>
          <a:blip r:embed="rId2"/>
          <a:stretch/>
        </p:blipFill>
        <p:spPr>
          <a:xfrm>
            <a:off x="2411280" y="3860640"/>
            <a:ext cx="62848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69" name="7 Rectángulo"/>
          <p:cNvSpPr/>
          <p:nvPr/>
        </p:nvSpPr>
        <p:spPr>
          <a:xfrm>
            <a:off x="1728360" y="1684440"/>
            <a:ext cx="7767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b050"/>
                </a:solidFill>
                <a:latin typeface="Impact"/>
              </a:rPr>
              <a:t>every day / month / year</a:t>
            </a: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wi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hree times a day/week/month/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the morning / evening / aftern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t night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lways/usually/often/sometimes/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 Monday/Thursday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July / August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8 Rectángulo"/>
          <p:cNvSpPr/>
          <p:nvPr/>
        </p:nvSpPr>
        <p:spPr>
          <a:xfrm>
            <a:off x="2627280" y="90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Present Continuous for Action at the Moment"/>
          <p:cNvPicPr/>
          <p:nvPr/>
        </p:nvPicPr>
        <p:blipFill>
          <a:blip r:embed="rId2"/>
          <a:stretch/>
        </p:blipFill>
        <p:spPr>
          <a:xfrm>
            <a:off x="3132000" y="2168640"/>
            <a:ext cx="3816360" cy="27003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Present Progressive / Continuous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4 CuadroTexto"/>
          <p:cNvSpPr/>
          <p:nvPr/>
        </p:nvSpPr>
        <p:spPr>
          <a:xfrm>
            <a:off x="2234880" y="1484280"/>
            <a:ext cx="54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an action that is happening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at the moment of spea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http://imagenes.mailxmail.com/cursos/imagenes/3/0/the-present-continuous-tense_11103_3_1.gif"/>
          <p:cNvPicPr/>
          <p:nvPr/>
        </p:nvPicPr>
        <p:blipFill>
          <a:blip r:embed="rId3"/>
          <a:stretch/>
        </p:blipFill>
        <p:spPr>
          <a:xfrm>
            <a:off x="2484360" y="4437000"/>
            <a:ext cx="6480360" cy="2365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ttp://images.mylot.com/userImages/images/postphotos/2269633.gif"/>
          <p:cNvPicPr/>
          <p:nvPr/>
        </p:nvPicPr>
        <p:blipFill>
          <a:blip r:embed="rId4"/>
          <a:stretch/>
        </p:blipFill>
        <p:spPr>
          <a:xfrm>
            <a:off x="7164360" y="2479680"/>
            <a:ext cx="1465200" cy="1552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http://www.graphicsfactory.com/clip-art/image_files/tn_image/7/1329317-tn_talk.jpg"/>
          <p:cNvPicPr/>
          <p:nvPr/>
        </p:nvPicPr>
        <p:blipFill>
          <a:blip r:embed="rId5"/>
          <a:stretch/>
        </p:blipFill>
        <p:spPr>
          <a:xfrm>
            <a:off x="2124000" y="2997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2 Subtítulo" descr=""/>
          <p:cNvPicPr/>
          <p:nvPr/>
        </p:nvPicPr>
        <p:blipFill>
          <a:blip r:embed="rId2"/>
          <a:stretch/>
        </p:blipFill>
        <p:spPr>
          <a:xfrm>
            <a:off x="2316240" y="1006560"/>
            <a:ext cx="758988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5 Rectángulo"/>
          <p:cNvSpPr/>
          <p:nvPr/>
        </p:nvSpPr>
        <p:spPr>
          <a:xfrm>
            <a:off x="2700360" y="141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6 Rectángulo"/>
          <p:cNvSpPr/>
          <p:nvPr/>
        </p:nvSpPr>
        <p:spPr>
          <a:xfrm>
            <a:off x="3318840" y="2349360"/>
            <a:ext cx="466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right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at the mo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26:26Z</dcterms:created>
  <dc:creator>K@rly</dc:creator>
  <dc:description/>
  <dc:language>en-US</dc:language>
  <cp:lastModifiedBy>A van Schijndel</cp:lastModifiedBy>
  <dcterms:modified xsi:type="dcterms:W3CDTF">2014-12-19T10:29:08Z</dcterms:modified>
  <cp:revision>7</cp:revision>
  <dc:subject/>
  <dc:title>SIMPLE  PRESENT  TENSE</dc:title>
</cp:coreProperties>
</file>