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0C4-38A7-4D00-8898-7077300B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3D9-4A91-42CD-943F-36A1A56C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A0C-41C5-4A69-BD92-573877B5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4A3-63D4-43E8-9BDD-4C1C2DCB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97FD-7B59-4507-A99F-80BE129A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9F7C-BEF3-4E4F-B6A3-4F06248A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6EC8-8669-49C9-BAF4-042CCCD4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9F5C-EA1D-4536-973A-3F2A90CC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1A03-2586-4DE7-8B19-1F010E74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D5C0-E104-4BAB-BB6A-1B0AE53C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19B9-615B-42F0-8D11-6903BCFD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4D9-4B6A-4685-A46C-EC16B776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2547-04A8-48FA-AD99-690F2AC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C4C5-01AF-47EC-9561-87199ECC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30DB-6E3E-467A-A3C0-A4A3F92D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49A4-65CD-4618-A3FD-6CE0718C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4830-B74E-4BA4-ADBA-0F723A38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A385A-7B61-49D9-8089-751318C4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06B16-1313-44A8-866F-AFD6AF70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57824-FC54-422D-93FA-D83A2794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98DFD-2D4B-4286-9227-5799A6BE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A36F9-4BA0-4301-B6D9-DA2D1792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1A8-5A58-494E-A99F-0C215204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3E6A8-4023-4D02-81D4-73E76935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ADC88-076C-45BE-8460-126CFE67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0DD82-FEEB-4778-A300-60BE1E4E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6FF85-8CF6-4805-AFE9-CB5ACB9A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55DEA-E46E-40FB-8481-1670B860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7DDB4-9526-4E7E-88EC-E765FFCC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10059-231E-4D19-845A-27637123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1A45-D97C-4AC9-B36A-97C730A6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454B6-E5EB-4BC1-B0C1-B2C4ABA9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5960A-AEA9-45CA-BA1C-ABC6D089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50A-61F9-44B3-8E5C-E41D0B9E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74A86-0704-4580-B3A0-BEFA4643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0A3E6-5D93-4AAB-8248-C95491A9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506D-ED42-48F3-B9EE-F08BE849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2D23-021E-4625-A3AD-1B142567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1F586-8BFC-43C9-ABFD-2BE91835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7F5FA-DA08-4BD8-B4C7-E688C870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77DC-F4E8-4BF1-AD04-595F3CD6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A878-9D31-4D9C-B1EE-48213F48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99D25-DCB4-4826-BD3B-2925B6BF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A162D-4AB4-4527-8F63-40D19CFB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AE1-B8A6-4248-BEF3-02732870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3298F-6D2B-4893-A3AA-159D247E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3945A-ED5C-41B2-9466-9879799A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150B1-5D69-4F66-B0BB-659136E2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5AE04-C1F0-4C2F-A337-0D0BC4E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F82AD-B5A6-485A-B014-5A75BFF0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87475-5007-459B-86E1-5F727045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2F715-A2CB-46D0-9D21-D5F16960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ED1C3-3956-4042-9FC0-E61689F1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A880F-7359-4ECC-831E-9699974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51B70-4E5A-4446-8527-435DEF3B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F33-4D99-403E-AD09-973DCF54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6CDFF-88DB-4C49-AB1A-BAE3406D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77A1A-8DFB-42CE-8E85-7C2A2BA1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8DAB5-3092-409F-A94F-9C51F95E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9FCE6-272F-4B27-BF49-D88997C3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F5DEC-42C3-4DEA-AA7C-185C6FBD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F21E3-111B-43E0-AECB-808BD7F0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FA8BE-E3E2-45A3-A591-00315E93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15E89-1DB8-4495-BCC8-23CF8E59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FF53D-76FA-4984-9989-F7CBDA9F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933E5-2CD9-4E71-96E1-01AD96F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922-7E27-4A22-85B9-A62ACB59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C4CCC-3931-4534-81D9-5A6367C0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69F2C-00F1-44DA-A0E3-3D0B7172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FE7E2-6B83-4933-A50B-5FDE87E0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83EBC-375D-438C-AF54-F6329D36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688A6-B52B-4C94-B7E0-05BEE091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BFAF5-64C4-42E9-8B20-ACEF0B7E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71ED6-5CB4-4361-A545-8980E8E8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ACFEF6-FC6E-4BC6-8FFE-0B32500C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F3C1F-F834-4FD3-A1FB-6FD21ED1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3F075-5215-45A9-A41D-AE43BF73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A63-7C3F-4767-8243-C0CACCD4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2FE53-3411-4E85-9F26-904F1ACD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2C974-FC9E-4A3A-9D37-284C448C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0ED7F-353C-4F4D-AC05-812731AA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69A8D5-CE13-4DB8-AFE4-C7DCFF4B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4FD70-5C19-4D18-A62A-C64E532B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00F-AD05-48A2-9603-91BECC6F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ECF5-8F1D-4221-9006-D050942994EF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4A3D-75D8-4DF1-BA92-0D744D722F41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4461-7BC0-48CD-B441-602D93C0D247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4B5E-41C9-426C-B9EA-88D60ED0C5ED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8C94-12CF-4ECB-8AC0-805CC8F06043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0F79-F908-4C7C-B691-EFC8DF9FE261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1483-FE40-430E-931F-69D6D1FB4963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Simple Present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54" name="4 CuadroTexto"/>
          <p:cNvSpPr/>
          <p:nvPr/>
        </p:nvSpPr>
        <p:spPr>
          <a:xfrm>
            <a:off x="1972080" y="1844640"/>
            <a:ext cx="59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facts (something that exists or occ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 Rectángulo"/>
          <p:cNvSpPr/>
          <p:nvPr/>
        </p:nvSpPr>
        <p:spPr>
          <a:xfrm>
            <a:off x="2713320" y="266076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This jacket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cost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$85.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I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live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in Ecu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http://www.andreadams.com/assets/watermark%20files/jacket.jpg"/>
          <p:cNvPicPr/>
          <p:nvPr/>
        </p:nvPicPr>
        <p:blipFill>
          <a:blip r:embed="rId2"/>
          <a:stretch/>
        </p:blipFill>
        <p:spPr>
          <a:xfrm>
            <a:off x="5796000" y="2349360"/>
            <a:ext cx="1192320" cy="1224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ttp://blogs.laprovence.com/comptes/La-campagne-presidentielle-americaine/public/dollars.gif"/>
          <p:cNvPicPr/>
          <p:nvPr/>
        </p:nvPicPr>
        <p:blipFill>
          <a:blip r:embed="rId3"/>
          <a:stretch/>
        </p:blipFill>
        <p:spPr>
          <a:xfrm>
            <a:off x="6588000" y="2421000"/>
            <a:ext cx="538200" cy="576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colarebo.files.wordpress.com/2011/04/escudo-ecuador.jpg"/>
          <p:cNvPicPr/>
          <p:nvPr/>
        </p:nvPicPr>
        <p:blipFill>
          <a:blip r:embed="rId4"/>
          <a:stretch/>
        </p:blipFill>
        <p:spPr>
          <a:xfrm>
            <a:off x="4788000" y="3141720"/>
            <a:ext cx="900000" cy="1008000"/>
          </a:xfrm>
          <a:prstGeom prst="rect">
            <a:avLst/>
          </a:prstGeom>
          <a:ln w="0">
            <a:noFill/>
          </a:ln>
        </p:spPr>
      </p:pic>
      <p:sp>
        <p:nvSpPr>
          <p:cNvPr id="359" name="9 CuadroTexto"/>
          <p:cNvSpPr/>
          <p:nvPr/>
        </p:nvSpPr>
        <p:spPr>
          <a:xfrm>
            <a:off x="2125440" y="4294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Actions that happen again a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habits, regular occurences, customs, rout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2712240" y="6383160"/>
            <a:ext cx="34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Pedro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watche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TV every n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0" descr="http://images.mylot.com/userImages/images/postphotos/2269633.gif"/>
          <p:cNvPicPr/>
          <p:nvPr/>
        </p:nvPicPr>
        <p:blipFill>
          <a:blip r:embed="rId5"/>
          <a:stretch/>
        </p:blipFill>
        <p:spPr>
          <a:xfrm>
            <a:off x="7164360" y="5373720"/>
            <a:ext cx="1249560" cy="1322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http://www.englisch-hilfen.de/images/tenses/simple_present1e.jpg"/>
          <p:cNvPicPr/>
          <p:nvPr/>
        </p:nvPicPr>
        <p:blipFill>
          <a:blip r:embed="rId6"/>
          <a:stretch/>
        </p:blipFill>
        <p:spPr>
          <a:xfrm>
            <a:off x="2627280" y="5229360"/>
            <a:ext cx="40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763640" y="1052280"/>
            <a:ext cx="6912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most verb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E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verbs that end i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	</a:t>
            </a:r>
            <a:r>
              <a:rPr b="1" lang="es-EC" sz="2400" spc="-1" strike="noStrike">
                <a:solidFill>
                  <a:srgbClr val="6e84b4"/>
                </a:solidFill>
                <a:latin typeface="Aharoni"/>
                <a:ea typeface="Aharoni"/>
              </a:rPr>
              <a:t>CH  - O  - S  -  SH  -  X  -  Z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wat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d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o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kis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wa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fi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x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- buz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z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http://imagenes.mailxmail.com/cursos/imagenes/3/0/the-simple-present-tense_11103_1_3.gif"/>
          <p:cNvPicPr/>
          <p:nvPr/>
        </p:nvPicPr>
        <p:blipFill>
          <a:blip r:embed="rId2"/>
          <a:stretch/>
        </p:blipFill>
        <p:spPr>
          <a:xfrm>
            <a:off x="2411280" y="3860640"/>
            <a:ext cx="62848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69" name="7 Rectángulo"/>
          <p:cNvSpPr/>
          <p:nvPr/>
        </p:nvSpPr>
        <p:spPr>
          <a:xfrm>
            <a:off x="1728360" y="1684440"/>
            <a:ext cx="7767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b050"/>
                </a:solidFill>
                <a:latin typeface="Impact"/>
              </a:rPr>
              <a:t>every day / month / year</a:t>
            </a: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wi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hree times a day/week/month/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the morning / evening / aftern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t night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lways/usually/often/sometimes/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 Monday/Thursday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July / August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8 Rectángulo"/>
          <p:cNvSpPr/>
          <p:nvPr/>
        </p:nvSpPr>
        <p:spPr>
          <a:xfrm>
            <a:off x="2627280" y="90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Present Continuous for Action at the Moment"/>
          <p:cNvPicPr/>
          <p:nvPr/>
        </p:nvPicPr>
        <p:blipFill>
          <a:blip r:embed="rId2"/>
          <a:stretch/>
        </p:blipFill>
        <p:spPr>
          <a:xfrm>
            <a:off x="3132000" y="2168640"/>
            <a:ext cx="3816360" cy="27003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Present Progressive / Continuous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4 CuadroTexto"/>
          <p:cNvSpPr/>
          <p:nvPr/>
        </p:nvSpPr>
        <p:spPr>
          <a:xfrm>
            <a:off x="2234880" y="1484280"/>
            <a:ext cx="54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an action that is happening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at the moment of spea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http://imagenes.mailxmail.com/cursos/imagenes/3/0/the-present-continuous-tense_11103_3_1.gif"/>
          <p:cNvPicPr/>
          <p:nvPr/>
        </p:nvPicPr>
        <p:blipFill>
          <a:blip r:embed="rId3"/>
          <a:stretch/>
        </p:blipFill>
        <p:spPr>
          <a:xfrm>
            <a:off x="2484360" y="4437000"/>
            <a:ext cx="6480360" cy="2365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ttp://images.mylot.com/userImages/images/postphotos/2269633.gif"/>
          <p:cNvPicPr/>
          <p:nvPr/>
        </p:nvPicPr>
        <p:blipFill>
          <a:blip r:embed="rId4"/>
          <a:stretch/>
        </p:blipFill>
        <p:spPr>
          <a:xfrm>
            <a:off x="7164360" y="2479680"/>
            <a:ext cx="1465200" cy="1552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http://www.graphicsfactory.com/clip-art/image_files/tn_image/7/1329317-tn_talk.jpg"/>
          <p:cNvPicPr/>
          <p:nvPr/>
        </p:nvPicPr>
        <p:blipFill>
          <a:blip r:embed="rId5"/>
          <a:stretch/>
        </p:blipFill>
        <p:spPr>
          <a:xfrm>
            <a:off x="2124000" y="2997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2 Subtítulo" descr=""/>
          <p:cNvPicPr/>
          <p:nvPr/>
        </p:nvPicPr>
        <p:blipFill>
          <a:blip r:embed="rId2"/>
          <a:stretch/>
        </p:blipFill>
        <p:spPr>
          <a:xfrm>
            <a:off x="2316240" y="1006560"/>
            <a:ext cx="758988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5 Rectángulo"/>
          <p:cNvSpPr/>
          <p:nvPr/>
        </p:nvSpPr>
        <p:spPr>
          <a:xfrm>
            <a:off x="2700360" y="141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6 Rectángulo"/>
          <p:cNvSpPr/>
          <p:nvPr/>
        </p:nvSpPr>
        <p:spPr>
          <a:xfrm>
            <a:off x="3318840" y="2349360"/>
            <a:ext cx="466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right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at the mo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26:26Z</dcterms:created>
  <dc:creator>K@rly</dc:creator>
  <dc:description/>
  <dc:language>en-US</dc:language>
  <cp:lastModifiedBy>A van Schijndel</cp:lastModifiedBy>
  <dcterms:modified xsi:type="dcterms:W3CDTF">2014-12-19T10:29:08Z</dcterms:modified>
  <cp:revision>7</cp:revision>
  <dc:subject/>
  <dc:title>SIMPLE  PRESENT  TENSE</dc:title>
</cp:coreProperties>
</file>