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D1E-8175-4A48-8B2B-6F19C448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B09-63A7-476C-95D2-EABD6E9E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630C-FFD9-4B7D-86D8-DAE9C898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B9F-958C-4986-9B16-7EE562D2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B5B7-6DB6-420D-8FC7-B3A605D2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16CD-DC80-4181-9C18-66AE6504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3406-E3FE-40FC-8937-957E7213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AB51-07BD-45D0-8416-D4F744EA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67A9-C7E4-478F-8CB4-52FA9C7F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0D04-AF8E-4CC7-A1E4-3E06686B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BAC4-E6A9-4CB5-8C43-9403BF22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F5C2-4046-4F6E-A28A-DEE94CB0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7454-3259-4097-A13B-B6DD3E2D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C2AF-8D5C-4308-8711-595EF92B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828E-724D-48B5-9371-A153A03A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D203-4CA4-4EA6-9413-D09E4BFE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3E34-C022-4C34-B665-F53E3AE7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E5D82-05AF-45BC-9DBB-0415A02A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0B8B9-1617-430E-8B0C-62110015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6F0BE-C6A1-45D1-972E-80C576BE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2D1BF-8909-4F9B-BF74-FDC1C9F2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686C3-3F8E-4E55-A58B-E447C5EB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B8FA-B2F4-4BF0-8D95-83830393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0D37F-81AF-4473-9E65-D535B291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FFACF-04A9-42BA-B8A4-2E0DA447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82B8FD-5A59-4495-A8B1-0BBB0405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C1892-585C-4B44-9ECB-1B7EB4A2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50612-2BB3-4EA5-9A53-B1A0CAD6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CCC20-FF66-434A-8104-7D48EAB2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A7A1F2-2DAC-4344-8D1D-C20904CD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8EDB7-360B-44F4-B92F-7399267A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2E732-3F50-4327-AC2A-C6367E46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7EA77-F976-41D3-9241-544FB255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687-7D66-46BC-A0F5-32F64B2A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E8E60-867B-4A8D-9BBE-F6195F08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F98F3-1981-4CF3-ACAE-97A607B6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53734-69E8-412A-A9FD-8470EAAC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09EF5-C09E-4483-8C6E-A3F22B29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AAD3A-C509-447F-95BC-9E2CC225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0DBEF-732A-404E-8AEC-782750D6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49534-A177-46DB-8DCC-A00C5D1D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0FEBE-11F3-4FB9-BFB5-596724F3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5BCC7-A8F5-42DE-B034-86B5F333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9C5D4D-F975-4AE1-BA8B-3DD4625A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ECD4-AF0A-4930-AC00-AE0ACD05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3ADFD-77F8-4944-A3F0-06A2317A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EB09C0-ACAA-47D4-A866-82E3FB89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735C77-A69A-462E-BEF8-7B0C9D58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02F57-410D-4724-828D-0B26D924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C5A430-85D0-4028-AC8D-B7861280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26468-9E25-42AE-834E-AE8DB0E2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BA0C7-13A6-4ABA-807D-4E19921B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4C9EE1-A509-47AC-A176-F3BD9E25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116A50-9928-4E81-95A3-D49184C0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2ABEEF-6418-44C2-80E0-71EF7A15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F51E-C6B2-4E04-BC33-575CB5EE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BA43B-0905-4701-872B-2684E7FD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45A5AE-8C5F-4D92-BCCD-1B692F48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79C97C-BBA8-4DCF-99B7-9DF51A0A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9333F1-EC1E-406E-8880-B8E671CD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EA8A9E-3F24-4BB1-BC62-216ED8F5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5F560D-8BE8-4F14-8D38-E4B800B9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254977-E557-4696-A54B-12ECD133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5E7935-3FE0-473A-B116-0C41D510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12F255-DDA3-4B13-879C-E40D5189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75788D-CA5A-41A7-984F-D71E20DD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FFB-3C6E-49A4-AA1C-214FE95D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FB347-32FA-4720-A7DC-00ACED0F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2B152B-9A91-4A1C-B013-1F325AD9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6B0CF0-F3BF-4393-98AF-DD3E3B17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DD4182-5FE8-4472-B7C8-CE21BAF4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93B6F6-C331-445E-98CB-C3206556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953073-B5FC-4FB9-B29E-A8933DE3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4A2E3C-2939-4524-965D-4E181253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DD4C9D-D2B0-42CE-8E2E-83B266B1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E64DC1-35A3-47BF-B9E2-5738BF2D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664A9B-0B7C-4BF8-9E12-C82B4613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1F0-634F-4BFA-83FE-4A169308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ECC483-1A15-4EF8-BD2D-D5C06775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6B618D-09B6-486A-AD92-1FF55985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02E64-25C7-4E54-9259-935852B3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74B45-A689-4EB3-A44B-F4A09BB4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693266-8D7B-426D-98C5-FA2F3B4C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B5F-3B79-4DB5-AE13-6BCA9260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F55C-E4E7-4C1C-B411-164A83DFF4E0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F080-6278-47CE-9DF9-20DD5EE22620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4972-5930-4007-8543-394DD800C7E4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3BD4-7EA0-4E1F-BDA9-2DF36B3174F8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5F8F-BDE3-463B-83FF-34447D3D51A4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AE0C-6D3C-4546-B286-EFEAA66FB41E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C27A-ED7F-42C1-BA19-90B2215EBEF7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9a3d01"/>
                </a:solidFill>
                <a:latin typeface="Cooper Black"/>
              </a:rPr>
              <a:t>SIMPLE  PRESENT  TENS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763280" y="1052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e75c01"/>
                </a:solidFill>
                <a:latin typeface="Arial Black"/>
              </a:rPr>
              <a:t>We use Simple Present Tense to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366920" cy="1944720"/>
          </a:xfrm>
          <a:prstGeom prst="rect">
            <a:avLst/>
          </a:prstGeom>
          <a:ln w="0">
            <a:noFill/>
          </a:ln>
        </p:spPr>
      </p:pic>
      <p:sp>
        <p:nvSpPr>
          <p:cNvPr id="354" name="4 CuadroTexto"/>
          <p:cNvSpPr/>
          <p:nvPr/>
        </p:nvSpPr>
        <p:spPr>
          <a:xfrm>
            <a:off x="1972080" y="1844640"/>
            <a:ext cx="59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6211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862110"/>
                </a:solidFill>
                <a:latin typeface="IrisUPC"/>
                <a:ea typeface="IrisUPC"/>
              </a:rPr>
              <a:t>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Talk about facts (something that exists or occ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5 Rectángulo"/>
          <p:cNvSpPr/>
          <p:nvPr/>
        </p:nvSpPr>
        <p:spPr>
          <a:xfrm>
            <a:off x="2713320" y="2660760"/>
            <a:ext cx="27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This jacket </a:t>
            </a:r>
            <a:r>
              <a:rPr b="0" lang="es-EC" sz="1800" spc="-1" strike="noStrike" u="sng">
                <a:solidFill>
                  <a:srgbClr val="675a00"/>
                </a:solidFill>
                <a:uFillTx/>
                <a:latin typeface="Arial Black"/>
              </a:rPr>
              <a:t>costs</a:t>
            </a: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 $85.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I </a:t>
            </a:r>
            <a:r>
              <a:rPr b="0" lang="es-EC" sz="1800" spc="-1" strike="noStrike" u="sng">
                <a:solidFill>
                  <a:srgbClr val="675a00"/>
                </a:solidFill>
                <a:uFillTx/>
                <a:latin typeface="Arial Black"/>
              </a:rPr>
              <a:t>live</a:t>
            </a: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 in Ecu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http://www.andreadams.com/assets/watermark%20files/jacket.jpg"/>
          <p:cNvPicPr/>
          <p:nvPr/>
        </p:nvPicPr>
        <p:blipFill>
          <a:blip r:embed="rId2"/>
          <a:stretch/>
        </p:blipFill>
        <p:spPr>
          <a:xfrm>
            <a:off x="5796000" y="2349360"/>
            <a:ext cx="1192320" cy="1224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http://blogs.laprovence.com/comptes/La-campagne-presidentielle-americaine/public/dollars.gif"/>
          <p:cNvPicPr/>
          <p:nvPr/>
        </p:nvPicPr>
        <p:blipFill>
          <a:blip r:embed="rId3"/>
          <a:stretch/>
        </p:blipFill>
        <p:spPr>
          <a:xfrm>
            <a:off x="6588000" y="2421000"/>
            <a:ext cx="538200" cy="576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http://colarebo.files.wordpress.com/2011/04/escudo-ecuador.jpg"/>
          <p:cNvPicPr/>
          <p:nvPr/>
        </p:nvPicPr>
        <p:blipFill>
          <a:blip r:embed="rId4"/>
          <a:stretch/>
        </p:blipFill>
        <p:spPr>
          <a:xfrm>
            <a:off x="4788000" y="3141720"/>
            <a:ext cx="900000" cy="1008000"/>
          </a:xfrm>
          <a:prstGeom prst="rect">
            <a:avLst/>
          </a:prstGeom>
          <a:ln w="0">
            <a:noFill/>
          </a:ln>
        </p:spPr>
      </p:pic>
      <p:sp>
        <p:nvSpPr>
          <p:cNvPr id="359" name="9 CuadroTexto"/>
          <p:cNvSpPr/>
          <p:nvPr/>
        </p:nvSpPr>
        <p:spPr>
          <a:xfrm>
            <a:off x="2125440" y="4294080"/>
            <a:ext cx="55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6211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862110"/>
                </a:solidFill>
                <a:latin typeface="IrisUPC"/>
                <a:ea typeface="IrisUPC"/>
              </a:rPr>
              <a:t>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Actions that happen again and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     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(habits, regular occurences, customs, rout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2712240" y="6383160"/>
            <a:ext cx="34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Pedro </a:t>
            </a:r>
            <a:r>
              <a:rPr b="0" lang="es-EC" sz="1800" spc="-1" strike="noStrike" u="sng">
                <a:solidFill>
                  <a:srgbClr val="675a00"/>
                </a:solidFill>
                <a:uFillTx/>
                <a:latin typeface="Arial Black"/>
              </a:rPr>
              <a:t>watches</a:t>
            </a: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 TV every n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0" descr="http://images.mylot.com/userImages/images/postphotos/2269633.gif"/>
          <p:cNvPicPr/>
          <p:nvPr/>
        </p:nvPicPr>
        <p:blipFill>
          <a:blip r:embed="rId5"/>
          <a:stretch/>
        </p:blipFill>
        <p:spPr>
          <a:xfrm>
            <a:off x="7164360" y="5373720"/>
            <a:ext cx="1249560" cy="1322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2" descr="http://www.englisch-hilfen.de/images/tenses/simple_present1e.jpg"/>
          <p:cNvPicPr/>
          <p:nvPr/>
        </p:nvPicPr>
        <p:blipFill>
          <a:blip r:embed="rId6"/>
          <a:stretch/>
        </p:blipFill>
        <p:spPr>
          <a:xfrm>
            <a:off x="2627280" y="5229360"/>
            <a:ext cx="4000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9a3d01"/>
                </a:solidFill>
                <a:latin typeface="Cooper Black"/>
              </a:rPr>
              <a:t>SIMPLE  PRESENT  TENS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763640" y="1052280"/>
            <a:ext cx="6912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Add </a:t>
            </a:r>
            <a:r>
              <a:rPr b="1" lang="es-EC" sz="2400" spc="-1" strike="noStrike" u="sng">
                <a:solidFill>
                  <a:srgbClr val="9a3d01"/>
                </a:solidFill>
                <a:uFillTx/>
                <a:latin typeface="Aharoni"/>
                <a:ea typeface="Aharoni"/>
              </a:rPr>
              <a:t>S</a:t>
            </a: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 to most verb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Add </a:t>
            </a:r>
            <a:r>
              <a:rPr b="1" lang="es-EC" sz="2400" spc="-1" strike="noStrike" u="sng">
                <a:solidFill>
                  <a:srgbClr val="9a3d01"/>
                </a:solidFill>
                <a:uFillTx/>
                <a:latin typeface="Aharoni"/>
                <a:ea typeface="Aharoni"/>
              </a:rPr>
              <a:t>ES</a:t>
            </a: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 to verbs that end i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	</a:t>
            </a:r>
            <a:r>
              <a:rPr b="1" lang="es-EC" sz="2400" spc="-1" strike="noStrike">
                <a:solidFill>
                  <a:srgbClr val="6e84b4"/>
                </a:solidFill>
                <a:latin typeface="Aharoni"/>
                <a:ea typeface="Aharoni"/>
              </a:rPr>
              <a:t>CH  - O  - S  -  SH  -  X  -  Z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wat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ch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d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o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kis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s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wa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sh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fi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x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- buz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z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366920" cy="1944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http://imagenes.mailxmail.com/cursos/imagenes/3/0/the-simple-present-tense_11103_1_3.gif"/>
          <p:cNvPicPr/>
          <p:nvPr/>
        </p:nvPicPr>
        <p:blipFill>
          <a:blip r:embed="rId2"/>
          <a:stretch/>
        </p:blipFill>
        <p:spPr>
          <a:xfrm>
            <a:off x="2411280" y="3860640"/>
            <a:ext cx="62848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9a3d01"/>
                </a:solidFill>
                <a:latin typeface="Cooper Black"/>
              </a:rPr>
              <a:t>SIMPLE  PRESENT  TENS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366920" cy="1944720"/>
          </a:xfrm>
          <a:prstGeom prst="rect">
            <a:avLst/>
          </a:prstGeom>
          <a:ln w="0">
            <a:noFill/>
          </a:ln>
        </p:spPr>
      </p:pic>
      <p:sp>
        <p:nvSpPr>
          <p:cNvPr id="369" name="7 Rectángulo"/>
          <p:cNvSpPr/>
          <p:nvPr/>
        </p:nvSpPr>
        <p:spPr>
          <a:xfrm>
            <a:off x="1728360" y="1684440"/>
            <a:ext cx="7767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b050"/>
                </a:solidFill>
                <a:latin typeface="Impact"/>
              </a:rPr>
              <a:t>every day / month / year</a:t>
            </a: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once a day / week / month / year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twice a day / week / month / year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three times a day/week/month/y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in the morning / evening / afterno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at night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always/usually/often/sometimes/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on Monday/Thursday /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in July / August /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8 Rectángulo"/>
          <p:cNvSpPr/>
          <p:nvPr/>
        </p:nvSpPr>
        <p:spPr>
          <a:xfrm>
            <a:off x="2627280" y="90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84b4"/>
                </a:solidFill>
                <a:latin typeface="Aharoni"/>
                <a:ea typeface="Aharoni"/>
              </a:rPr>
              <a:t>TIME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2411280" cy="1689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Present Continuous for Action at the Moment"/>
          <p:cNvPicPr/>
          <p:nvPr/>
        </p:nvPicPr>
        <p:blipFill>
          <a:blip r:embed="rId2"/>
          <a:stretch/>
        </p:blipFill>
        <p:spPr>
          <a:xfrm>
            <a:off x="3132000" y="2168640"/>
            <a:ext cx="3816360" cy="27003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9a3d01"/>
                </a:solidFill>
                <a:latin typeface="Cooper Black"/>
              </a:rPr>
              <a:t>PRESENT   PROGRESSIVE   TEN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763280" y="1052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e75c01"/>
                </a:solidFill>
                <a:latin typeface="Arial Black"/>
              </a:rPr>
              <a:t>We use Present Progressive / Continuous Tense to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4 CuadroTexto"/>
          <p:cNvSpPr/>
          <p:nvPr/>
        </p:nvSpPr>
        <p:spPr>
          <a:xfrm>
            <a:off x="2234880" y="1484280"/>
            <a:ext cx="54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6211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862110"/>
                </a:solidFill>
                <a:latin typeface="IrisUPC"/>
                <a:ea typeface="IrisUPC"/>
              </a:rPr>
              <a:t>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Talk about an action that is happening n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      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(at the moment of speak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4" descr="http://imagenes.mailxmail.com/cursos/imagenes/3/0/the-present-continuous-tense_11103_3_1.gif"/>
          <p:cNvPicPr/>
          <p:nvPr/>
        </p:nvPicPr>
        <p:blipFill>
          <a:blip r:embed="rId3"/>
          <a:stretch/>
        </p:blipFill>
        <p:spPr>
          <a:xfrm>
            <a:off x="2484360" y="4437000"/>
            <a:ext cx="6480360" cy="2365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http://images.mylot.com/userImages/images/postphotos/2269633.gif"/>
          <p:cNvPicPr/>
          <p:nvPr/>
        </p:nvPicPr>
        <p:blipFill>
          <a:blip r:embed="rId4"/>
          <a:stretch/>
        </p:blipFill>
        <p:spPr>
          <a:xfrm>
            <a:off x="7164360" y="2479680"/>
            <a:ext cx="1465200" cy="1552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http://www.graphicsfactory.com/clip-art/image_files/tn_image/7/1329317-tn_talk.jpg"/>
          <p:cNvPicPr/>
          <p:nvPr/>
        </p:nvPicPr>
        <p:blipFill>
          <a:blip r:embed="rId5"/>
          <a:stretch/>
        </p:blipFill>
        <p:spPr>
          <a:xfrm>
            <a:off x="2124000" y="29973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2411280" cy="16891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9a3d01"/>
                </a:solidFill>
                <a:latin typeface="Cooper Black"/>
              </a:rPr>
              <a:t>PRESENT   PROGRESSIVE   TEN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2 Subtítulo" descr=""/>
          <p:cNvPicPr/>
          <p:nvPr/>
        </p:nvPicPr>
        <p:blipFill>
          <a:blip r:embed="rId2"/>
          <a:stretch/>
        </p:blipFill>
        <p:spPr>
          <a:xfrm>
            <a:off x="2316240" y="1006560"/>
            <a:ext cx="758988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2411280" cy="16891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9a3d01"/>
                </a:solidFill>
                <a:latin typeface="Cooper Black"/>
              </a:rPr>
              <a:t>PRESENT   PROGRESSIVE   TEN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5 Rectángulo"/>
          <p:cNvSpPr/>
          <p:nvPr/>
        </p:nvSpPr>
        <p:spPr>
          <a:xfrm>
            <a:off x="2700360" y="141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e84b4"/>
                </a:solidFill>
                <a:latin typeface="Aharoni"/>
                <a:ea typeface="Aharoni"/>
              </a:rPr>
              <a:t>TIME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6 Rectángulo"/>
          <p:cNvSpPr/>
          <p:nvPr/>
        </p:nvSpPr>
        <p:spPr>
          <a:xfrm>
            <a:off x="3318840" y="2349360"/>
            <a:ext cx="466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800" spc="-1" strike="noStrike">
                <a:solidFill>
                  <a:srgbClr val="00b050"/>
                </a:solidFill>
                <a:latin typeface="Impact"/>
              </a:rPr>
              <a:t>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800" spc="-1" strike="noStrike">
                <a:solidFill>
                  <a:srgbClr val="00b050"/>
                </a:solidFill>
                <a:latin typeface="Impact"/>
              </a:rPr>
              <a:t>right 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800" spc="-1" strike="noStrike">
                <a:solidFill>
                  <a:srgbClr val="00b050"/>
                </a:solidFill>
                <a:latin typeface="Impact"/>
              </a:rPr>
              <a:t>at the mo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9:26:26Z</dcterms:created>
  <dc:creator>K@rly</dc:creator>
  <dc:description/>
  <dc:language>en-US</dc:language>
  <cp:lastModifiedBy>A van Schijndel</cp:lastModifiedBy>
  <dcterms:modified xsi:type="dcterms:W3CDTF">2014-12-19T10:29:08Z</dcterms:modified>
  <cp:revision>7</cp:revision>
  <dc:subject/>
  <dc:title>SIMPLE  PRESENT  TENSE</dc:title>
</cp:coreProperties>
</file>