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F82-5F95-471D-9AED-9E6DA24A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550-159C-4988-A925-0FAF6F2B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ED5-919B-4D32-B848-8F613CD8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29E-A2E4-4EFF-A7E5-4D7B462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4E6-F98E-41E4-8641-B21E96D4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876-E1EC-4659-8C05-F0F95785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94E-1C28-4316-ACD2-6D22EE8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BD0-9D70-4897-8413-5053EED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10F-2781-40AF-8C8C-4CFABB5A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5CF-8F6A-4E4E-B120-542E073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5A0-1BCC-453D-B538-94B7906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8F3-7E2C-4B36-9610-C32E7E2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A3FF-9DD0-426E-89F9-C44F96A77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cronym_l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Broadcasting Compan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bc-logo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cd-tv"/>
          <p:cNvPicPr/>
          <p:nvPr/>
        </p:nvPicPr>
        <p:blipFill>
          <a:blip r:embed="rId1"/>
          <a:stretch/>
        </p:blipFill>
        <p:spPr>
          <a:xfrm>
            <a:off x="2057400" y="1143000"/>
            <a:ext cx="51436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ideo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lv-to-dvd-converter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ml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utomated Teller Mach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TM"/>
          <p:cNvPicPr/>
          <p:nvPr/>
        </p:nvPicPr>
        <p:blipFill>
          <a:blip r:embed="rId2"/>
          <a:stretch/>
        </p:blipFill>
        <p:spPr>
          <a:xfrm>
            <a:off x="2057400" y="1295280"/>
            <a:ext cx="5210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Save Our Soul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ish Broadcasting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BC_WorldNews%20Logo"/>
          <p:cNvPicPr/>
          <p:nvPr/>
        </p:nvPicPr>
        <p:blipFill>
          <a:blip r:embed="rId1"/>
          <a:stretch/>
        </p:blipFill>
        <p:spPr>
          <a:xfrm>
            <a:off x="1143000" y="1488960"/>
            <a:ext cx="71629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important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05135629VIP"/>
          <p:cNvPicPr/>
          <p:nvPr/>
        </p:nvPicPr>
        <p:blipFill>
          <a:blip r:embed="rId1"/>
          <a:stretch/>
        </p:blipFill>
        <p:spPr>
          <a:xfrm>
            <a:off x="1523880" y="2022480"/>
            <a:ext cx="6096240" cy="483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nesco23"/>
          <p:cNvPicPr/>
          <p:nvPr/>
        </p:nvPicPr>
        <p:blipFill>
          <a:blip r:embed="rId1"/>
          <a:stretch/>
        </p:blipFill>
        <p:spPr>
          <a:xfrm>
            <a:off x="2666880" y="19810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ed Nations                         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UNDP"/>
          <p:cNvPicPr/>
          <p:nvPr/>
        </p:nvPicPr>
        <p:blipFill>
          <a:blip r:embed="rId1"/>
          <a:stretch/>
        </p:blipFill>
        <p:spPr>
          <a:xfrm>
            <a:off x="0" y="0"/>
            <a:ext cx="2811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rth Atlantic Treat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NATO_flag"/>
          <p:cNvPicPr/>
          <p:nvPr/>
        </p:nvPicPr>
        <p:blipFill>
          <a:blip r:embed="rId1"/>
          <a:stretch/>
        </p:blipFill>
        <p:spPr>
          <a:xfrm>
            <a:off x="11430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Union Rule of Law Mission in Kos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ULEX_logo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5:57:56Z</dcterms:created>
  <dc:creator>Customer</dc:creator>
  <dc:description/>
  <dc:language>en-US</dc:language>
  <cp:lastModifiedBy>A van Schijndel</cp:lastModifiedBy>
  <dcterms:modified xsi:type="dcterms:W3CDTF">2014-12-17T14:25:17Z</dcterms:modified>
  <cp:revision>4</cp:revision>
  <dc:subject/>
  <dc:title>Acronyms</dc:title>
</cp:coreProperties>
</file>