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8113-5981-4B09-BB8B-873A559A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7B3A-C0DE-46DA-BB47-5A262936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8A60-95AE-42BA-A34A-33D0DE2A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7F21-8F97-4514-AC1C-802BF101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87D0-FFC0-4694-8DEE-2F10A5E28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B184-1D07-418C-BED6-3486B5DC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2EB0-2B82-4AE6-8F31-7DC74F6B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1DEA-4C9D-4E01-834E-46A51B44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FEA3-1D7F-4686-A257-261D1443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D050-29D6-48AB-A964-A83A4C59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BA6C-50BD-4DA5-8BCD-CD59DA8E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F47A-FEC1-4212-8F59-DD98F4A6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AF36-985E-479F-9C7E-B56A33B9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7751-A445-4786-9077-AEDD7966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3971-5A1F-47ED-9350-AA330BF6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BC8B-567B-4979-9F99-AF821F91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E3B6-8E3C-4646-A04E-F30468A8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28784F-C906-46B3-91D9-6123966C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E9A878-B033-42D6-81CB-BE8A01E8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231EB-5263-4250-9EC5-4242E3B1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10D44-3931-485A-8DB2-69722792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D5734F-8F5F-4CF9-82C4-281F45BD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536F-96CA-42BF-AEC0-3E1FAA9F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BCA377-93CD-482B-B75B-F5298D0E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DE54C-9AAE-4B2F-9790-0BFD081D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2C7605-5491-4EE9-A0EC-AD88CA38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F53A7A-435B-4E07-95CE-080F6741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E4AEAF-6C69-41A8-9B32-C2417E2B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B880F-C307-4D29-9EFF-2ADD2C30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44384D-28E9-425E-B4EC-2761B46A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688FC-9EB9-438F-A5A7-BF2F075F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5779D-5891-488E-853F-7873C118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998D9-0C0A-4442-BD80-49031E22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A28D-8E10-480C-AAFD-D9BD5E7E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CFA15-599E-426B-A974-88F552EE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2F36D-FACC-4AA0-A456-D9763F9C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E8223-DF49-4173-9F18-C42E9E34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94701-D2FB-486E-B58B-858855C1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97472-296A-4F4D-82DF-01970F8E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082FA-920A-4440-8A14-F2BFEE68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72D98-2131-4652-A83F-633D63B3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BD08E-A3E8-4A71-8834-F63492D4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7D5AF-EF54-4D7A-98F8-2BE764B5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8159AC-1CC8-46EA-8025-DF549A1C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F6AE-737E-4D9D-99B6-060C5854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D03917-F90B-4E78-A74F-27FCC20A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F6B5A9-C31C-414C-A13D-3ADDEE53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CA14FC-A742-4603-8CA2-6321A8BF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16286D-18CD-47E8-9397-D33EBB25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EE785B-3C1F-46EB-84EE-4F66481E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C4B195-E40F-4D7E-9A49-6AA1041C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0FF569-79E6-4E95-9949-A7EB00D4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5C927F-9D80-4833-AD47-C4C544EA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9C454B-7DFC-48C8-AAFD-6AEBD936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E5F657-B97D-42C3-B74D-7413CDBC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D40C-B091-46AE-93F0-51AAA22A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C8C690-8145-4247-BD49-C6C5CA70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8DCB7B-83C4-458F-928F-98E690E5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01F7C0-6FC0-47D7-AD71-F80FAF9A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1F4D56-D283-4A5D-8218-C622B391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9A8993-CD37-4FC9-AF37-827FBB4B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1CC99D-EC87-4B93-84CE-C595841E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FD55F5-C8FA-403A-AD62-2775BC45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31FEFF-929F-47D9-A727-A692F28A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5BDF28-7339-4BAA-94E6-7FAC0C5E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D35FF5-17F5-4DB0-9125-4661A5B0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D1DA-1813-4E03-89C9-0483EA09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F1C489-25D3-4EDC-B8E6-818DA5D2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F4BD21-F128-4B7D-9332-862F1C02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A7C708-DFD8-45BF-B11E-E808BEA3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79CFF7-20F8-49AD-9CCC-54E7C3F7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38CE54-9FEB-4A9F-A28D-5BF3484E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AFCDD4-05F5-4E17-8441-F84ABB2D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4DD2B1-EB2A-40C9-B5EB-5C7E671B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CF3707-F057-4F6C-B202-04467B22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608A44-3CDF-4B4E-838C-DDDDF81F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97F548-2B59-4A4F-B804-DAA8F42A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A69A-1B20-49C0-A3B4-CDABABC8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C26077-FD89-4F13-94A3-E64B8FC3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CEE975-5497-4719-AC81-C51FACFF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9E8E9F-4201-4E5C-9561-C394FCE9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92F225-BEAF-4D44-A582-D0881C42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D576CF-D8B6-4268-B4B3-BC3E83F5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74F0-4FAC-4E9F-8056-7507004B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745A-7E75-45A3-997A-DCAC5FC3CE81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E7B0-E1AA-4334-B87C-ABAF0FA84FDB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A387-6F44-4D59-8FBD-625DE7FD338A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5601-0C7F-4209-8832-90F1CA0BAFF0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8E23-07C9-47F2-9CAD-F2EE710FCD98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B772-F250-42B2-93DA-5967B001610C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8B86-7601-48BB-95F4-0E8E5EC6A2DE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9a3d01"/>
                </a:solidFill>
                <a:latin typeface="Cooper Black"/>
              </a:rPr>
              <a:t>SIMPLE  PRESENT  TENSE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763280" y="1052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e75c01"/>
                </a:solidFill>
                <a:latin typeface="Arial Black"/>
              </a:rPr>
              <a:t>We use Simple Present Tense to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1366920" cy="1944720"/>
          </a:xfrm>
          <a:prstGeom prst="rect">
            <a:avLst/>
          </a:prstGeom>
          <a:ln w="0">
            <a:noFill/>
          </a:ln>
        </p:spPr>
      </p:pic>
      <p:sp>
        <p:nvSpPr>
          <p:cNvPr id="354" name="4 CuadroTexto"/>
          <p:cNvSpPr/>
          <p:nvPr/>
        </p:nvSpPr>
        <p:spPr>
          <a:xfrm>
            <a:off x="1972080" y="1844640"/>
            <a:ext cx="594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6211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862110"/>
                </a:solidFill>
                <a:latin typeface="IrisUPC"/>
                <a:ea typeface="IrisUPC"/>
              </a:rPr>
              <a:t> </a:t>
            </a: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Talk about facts (something that exists or occ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5 Rectángulo"/>
          <p:cNvSpPr/>
          <p:nvPr/>
        </p:nvSpPr>
        <p:spPr>
          <a:xfrm>
            <a:off x="2713320" y="2660760"/>
            <a:ext cx="27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This jacket </a:t>
            </a:r>
            <a:r>
              <a:rPr b="0" lang="es-EC" sz="1800" spc="-1" strike="noStrike" u="sng">
                <a:solidFill>
                  <a:srgbClr val="675a00"/>
                </a:solidFill>
                <a:uFillTx/>
                <a:latin typeface="Arial Black"/>
              </a:rPr>
              <a:t>costs</a:t>
            </a: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 $85.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I </a:t>
            </a:r>
            <a:r>
              <a:rPr b="0" lang="es-EC" sz="1800" spc="-1" strike="noStrike" u="sng">
                <a:solidFill>
                  <a:srgbClr val="675a00"/>
                </a:solidFill>
                <a:uFillTx/>
                <a:latin typeface="Arial Black"/>
              </a:rPr>
              <a:t>live</a:t>
            </a: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 in Ecu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4" descr="http://www.andreadams.com/assets/watermark%20files/jacket.jpg"/>
          <p:cNvPicPr/>
          <p:nvPr/>
        </p:nvPicPr>
        <p:blipFill>
          <a:blip r:embed="rId2"/>
          <a:stretch/>
        </p:blipFill>
        <p:spPr>
          <a:xfrm>
            <a:off x="5796000" y="2349360"/>
            <a:ext cx="1192320" cy="1224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http://blogs.laprovence.com/comptes/La-campagne-presidentielle-americaine/public/dollars.gif"/>
          <p:cNvPicPr/>
          <p:nvPr/>
        </p:nvPicPr>
        <p:blipFill>
          <a:blip r:embed="rId3"/>
          <a:stretch/>
        </p:blipFill>
        <p:spPr>
          <a:xfrm>
            <a:off x="6588000" y="2421000"/>
            <a:ext cx="538200" cy="576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http://colarebo.files.wordpress.com/2011/04/escudo-ecuador.jpg"/>
          <p:cNvPicPr/>
          <p:nvPr/>
        </p:nvPicPr>
        <p:blipFill>
          <a:blip r:embed="rId4"/>
          <a:stretch/>
        </p:blipFill>
        <p:spPr>
          <a:xfrm>
            <a:off x="4788000" y="3141720"/>
            <a:ext cx="900000" cy="1008000"/>
          </a:xfrm>
          <a:prstGeom prst="rect">
            <a:avLst/>
          </a:prstGeom>
          <a:ln w="0">
            <a:noFill/>
          </a:ln>
        </p:spPr>
      </p:pic>
      <p:sp>
        <p:nvSpPr>
          <p:cNvPr id="359" name="9 CuadroTexto"/>
          <p:cNvSpPr/>
          <p:nvPr/>
        </p:nvSpPr>
        <p:spPr>
          <a:xfrm>
            <a:off x="2125440" y="4294080"/>
            <a:ext cx="556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6211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862110"/>
                </a:solidFill>
                <a:latin typeface="IrisUPC"/>
                <a:ea typeface="IrisUPC"/>
              </a:rPr>
              <a:t> </a:t>
            </a: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Actions that happen again and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      </a:t>
            </a: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(habits, regular occurences, customs, rout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10 Rectángulo"/>
          <p:cNvSpPr/>
          <p:nvPr/>
        </p:nvSpPr>
        <p:spPr>
          <a:xfrm>
            <a:off x="2712240" y="6383160"/>
            <a:ext cx="341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Pedro </a:t>
            </a:r>
            <a:r>
              <a:rPr b="0" lang="es-EC" sz="1800" spc="-1" strike="noStrike" u="sng">
                <a:solidFill>
                  <a:srgbClr val="675a00"/>
                </a:solidFill>
                <a:uFillTx/>
                <a:latin typeface="Arial Black"/>
              </a:rPr>
              <a:t>watches</a:t>
            </a: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 TV every n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10" descr="http://images.mylot.com/userImages/images/postphotos/2269633.gif"/>
          <p:cNvPicPr/>
          <p:nvPr/>
        </p:nvPicPr>
        <p:blipFill>
          <a:blip r:embed="rId5"/>
          <a:stretch/>
        </p:blipFill>
        <p:spPr>
          <a:xfrm>
            <a:off x="7164360" y="5373720"/>
            <a:ext cx="1249560" cy="1322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2" descr="http://www.englisch-hilfen.de/images/tenses/simple_present1e.jpg"/>
          <p:cNvPicPr/>
          <p:nvPr/>
        </p:nvPicPr>
        <p:blipFill>
          <a:blip r:embed="rId6"/>
          <a:stretch/>
        </p:blipFill>
        <p:spPr>
          <a:xfrm>
            <a:off x="2627280" y="5229360"/>
            <a:ext cx="4000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9a3d01"/>
                </a:solidFill>
                <a:latin typeface="Cooper Black"/>
              </a:rPr>
              <a:t>SIMPLE  PRESENT  TENSE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763640" y="1052280"/>
            <a:ext cx="6912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3668c4"/>
                </a:solidFill>
                <a:latin typeface="Aharoni"/>
                <a:ea typeface="Aharoni"/>
              </a:rPr>
              <a:t>Add </a:t>
            </a:r>
            <a:r>
              <a:rPr b="1" lang="es-EC" sz="2400" spc="-1" strike="noStrike" u="sng">
                <a:solidFill>
                  <a:srgbClr val="9a3d01"/>
                </a:solidFill>
                <a:uFillTx/>
                <a:latin typeface="Aharoni"/>
                <a:ea typeface="Aharoni"/>
              </a:rPr>
              <a:t>S</a:t>
            </a:r>
            <a:r>
              <a:rPr b="1" lang="es-EC" sz="2400" spc="-1" strike="noStrike">
                <a:solidFill>
                  <a:srgbClr val="3668c4"/>
                </a:solidFill>
                <a:latin typeface="Aharoni"/>
                <a:ea typeface="Aharoni"/>
              </a:rPr>
              <a:t> to most verb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3668c4"/>
                </a:solidFill>
                <a:latin typeface="Aharoni"/>
                <a:ea typeface="Aharoni"/>
              </a:rPr>
              <a:t>Add </a:t>
            </a:r>
            <a:r>
              <a:rPr b="1" lang="es-EC" sz="2400" spc="-1" strike="noStrike" u="sng">
                <a:solidFill>
                  <a:srgbClr val="9a3d01"/>
                </a:solidFill>
                <a:uFillTx/>
                <a:latin typeface="Aharoni"/>
                <a:ea typeface="Aharoni"/>
              </a:rPr>
              <a:t>ES</a:t>
            </a:r>
            <a:r>
              <a:rPr b="1" lang="es-EC" sz="2400" spc="-1" strike="noStrike">
                <a:solidFill>
                  <a:srgbClr val="3668c4"/>
                </a:solidFill>
                <a:latin typeface="Aharoni"/>
                <a:ea typeface="Aharoni"/>
              </a:rPr>
              <a:t> to verbs that end i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3668c4"/>
                </a:solidFill>
                <a:latin typeface="Aharoni"/>
                <a:ea typeface="Aharoni"/>
              </a:rPr>
              <a:t>	</a:t>
            </a:r>
            <a:r>
              <a:rPr b="1" lang="es-EC" sz="2400" spc="-1" strike="noStrike">
                <a:solidFill>
                  <a:srgbClr val="6e84b4"/>
                </a:solidFill>
                <a:latin typeface="Aharoni"/>
                <a:ea typeface="Aharoni"/>
              </a:rPr>
              <a:t>CH  - O  - S  -  SH  -  X  -  Z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wat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chES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– d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oES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– kis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sES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– wa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shES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– fi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xES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- buz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z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1366920" cy="1944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http://imagenes.mailxmail.com/cursos/imagenes/3/0/the-simple-present-tense_11103_1_3.gif"/>
          <p:cNvPicPr/>
          <p:nvPr/>
        </p:nvPicPr>
        <p:blipFill>
          <a:blip r:embed="rId2"/>
          <a:stretch/>
        </p:blipFill>
        <p:spPr>
          <a:xfrm>
            <a:off x="2411280" y="3860640"/>
            <a:ext cx="628488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9a3d01"/>
                </a:solidFill>
                <a:latin typeface="Cooper Black"/>
              </a:rPr>
              <a:t>SIMPLE  PRESENT  TENSE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1366920" cy="1944720"/>
          </a:xfrm>
          <a:prstGeom prst="rect">
            <a:avLst/>
          </a:prstGeom>
          <a:ln w="0">
            <a:noFill/>
          </a:ln>
        </p:spPr>
      </p:pic>
      <p:sp>
        <p:nvSpPr>
          <p:cNvPr id="369" name="7 Rectángulo"/>
          <p:cNvSpPr/>
          <p:nvPr/>
        </p:nvSpPr>
        <p:spPr>
          <a:xfrm>
            <a:off x="1728360" y="1684440"/>
            <a:ext cx="7767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b050"/>
                </a:solidFill>
                <a:latin typeface="Impact"/>
              </a:rPr>
              <a:t>every day / month / year</a:t>
            </a: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once a day / week / month / year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twice a day / week / month / year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three times a day/week/month/y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in the morning / evening / afterno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at night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always/usually/often/sometimes/n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on Monday/Thursday /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in July / August /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8 Rectángulo"/>
          <p:cNvSpPr/>
          <p:nvPr/>
        </p:nvSpPr>
        <p:spPr>
          <a:xfrm>
            <a:off x="2627280" y="907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84b4"/>
                </a:solidFill>
                <a:latin typeface="Aharoni"/>
                <a:ea typeface="Aharoni"/>
              </a:rPr>
              <a:t>TIME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5" descr=""/>
          <p:cNvPicPr/>
          <p:nvPr/>
        </p:nvPicPr>
        <p:blipFill>
          <a:blip r:embed="rId1"/>
          <a:stretch/>
        </p:blipFill>
        <p:spPr>
          <a:xfrm>
            <a:off x="0" y="1523880"/>
            <a:ext cx="2411280" cy="1689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Present Continuous for Action at the Moment"/>
          <p:cNvPicPr/>
          <p:nvPr/>
        </p:nvPicPr>
        <p:blipFill>
          <a:blip r:embed="rId2"/>
          <a:stretch/>
        </p:blipFill>
        <p:spPr>
          <a:xfrm>
            <a:off x="3132000" y="2168640"/>
            <a:ext cx="3816360" cy="27003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45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600" spc="-1" strike="noStrike">
                <a:solidFill>
                  <a:srgbClr val="9a3d01"/>
                </a:solidFill>
                <a:latin typeface="Cooper Black"/>
              </a:rPr>
              <a:t>PRESENT   PROGRESSIVE   TENS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763280" y="1052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e75c01"/>
                </a:solidFill>
                <a:latin typeface="Arial Black"/>
              </a:rPr>
              <a:t>We use Present Progressive / Continuous Tense to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4 CuadroTexto"/>
          <p:cNvSpPr/>
          <p:nvPr/>
        </p:nvSpPr>
        <p:spPr>
          <a:xfrm>
            <a:off x="2234880" y="1484280"/>
            <a:ext cx="54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6211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862110"/>
                </a:solidFill>
                <a:latin typeface="IrisUPC"/>
                <a:ea typeface="IrisUPC"/>
              </a:rPr>
              <a:t> </a:t>
            </a: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Talk about an action that is happening n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       </a:t>
            </a: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(at the moment of speak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4" descr="http://imagenes.mailxmail.com/cursos/imagenes/3/0/the-present-continuous-tense_11103_3_1.gif"/>
          <p:cNvPicPr/>
          <p:nvPr/>
        </p:nvPicPr>
        <p:blipFill>
          <a:blip r:embed="rId3"/>
          <a:stretch/>
        </p:blipFill>
        <p:spPr>
          <a:xfrm>
            <a:off x="2484360" y="4437000"/>
            <a:ext cx="6480360" cy="2365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0" descr="http://images.mylot.com/userImages/images/postphotos/2269633.gif"/>
          <p:cNvPicPr/>
          <p:nvPr/>
        </p:nvPicPr>
        <p:blipFill>
          <a:blip r:embed="rId4"/>
          <a:stretch/>
        </p:blipFill>
        <p:spPr>
          <a:xfrm>
            <a:off x="7164360" y="2479680"/>
            <a:ext cx="1465200" cy="15526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http://www.graphicsfactory.com/clip-art/image_files/tn_image/7/1329317-tn_talk.jpg"/>
          <p:cNvPicPr/>
          <p:nvPr/>
        </p:nvPicPr>
        <p:blipFill>
          <a:blip r:embed="rId5"/>
          <a:stretch/>
        </p:blipFill>
        <p:spPr>
          <a:xfrm>
            <a:off x="2124000" y="29973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5" descr=""/>
          <p:cNvPicPr/>
          <p:nvPr/>
        </p:nvPicPr>
        <p:blipFill>
          <a:blip r:embed="rId1"/>
          <a:stretch/>
        </p:blipFill>
        <p:spPr>
          <a:xfrm>
            <a:off x="0" y="1523880"/>
            <a:ext cx="2411280" cy="16891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45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600" spc="-1" strike="noStrike">
                <a:solidFill>
                  <a:srgbClr val="9a3d01"/>
                </a:solidFill>
                <a:latin typeface="Cooper Black"/>
              </a:rPr>
              <a:t>PRESENT   PROGRESSIVE   TENS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1" name="2 Subtítulo" descr=""/>
          <p:cNvPicPr/>
          <p:nvPr/>
        </p:nvPicPr>
        <p:blipFill>
          <a:blip r:embed="rId2"/>
          <a:stretch/>
        </p:blipFill>
        <p:spPr>
          <a:xfrm>
            <a:off x="2316240" y="1006560"/>
            <a:ext cx="758988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5" descr=""/>
          <p:cNvPicPr/>
          <p:nvPr/>
        </p:nvPicPr>
        <p:blipFill>
          <a:blip r:embed="rId1"/>
          <a:stretch/>
        </p:blipFill>
        <p:spPr>
          <a:xfrm>
            <a:off x="0" y="1523880"/>
            <a:ext cx="2411280" cy="168912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45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600" spc="-1" strike="noStrike">
                <a:solidFill>
                  <a:srgbClr val="9a3d01"/>
                </a:solidFill>
                <a:latin typeface="Cooper Black"/>
              </a:rPr>
              <a:t>PRESENT   PROGRESSIVE   TENS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5 Rectángulo"/>
          <p:cNvSpPr/>
          <p:nvPr/>
        </p:nvSpPr>
        <p:spPr>
          <a:xfrm>
            <a:off x="2700360" y="141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e84b4"/>
                </a:solidFill>
                <a:latin typeface="Aharoni"/>
                <a:ea typeface="Aharoni"/>
              </a:rPr>
              <a:t>TIME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6 Rectángulo"/>
          <p:cNvSpPr/>
          <p:nvPr/>
        </p:nvSpPr>
        <p:spPr>
          <a:xfrm>
            <a:off x="3318840" y="2349360"/>
            <a:ext cx="466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800" spc="-1" strike="noStrike">
                <a:solidFill>
                  <a:srgbClr val="00b050"/>
                </a:solidFill>
                <a:latin typeface="Impact"/>
              </a:rPr>
              <a:t>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800" spc="-1" strike="noStrike">
                <a:solidFill>
                  <a:srgbClr val="00b050"/>
                </a:solidFill>
                <a:latin typeface="Impact"/>
              </a:rPr>
              <a:t>right 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800" spc="-1" strike="noStrike">
                <a:solidFill>
                  <a:srgbClr val="00b050"/>
                </a:solidFill>
                <a:latin typeface="Impact"/>
              </a:rPr>
              <a:t>at the mo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19:26:26Z</dcterms:created>
  <dc:creator>K@rly</dc:creator>
  <dc:description/>
  <dc:language>en-US</dc:language>
  <cp:lastModifiedBy>A van Schijndel</cp:lastModifiedBy>
  <dcterms:modified xsi:type="dcterms:W3CDTF">2014-12-19T10:29:08Z</dcterms:modified>
  <cp:revision>7</cp:revision>
  <dc:subject/>
  <dc:title>SIMPLE  PRESENT  TENSE</dc:title>
</cp:coreProperties>
</file>