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82E2-4507-44A2-AAAB-5C28554EF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BCF2-38A4-400C-A469-8ABC0098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5946-0360-4817-910D-579D3CB45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F66A-7054-4E02-88C6-E12216677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B3B5-8B61-4B8A-89D7-DFBB4AFC4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4527-1190-4EF4-A3B1-4A00BC35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F09C-B7ED-4392-BD1E-AFEB2E38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3EF0-03E2-472E-BBC5-4A98DB28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F6FA-0FD7-4B0D-9A96-9D0A4AA1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3B965-B6E5-4287-B7FE-0EE0D5C2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10DCA-F9EB-4C28-96C8-FFE7481D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D69F-6B53-40D7-952A-0564614B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8FC2-F85C-4437-8937-22AC9F9F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C6A03-6BD5-4A64-BB33-5E7B78D0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9977-4BD2-4C6A-8E24-C1883A53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FA83-6ABC-4B83-9B26-ECFAD02C4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D7C8-AE42-4EDA-8CF5-1087925DA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7A3EC3-8D23-461F-BD2A-79C193F89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1DF103-F446-4BD6-B189-A19DB88F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CF9343-2970-4C3C-A4F2-61A20CB0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9ADD67-73EE-43AF-84E7-74F88B2A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A02043-1DD0-4C64-87FC-6CF46EC5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2D88-55EF-408F-949F-F6D4C3E0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B3CD62-6379-4F77-878E-473616B8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395B1F-3EA0-4463-81A8-2781839D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65B4A8-F84C-4BE3-9284-4E92D339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31492C-8FEA-4003-BA24-15504429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49B8F7-A88F-42A3-935B-999F0C04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27AAF7-283E-439C-AFFA-7748FA943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66531B-7FA2-48B8-9B0D-E4E78ECB9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3A184-DD18-4FC6-8BFE-2E1823798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045A5-AF21-4A0E-94D0-3749FF2A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38E32-4614-43A8-8102-7D93DDB5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9DD3-4C37-4DE9-97CC-A24CE7BA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13D4A-6C9A-4960-ACE6-0A969436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87DBE-FF63-402C-82D6-CEAE1DD6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DEACF-C2D7-471B-B20A-EE4096F8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73FB4-7B8E-451C-8B53-08D31CE8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75FCA-F304-4C93-A476-B35C5B27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1D0EC-445C-45D6-8DE8-8BCD09B8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1506A-63A1-4BF3-831D-D0F57AB0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8097B-3978-45D8-BFEE-EC8ABC678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DF9DA-48E8-45EA-A946-4C38CF487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B9659A-700B-4D00-869C-28A3601C2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9DB4-8DA7-4BF9-8E96-09B8DAD5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CBD606-5F4D-4DA2-B6CC-950E2932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7A2575-E94C-48B3-81CC-C4694E8E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82E288-2EDB-49EB-8AF9-C1B26491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B1AC54-EC19-4FD8-87AC-141F2B47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F036C4-03B7-4B44-B8CA-CF17F6EE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39BBB7-9247-4F5A-8285-A277CDAA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B3F890-0058-467B-9800-19CA03A5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AFF2B7-3343-406C-80C5-FA3281A1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421FCE-62B8-43DD-85CD-92EEAE80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1C88E5-43BD-4863-977C-4F90B010A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5F50-1898-4800-B94E-3C3679BD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60E9B5-8441-4393-A60A-1860C06EA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BF4591-D42C-4141-9CB9-12126FA63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966317-763C-4570-B483-CAA567E4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21DD12-FCB4-4693-94C0-B794BEF1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CE4AE8-1EDD-4368-B8C0-BC387E36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18C7A0-7A87-4674-83DD-BAAF0C5B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F041D9-B01E-487C-AC35-5BC7035A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9D0C73-807C-4422-AF5D-94DFC790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67F89C-FC70-47E0-A422-5D2945A8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0B3435-A2B1-43DC-AA1C-A01EA8EA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42F0-9BE0-4E33-B3FA-97C19A2F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2C4D3D-288F-411A-A8B0-B2A83F71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E5D063-8BA6-48B5-8C38-AE9BBFBC6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DB5416-4F74-4403-B0FC-121E50595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E8ABF8-1FC7-41E0-908F-939290094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9192C9-0A9B-48AF-A4D6-78E96141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7DF743-F490-4FEE-A018-5D45FD67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35ED79-8E14-462A-AD9A-6D25402C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38F2FF-F9FF-4594-A392-5827AABA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060D94-4333-4762-BFEC-25A25666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007420-D7E1-46E9-8ECA-7DA29209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4652-76E9-4E08-8C87-A103504C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54317A-BE70-48EE-88FC-6EBE805C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6F0AC7-C963-441B-87ED-3155E947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77CB76-0FE3-4629-B968-5613BBA4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CFEDDA-7C56-404B-A812-3FDFB5908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FE1E1C-4F24-44A6-9A42-9219DAD85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480A-91E5-4FC9-88B2-AA96C308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C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878C-569B-489E-9B0A-C8FFAB9801E8}" type="slidenum">
              <a:rPr b="1" lang="es-EC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6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7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8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9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30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1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2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C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3EEC-B1A3-4C42-9B0B-74DA386885CD}" type="slidenum">
              <a:rPr b="1" lang="es-EC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C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4026-CCA4-4B54-BDCD-AB443211EFCB}" type="slidenum">
              <a:rPr b="1" lang="es-EC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8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0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1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2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C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2F9B-0CCF-4C61-9ACC-B48109BE9CC3}" type="slidenum">
              <a:rPr b="1" lang="es-EC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C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7325-A955-49CB-B8AA-BC53151A5A00}" type="slidenum">
              <a:rPr b="1" lang="es-EC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6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7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C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28AF-74D4-4A0F-AD5F-CDE450EB9BB8}" type="slidenum">
              <a:rPr b="1" lang="es-EC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6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20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3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C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F86F-3F5F-4748-9CCC-1D947F775B00}" type="slidenum">
              <a:rPr b="1" lang="es-EC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5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4400" spc="-1" strike="noStrike">
                <a:solidFill>
                  <a:srgbClr val="9a3d01"/>
                </a:solidFill>
                <a:latin typeface="Cooper Black"/>
              </a:rPr>
              <a:t>SIMPLE  PRESENT  TENSE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763280" y="1052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e75c01"/>
                </a:solidFill>
                <a:latin typeface="Arial Black"/>
              </a:rPr>
              <a:t>We use Simple Present Tense to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1366920" cy="1944720"/>
          </a:xfrm>
          <a:prstGeom prst="rect">
            <a:avLst/>
          </a:prstGeom>
          <a:ln w="0">
            <a:noFill/>
          </a:ln>
        </p:spPr>
      </p:pic>
      <p:sp>
        <p:nvSpPr>
          <p:cNvPr id="354" name="4 CuadroTexto"/>
          <p:cNvSpPr/>
          <p:nvPr/>
        </p:nvSpPr>
        <p:spPr>
          <a:xfrm>
            <a:off x="1972080" y="1844640"/>
            <a:ext cx="594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6211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600" spc="-1" strike="noStrike">
                <a:solidFill>
                  <a:srgbClr val="862110"/>
                </a:solidFill>
                <a:latin typeface="IrisUPC"/>
                <a:ea typeface="IrisUPC"/>
              </a:rPr>
              <a:t> </a:t>
            </a:r>
            <a:r>
              <a:rPr b="0" lang="es-EC" sz="1800" spc="-1" strike="noStrike">
                <a:solidFill>
                  <a:srgbClr val="00b050"/>
                </a:solidFill>
                <a:latin typeface="Segoe UI Semibold"/>
                <a:ea typeface="MingLiU-ExtB"/>
              </a:rPr>
              <a:t>Talk about facts (something that exists or occu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5 Rectángulo"/>
          <p:cNvSpPr/>
          <p:nvPr/>
        </p:nvSpPr>
        <p:spPr>
          <a:xfrm>
            <a:off x="2713320" y="2660760"/>
            <a:ext cx="275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675a00"/>
                </a:solidFill>
                <a:latin typeface="Arial Black"/>
              </a:rPr>
              <a:t>This jacket </a:t>
            </a:r>
            <a:r>
              <a:rPr b="0" lang="es-EC" sz="1800" spc="-1" strike="noStrike" u="sng">
                <a:solidFill>
                  <a:srgbClr val="675a00"/>
                </a:solidFill>
                <a:uFillTx/>
                <a:latin typeface="Arial Black"/>
              </a:rPr>
              <a:t>costs</a:t>
            </a:r>
            <a:r>
              <a:rPr b="0" lang="es-EC" sz="1800" spc="-1" strike="noStrike">
                <a:solidFill>
                  <a:srgbClr val="675a00"/>
                </a:solidFill>
                <a:latin typeface="Arial Black"/>
              </a:rPr>
              <a:t> $85.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675a00"/>
                </a:solidFill>
                <a:latin typeface="Arial Black"/>
              </a:rPr>
              <a:t>I </a:t>
            </a:r>
            <a:r>
              <a:rPr b="0" lang="es-EC" sz="1800" spc="-1" strike="noStrike" u="sng">
                <a:solidFill>
                  <a:srgbClr val="675a00"/>
                </a:solidFill>
                <a:uFillTx/>
                <a:latin typeface="Arial Black"/>
              </a:rPr>
              <a:t>live</a:t>
            </a:r>
            <a:r>
              <a:rPr b="0" lang="es-EC" sz="1800" spc="-1" strike="noStrike">
                <a:solidFill>
                  <a:srgbClr val="675a00"/>
                </a:solidFill>
                <a:latin typeface="Arial Black"/>
              </a:rPr>
              <a:t> in Ecua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4" descr="http://www.andreadams.com/assets/watermark%20files/jacket.jpg"/>
          <p:cNvPicPr/>
          <p:nvPr/>
        </p:nvPicPr>
        <p:blipFill>
          <a:blip r:embed="rId2"/>
          <a:stretch/>
        </p:blipFill>
        <p:spPr>
          <a:xfrm>
            <a:off x="5796000" y="2349360"/>
            <a:ext cx="1192320" cy="12240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6" descr="http://blogs.laprovence.com/comptes/La-campagne-presidentielle-americaine/public/dollars.gif"/>
          <p:cNvPicPr/>
          <p:nvPr/>
        </p:nvPicPr>
        <p:blipFill>
          <a:blip r:embed="rId3"/>
          <a:stretch/>
        </p:blipFill>
        <p:spPr>
          <a:xfrm>
            <a:off x="6588000" y="2421000"/>
            <a:ext cx="538200" cy="5763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8" descr="http://colarebo.files.wordpress.com/2011/04/escudo-ecuador.jpg"/>
          <p:cNvPicPr/>
          <p:nvPr/>
        </p:nvPicPr>
        <p:blipFill>
          <a:blip r:embed="rId4"/>
          <a:stretch/>
        </p:blipFill>
        <p:spPr>
          <a:xfrm>
            <a:off x="4788000" y="3141720"/>
            <a:ext cx="900000" cy="1008000"/>
          </a:xfrm>
          <a:prstGeom prst="rect">
            <a:avLst/>
          </a:prstGeom>
          <a:ln w="0">
            <a:noFill/>
          </a:ln>
        </p:spPr>
      </p:pic>
      <p:sp>
        <p:nvSpPr>
          <p:cNvPr id="359" name="9 CuadroTexto"/>
          <p:cNvSpPr/>
          <p:nvPr/>
        </p:nvSpPr>
        <p:spPr>
          <a:xfrm>
            <a:off x="2125440" y="4294080"/>
            <a:ext cx="556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6211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600" spc="-1" strike="noStrike">
                <a:solidFill>
                  <a:srgbClr val="862110"/>
                </a:solidFill>
                <a:latin typeface="IrisUPC"/>
                <a:ea typeface="IrisUPC"/>
              </a:rPr>
              <a:t> </a:t>
            </a:r>
            <a:r>
              <a:rPr b="0" lang="es-EC" sz="1800" spc="-1" strike="noStrike">
                <a:solidFill>
                  <a:srgbClr val="00b050"/>
                </a:solidFill>
                <a:latin typeface="Segoe UI Semibold"/>
                <a:ea typeface="MingLiU-ExtB"/>
              </a:rPr>
              <a:t>Actions that happen again and ag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b050"/>
                </a:solidFill>
                <a:latin typeface="Segoe UI Semibold"/>
                <a:ea typeface="MingLiU-ExtB"/>
              </a:rPr>
              <a:t>      </a:t>
            </a:r>
            <a:r>
              <a:rPr b="0" lang="es-EC" sz="1800" spc="-1" strike="noStrike">
                <a:solidFill>
                  <a:srgbClr val="00b050"/>
                </a:solidFill>
                <a:latin typeface="Segoe UI Semibold"/>
                <a:ea typeface="MingLiU-ExtB"/>
              </a:rPr>
              <a:t>(habits, regular occurences, customs, routi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10 Rectángulo"/>
          <p:cNvSpPr/>
          <p:nvPr/>
        </p:nvSpPr>
        <p:spPr>
          <a:xfrm>
            <a:off x="2712240" y="6383160"/>
            <a:ext cx="341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675a00"/>
                </a:solidFill>
                <a:latin typeface="Arial Black"/>
              </a:rPr>
              <a:t>Pedro </a:t>
            </a:r>
            <a:r>
              <a:rPr b="0" lang="es-EC" sz="1800" spc="-1" strike="noStrike" u="sng">
                <a:solidFill>
                  <a:srgbClr val="675a00"/>
                </a:solidFill>
                <a:uFillTx/>
                <a:latin typeface="Arial Black"/>
              </a:rPr>
              <a:t>watches</a:t>
            </a:r>
            <a:r>
              <a:rPr b="0" lang="es-EC" sz="1800" spc="-1" strike="noStrike">
                <a:solidFill>
                  <a:srgbClr val="675a00"/>
                </a:solidFill>
                <a:latin typeface="Arial Black"/>
              </a:rPr>
              <a:t> TV every n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10" descr="http://images.mylot.com/userImages/images/postphotos/2269633.gif"/>
          <p:cNvPicPr/>
          <p:nvPr/>
        </p:nvPicPr>
        <p:blipFill>
          <a:blip r:embed="rId5"/>
          <a:stretch/>
        </p:blipFill>
        <p:spPr>
          <a:xfrm>
            <a:off x="7164360" y="5373720"/>
            <a:ext cx="1249560" cy="13222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2" descr="http://www.englisch-hilfen.de/images/tenses/simple_present1e.jpg"/>
          <p:cNvPicPr/>
          <p:nvPr/>
        </p:nvPicPr>
        <p:blipFill>
          <a:blip r:embed="rId6"/>
          <a:stretch/>
        </p:blipFill>
        <p:spPr>
          <a:xfrm>
            <a:off x="2627280" y="5229360"/>
            <a:ext cx="40006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4400" spc="-1" strike="noStrike">
                <a:solidFill>
                  <a:srgbClr val="9a3d01"/>
                </a:solidFill>
                <a:latin typeface="Cooper Black"/>
              </a:rPr>
              <a:t>SIMPLE  PRESENT  TENSE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1763640" y="1052280"/>
            <a:ext cx="69120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3668c4"/>
                </a:solidFill>
                <a:latin typeface="Aharoni"/>
                <a:ea typeface="Aharoni"/>
              </a:rPr>
              <a:t>Add </a:t>
            </a:r>
            <a:r>
              <a:rPr b="1" lang="es-EC" sz="2400" spc="-1" strike="noStrike" u="sng">
                <a:solidFill>
                  <a:srgbClr val="9a3d01"/>
                </a:solidFill>
                <a:uFillTx/>
                <a:latin typeface="Aharoni"/>
                <a:ea typeface="Aharoni"/>
              </a:rPr>
              <a:t>S</a:t>
            </a:r>
            <a:r>
              <a:rPr b="1" lang="es-EC" sz="2400" spc="-1" strike="noStrike">
                <a:solidFill>
                  <a:srgbClr val="3668c4"/>
                </a:solidFill>
                <a:latin typeface="Aharoni"/>
                <a:ea typeface="Aharoni"/>
              </a:rPr>
              <a:t> to most verb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3668c4"/>
                </a:solidFill>
                <a:latin typeface="Aharoni"/>
                <a:ea typeface="Aharoni"/>
              </a:rPr>
              <a:t>Add </a:t>
            </a:r>
            <a:r>
              <a:rPr b="1" lang="es-EC" sz="2400" spc="-1" strike="noStrike" u="sng">
                <a:solidFill>
                  <a:srgbClr val="9a3d01"/>
                </a:solidFill>
                <a:uFillTx/>
                <a:latin typeface="Aharoni"/>
                <a:ea typeface="Aharoni"/>
              </a:rPr>
              <a:t>ES</a:t>
            </a:r>
            <a:r>
              <a:rPr b="1" lang="es-EC" sz="2400" spc="-1" strike="noStrike">
                <a:solidFill>
                  <a:srgbClr val="3668c4"/>
                </a:solidFill>
                <a:latin typeface="Aharoni"/>
                <a:ea typeface="Aharoni"/>
              </a:rPr>
              <a:t> to verbs that end i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3668c4"/>
                </a:solidFill>
                <a:latin typeface="Aharoni"/>
                <a:ea typeface="Aharoni"/>
              </a:rPr>
              <a:t>	</a:t>
            </a:r>
            <a:r>
              <a:rPr b="1" lang="es-EC" sz="2400" spc="-1" strike="noStrike">
                <a:solidFill>
                  <a:srgbClr val="6e84b4"/>
                </a:solidFill>
                <a:latin typeface="Aharoni"/>
                <a:ea typeface="Aharoni"/>
              </a:rPr>
              <a:t>CH  - O  - S  -  SH  -  X  -  Z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575f6d"/>
                </a:solidFill>
                <a:latin typeface="Century Schoolbook"/>
              </a:rPr>
              <a:t>   </a:t>
            </a:r>
            <a:r>
              <a:rPr b="1" lang="es-EC" sz="1800" spc="-1" strike="noStrike">
                <a:solidFill>
                  <a:srgbClr val="575f6d"/>
                </a:solidFill>
                <a:latin typeface="Century Schoolbook"/>
              </a:rPr>
              <a:t>wat</a:t>
            </a:r>
            <a:r>
              <a:rPr b="1" lang="es-EC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chES</a:t>
            </a:r>
            <a:r>
              <a:rPr b="1" lang="es-EC" sz="1800" spc="-1" strike="noStrike">
                <a:solidFill>
                  <a:srgbClr val="575f6d"/>
                </a:solidFill>
                <a:latin typeface="Century Schoolbook"/>
              </a:rPr>
              <a:t> – d</a:t>
            </a:r>
            <a:r>
              <a:rPr b="1" lang="es-EC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oES</a:t>
            </a:r>
            <a:r>
              <a:rPr b="1" lang="es-EC" sz="1800" spc="-1" strike="noStrike">
                <a:solidFill>
                  <a:srgbClr val="575f6d"/>
                </a:solidFill>
                <a:latin typeface="Century Schoolbook"/>
              </a:rPr>
              <a:t> – kis</a:t>
            </a:r>
            <a:r>
              <a:rPr b="1" lang="es-EC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sES</a:t>
            </a:r>
            <a:r>
              <a:rPr b="1" lang="es-EC" sz="1800" spc="-1" strike="noStrike">
                <a:solidFill>
                  <a:srgbClr val="575f6d"/>
                </a:solidFill>
                <a:latin typeface="Century Schoolbook"/>
              </a:rPr>
              <a:t> – wa</a:t>
            </a:r>
            <a:r>
              <a:rPr b="1" lang="es-EC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shES</a:t>
            </a:r>
            <a:r>
              <a:rPr b="1" lang="es-EC" sz="1800" spc="-1" strike="noStrike">
                <a:solidFill>
                  <a:srgbClr val="575f6d"/>
                </a:solidFill>
                <a:latin typeface="Century Schoolbook"/>
              </a:rPr>
              <a:t> – fi</a:t>
            </a:r>
            <a:r>
              <a:rPr b="1" lang="es-EC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xES</a:t>
            </a:r>
            <a:r>
              <a:rPr b="1" lang="es-EC" sz="1800" spc="-1" strike="noStrike">
                <a:solidFill>
                  <a:srgbClr val="575f6d"/>
                </a:solidFill>
                <a:latin typeface="Century Schoolbook"/>
              </a:rPr>
              <a:t> - buz</a:t>
            </a:r>
            <a:r>
              <a:rPr b="1" lang="es-EC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z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1366920" cy="19447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" descr="http://imagenes.mailxmail.com/cursos/imagenes/3/0/the-simple-present-tense_11103_1_3.gif"/>
          <p:cNvPicPr/>
          <p:nvPr/>
        </p:nvPicPr>
        <p:blipFill>
          <a:blip r:embed="rId2"/>
          <a:stretch/>
        </p:blipFill>
        <p:spPr>
          <a:xfrm>
            <a:off x="2411280" y="3860640"/>
            <a:ext cx="628488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4400" spc="-1" strike="noStrike">
                <a:solidFill>
                  <a:srgbClr val="9a3d01"/>
                </a:solidFill>
                <a:latin typeface="Cooper Black"/>
              </a:rPr>
              <a:t>SIMPLE  PRESENT  TENSE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1366920" cy="1944720"/>
          </a:xfrm>
          <a:prstGeom prst="rect">
            <a:avLst/>
          </a:prstGeom>
          <a:ln w="0">
            <a:noFill/>
          </a:ln>
        </p:spPr>
      </p:pic>
      <p:sp>
        <p:nvSpPr>
          <p:cNvPr id="369" name="7 Rectángulo"/>
          <p:cNvSpPr/>
          <p:nvPr/>
        </p:nvSpPr>
        <p:spPr>
          <a:xfrm>
            <a:off x="1728360" y="1684440"/>
            <a:ext cx="776700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00b050"/>
                </a:solidFill>
                <a:latin typeface="Impact"/>
              </a:rPr>
              <a:t>every day / month / year</a:t>
            </a:r>
            <a:r>
              <a:rPr b="0" lang="en-US" sz="3200" spc="-1" strike="noStrike">
                <a:solidFill>
                  <a:srgbClr val="00b050"/>
                </a:solidFill>
                <a:latin typeface="Impac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Impact"/>
              </a:rPr>
              <a:t>once a day / week / month / year 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Impact"/>
              </a:rPr>
              <a:t>twice a day / week / month / year 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Impact"/>
              </a:rPr>
              <a:t>three times a day/week/month/ye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Impact"/>
              </a:rPr>
              <a:t>in the morning / evening / afterno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Impact"/>
              </a:rPr>
              <a:t>at night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Impact"/>
              </a:rPr>
              <a:t>always/usually/often/sometimes/n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Impact"/>
              </a:rPr>
              <a:t>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Impact"/>
              </a:rPr>
              <a:t>on Monday/Thursday /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Impact"/>
              </a:rPr>
              <a:t>in July / August /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8 Rectángulo"/>
          <p:cNvSpPr/>
          <p:nvPr/>
        </p:nvSpPr>
        <p:spPr>
          <a:xfrm>
            <a:off x="2627280" y="9079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84b4"/>
                </a:solidFill>
                <a:latin typeface="Aharoni"/>
                <a:ea typeface="Aharoni"/>
              </a:rPr>
              <a:t>TIME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5" descr=""/>
          <p:cNvPicPr/>
          <p:nvPr/>
        </p:nvPicPr>
        <p:blipFill>
          <a:blip r:embed="rId1"/>
          <a:stretch/>
        </p:blipFill>
        <p:spPr>
          <a:xfrm>
            <a:off x="0" y="1523880"/>
            <a:ext cx="2411280" cy="16891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Present Continuous for Action at the Moment"/>
          <p:cNvPicPr/>
          <p:nvPr/>
        </p:nvPicPr>
        <p:blipFill>
          <a:blip r:embed="rId2"/>
          <a:stretch/>
        </p:blipFill>
        <p:spPr>
          <a:xfrm>
            <a:off x="3132000" y="2168640"/>
            <a:ext cx="3816360" cy="270036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845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600" spc="-1" strike="noStrike">
                <a:solidFill>
                  <a:srgbClr val="9a3d01"/>
                </a:solidFill>
                <a:latin typeface="Cooper Black"/>
              </a:rPr>
              <a:t>PRESENT   PROGRESSIVE   TENSE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1763280" y="1052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e75c01"/>
                </a:solidFill>
                <a:latin typeface="Arial Black"/>
              </a:rPr>
              <a:t>We use Present Progressive / Continuous Tense to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4 CuadroTexto"/>
          <p:cNvSpPr/>
          <p:nvPr/>
        </p:nvSpPr>
        <p:spPr>
          <a:xfrm>
            <a:off x="2234880" y="1484280"/>
            <a:ext cx="54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6211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600" spc="-1" strike="noStrike">
                <a:solidFill>
                  <a:srgbClr val="862110"/>
                </a:solidFill>
                <a:latin typeface="IrisUPC"/>
                <a:ea typeface="IrisUPC"/>
              </a:rPr>
              <a:t> </a:t>
            </a:r>
            <a:r>
              <a:rPr b="0" lang="es-EC" sz="1800" spc="-1" strike="noStrike">
                <a:solidFill>
                  <a:srgbClr val="00b050"/>
                </a:solidFill>
                <a:latin typeface="Segoe UI Semibold"/>
                <a:ea typeface="MingLiU-ExtB"/>
              </a:rPr>
              <a:t>Talk about an action that is happening no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b050"/>
                </a:solidFill>
                <a:latin typeface="Segoe UI Semibold"/>
                <a:ea typeface="MingLiU-ExtB"/>
              </a:rPr>
              <a:t>       </a:t>
            </a:r>
            <a:r>
              <a:rPr b="0" lang="es-EC" sz="1800" spc="-1" strike="noStrike">
                <a:solidFill>
                  <a:srgbClr val="00b050"/>
                </a:solidFill>
                <a:latin typeface="Segoe UI Semibold"/>
                <a:ea typeface="MingLiU-ExtB"/>
              </a:rPr>
              <a:t>(at the moment of speak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4" descr="http://imagenes.mailxmail.com/cursos/imagenes/3/0/the-present-continuous-tense_11103_3_1.gif"/>
          <p:cNvPicPr/>
          <p:nvPr/>
        </p:nvPicPr>
        <p:blipFill>
          <a:blip r:embed="rId3"/>
          <a:stretch/>
        </p:blipFill>
        <p:spPr>
          <a:xfrm>
            <a:off x="2484360" y="4437000"/>
            <a:ext cx="6480360" cy="23655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0" descr="http://images.mylot.com/userImages/images/postphotos/2269633.gif"/>
          <p:cNvPicPr/>
          <p:nvPr/>
        </p:nvPicPr>
        <p:blipFill>
          <a:blip r:embed="rId4"/>
          <a:stretch/>
        </p:blipFill>
        <p:spPr>
          <a:xfrm>
            <a:off x="7164360" y="2479680"/>
            <a:ext cx="1465200" cy="15526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7" descr="http://www.graphicsfactory.com/clip-art/image_files/tn_image/7/1329317-tn_talk.jpg"/>
          <p:cNvPicPr/>
          <p:nvPr/>
        </p:nvPicPr>
        <p:blipFill>
          <a:blip r:embed="rId5"/>
          <a:stretch/>
        </p:blipFill>
        <p:spPr>
          <a:xfrm>
            <a:off x="2124000" y="299736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5" descr=""/>
          <p:cNvPicPr/>
          <p:nvPr/>
        </p:nvPicPr>
        <p:blipFill>
          <a:blip r:embed="rId1"/>
          <a:stretch/>
        </p:blipFill>
        <p:spPr>
          <a:xfrm>
            <a:off x="0" y="1523880"/>
            <a:ext cx="2411280" cy="168912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845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600" spc="-1" strike="noStrike">
                <a:solidFill>
                  <a:srgbClr val="9a3d01"/>
                </a:solidFill>
                <a:latin typeface="Cooper Black"/>
              </a:rPr>
              <a:t>PRESENT   PROGRESSIVE   TENSE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1" name="2 Subtítulo" descr=""/>
          <p:cNvPicPr/>
          <p:nvPr/>
        </p:nvPicPr>
        <p:blipFill>
          <a:blip r:embed="rId2"/>
          <a:stretch/>
        </p:blipFill>
        <p:spPr>
          <a:xfrm>
            <a:off x="2316240" y="1006560"/>
            <a:ext cx="7589880" cy="55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5" descr=""/>
          <p:cNvPicPr/>
          <p:nvPr/>
        </p:nvPicPr>
        <p:blipFill>
          <a:blip r:embed="rId1"/>
          <a:stretch/>
        </p:blipFill>
        <p:spPr>
          <a:xfrm>
            <a:off x="0" y="1523880"/>
            <a:ext cx="2411280" cy="168912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845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600" spc="-1" strike="noStrike">
                <a:solidFill>
                  <a:srgbClr val="9a3d01"/>
                </a:solidFill>
                <a:latin typeface="Cooper Black"/>
              </a:rPr>
              <a:t>PRESENT   PROGRESSIVE   TENSE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5 Rectángulo"/>
          <p:cNvSpPr/>
          <p:nvPr/>
        </p:nvSpPr>
        <p:spPr>
          <a:xfrm>
            <a:off x="2700360" y="1413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e84b4"/>
                </a:solidFill>
                <a:latin typeface="Aharoni"/>
                <a:ea typeface="Aharoni"/>
              </a:rPr>
              <a:t>TIME 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6 Rectángulo"/>
          <p:cNvSpPr/>
          <p:nvPr/>
        </p:nvSpPr>
        <p:spPr>
          <a:xfrm>
            <a:off x="3318840" y="2349360"/>
            <a:ext cx="4660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800" spc="-1" strike="noStrike">
                <a:solidFill>
                  <a:srgbClr val="00b050"/>
                </a:solidFill>
                <a:latin typeface="Impact"/>
              </a:rPr>
              <a:t>n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800" spc="-1" strike="noStrike">
                <a:solidFill>
                  <a:srgbClr val="00b050"/>
                </a:solidFill>
                <a:latin typeface="Impact"/>
              </a:rPr>
              <a:t>right n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800" spc="-1" strike="noStrike">
                <a:solidFill>
                  <a:srgbClr val="00b050"/>
                </a:solidFill>
                <a:latin typeface="Impact"/>
              </a:rPr>
              <a:t>at the mo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5T19:26:26Z</dcterms:created>
  <dc:creator>K@rly</dc:creator>
  <dc:description/>
  <dc:language>en-US</dc:language>
  <cp:lastModifiedBy>A van Schijndel</cp:lastModifiedBy>
  <dcterms:modified xsi:type="dcterms:W3CDTF">2014-12-19T10:29:08Z</dcterms:modified>
  <cp:revision>7</cp:revision>
  <dc:subject/>
  <dc:title>SIMPLE  PRESENT  TENSE</dc:title>
</cp:coreProperties>
</file>