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13.png" ContentType="image/png"/>
  <Override PartName="/ppt/media/image33.jpeg" ContentType="image/jpeg"/>
  <Override PartName="/ppt/media/image45.png" ContentType="image/png"/>
  <Override PartName="/ppt/media/image44.png" ContentType="image/png"/>
  <Override PartName="/ppt/media/image40.jpeg" ContentType="image/jpeg"/>
  <Override PartName="/ppt/media/image46.png" ContentType="image/png"/>
  <Override PartName="/ppt/media/image11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48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19.jpeg" ContentType="image/jpeg"/>
  <Override PartName="/ppt/media/image25.png" ContentType="image/png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2B5A-9584-445E-B922-168E6DD2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5686-33B8-4070-AB7C-B984F9E4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25BA-256B-4852-84F7-17108225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F91E-9D35-441B-8F2D-0D7C2A3D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7D06-18F1-4DE0-A5C5-F2C1F760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381-F8F6-4DA6-990A-F4C09B6E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05A6-DDCE-4273-9A48-1D19E940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B258-90FC-49A9-BA46-16E499EF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B9FD-28FF-43E1-86C1-78846783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7218-C0B5-420C-96DA-88E98678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88FE-E484-4584-AE5B-310E0743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75D8-FC94-4026-A4C9-527A44A0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125D-047C-41ED-BC93-284F7101E3C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32.jpeg"/><Relationship Id="rId7" Type="http://schemas.openxmlformats.org/officeDocument/2006/relationships/image" Target="../media/image20.pn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8362-0D7B-41EA-8BA7-7CE3A8D29CE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menvatting H 1 +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examen_vak_succes_met_maatschappijleer"/>
          <p:cNvPicPr/>
          <p:nvPr/>
        </p:nvPicPr>
        <p:blipFill>
          <a:blip r:embed="rId1"/>
          <a:stretch/>
        </p:blipFill>
        <p:spPr>
          <a:xfrm>
            <a:off x="1116000" y="1773360"/>
            <a:ext cx="712800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7CFE-4FC0-457A-92F3-89E7EDA674B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6346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8785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olitiek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het maken van keuzes zodat een land, een provincie of een gemeente kan worden bestu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vloed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d worden van politieke part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opnemen met poli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oek indienen (bvb bij gemeentera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bena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sluiten bij actie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zwaarschrift schrijven (rech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urgelijke ongehoorzaamheid (kerk zet geen asielzoekers u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D4D1-CD65-479E-B41A-EEB2260A4C5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ictatuu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uba (Fidel Castro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ed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1 persoon/groep/familie/partij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Volksvertegenwoordig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tairen aan de ma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egenoversgestelde van democ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ndwet geldt ni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ndwet met basis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Fraude bij verkiezin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heime/vrije verkiez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en gelijke rech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lijke rechten voor iede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 onderdru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 recht op vrij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ensuu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Pers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iet je mening ui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Vrijheid van menings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Manipulatie/indoctrinati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Indirecte 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Onderda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ooit een rechtsstaa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echt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echters niet onafhank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rias pol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Heerst veel angs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leven in 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755640" y="11592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0C7B-F6BD-458B-8224-C1133CA79B3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1052640"/>
            <a:ext cx="82803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2 Basiselementen voor democ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Alle 18+ inwoners met NL paspoort kunnen d.m.v. algemeen kiesrecht invloed uitoefenen op de besluitvor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Aantal grondrechten is gewaarborgd om in vrijheid invloed te kunnen uitoefen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r is enkel sprake van democratie als er ook een rechtsstaat i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lijk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alle burgers hebben gelijke rechten. Er mag niet worden gediscrimineerd.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ij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burgers moeten hun eigen leven kunnen inrich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BFBF-3F83-485D-8AF7-A30BD842F5D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611280" y="18900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24000" y="1125360"/>
            <a:ext cx="88200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irecte democratie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rs kunnen rechtstreeks meepraten en beslissen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bij weinig inwon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s via referendum: volksstemm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directe democratie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ia een volksvertegenwoordiging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rs stemmen op vertegenwoordigers die hun belangen behartigen in de politieke besluitvorming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hebben de meeste landen in de werel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F9AC-D4CF-4FA7-9CAB-D28CE28D526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rondwet: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Wet waarin de belangrijkste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recht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plicht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an alle inwoners in een land zijn vastgeleg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staat er o.a. in de grondw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gelmatige verkiezingen (geheime stemm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ijheid van meningsuit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alleen een onafhankelijke rechter mag publicaties of uitzendingen verbi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achtenscheid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triaspolit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11280" y="18900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B6A7-EA6E-4632-9D54-396C78F2592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8000" y="274680"/>
            <a:ext cx="53280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ijkheid/ gelijkwaard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eve overheid/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te rol voor de sta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men op voor mensen met een zwakke positie in de samenle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jen met progressieve uitgangspun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stal richting sociali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16360" y="1268280"/>
            <a:ext cx="4032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hts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sieve overheid/ beperkte rol voor de staat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vrijheid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jen met conservatieve uitgangspun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stal richting liber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1"/>
          <a:stretch/>
        </p:blipFill>
        <p:spPr>
          <a:xfrm>
            <a:off x="684360" y="5589720"/>
            <a:ext cx="7707240" cy="10951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3276720" y="5661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C072-5368-4F94-A9BE-5C1A587DAA5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374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istendemocrat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t tussen links en rech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chten veel waarde aan het gezin en Christelijke normen en waard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bel schrijft voor hoe de mens zich dient te ged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rcRect l="7494" t="0" r="0" b="0"/>
          <a:stretch/>
        </p:blipFill>
        <p:spPr>
          <a:xfrm>
            <a:off x="4140360" y="1484280"/>
            <a:ext cx="4752720" cy="361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7694640" cy="10954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0EFB-C887-4A99-A8D4-0F97C134B91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1476360" y="1557360"/>
            <a:ext cx="56707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eral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heid als het ide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ntwikkeling van het individu staat  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op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ndividu is verantwoordelijk voor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nrichten van zijn lev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heidsbemoeienis moet hierbij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nimaal zij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"/>
          <p:cNvPicPr/>
          <p:nvPr/>
        </p:nvPicPr>
        <p:blipFill>
          <a:blip r:embed="rId1"/>
          <a:stretch/>
        </p:blipFill>
        <p:spPr>
          <a:xfrm>
            <a:off x="539640" y="5400720"/>
            <a:ext cx="7640640" cy="1457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3132000" y="558972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7640" y="274680"/>
            <a:ext cx="74170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8990-C196-4794-BD3E-5896D98AC35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isme / Sociaal- democ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de belangrijkste w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aat moet  het verschil in economische macht, dus arm en rijk, voork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en eerlijke samenleving met gelijke ka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verheidsbemoeienis om sociale en maatschappelijke problemen op te los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rke antipathie voor een (te) vrije ma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7627680" cy="14479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3276720" y="515772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53B9-696C-4D54-8E6E-F52F3BA1DBB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essionali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litieke opvattinge gebasseerd op geloofsovertui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ntmeesterschap: als mens goed voor de aarde z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preide verantwoordelijkheid: ‘zorgzame samenlevin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schappelijk middenveld: overheid aanvullende rol, de rest overlaten aan bvb welzijnsinstellingen en schoolbestu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7627680" cy="14479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3348000" y="5157720"/>
            <a:ext cx="18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276720" y="494172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essionalis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4E1F-9A54-43BE-B132-95FA6FC514A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72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bbe0e3"/>
                </a:solidFill>
                <a:latin typeface="Arial"/>
              </a:rPr>
              <a:t>Formel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Deze macht is officieel vastgelegd in wetten en regels (geza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Voorbeeld: de burgemeester verbied een boetbalwedstrij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bbe0e3"/>
                </a:solidFill>
                <a:latin typeface="Arial"/>
              </a:rPr>
              <a:t>Informel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Macht die niet officieel is vastgelegd (invlo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Vb: ‘regels’ die binnen je vriendengroep gel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B782-A1EA-42BB-AAE2-A61C1845BAB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55640" y="1267920"/>
            <a:ext cx="8137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ogressie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ee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olitieke stro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ebaseerd op progres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uitgang, toenemend, vooruitgaand, zich uitbreid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t meestal bij de links/sociaal-democratische denkwij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servatie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een politieke stroming die zich grondves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tradit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tijnse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onservar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 dat "in ongeschonden toestand bewaren" betek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inig verandering, het oude in takt willen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t meestal bij de rechtse/liberale en Christen=democratische vi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250560" y="274680"/>
            <a:ext cx="69850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0C53-059F-455E-BB55-AC176DAA2D5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436480" y="162864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556000" y="1536840"/>
            <a:ext cx="6048360" cy="5321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D233-40BE-4D2E-95B2-ACF0E51AB5D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284360" y="1268280"/>
            <a:ext cx="4753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ascism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zeer nationalistische en autoritaire begins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ert zich tegen vrijheid, gelijkheid en tolera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len bedreigd door maatschappelijke veranderingen en ‘vreemde groepe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ering eigen natie en vo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gressieve rassenl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539640" y="1268280"/>
            <a:ext cx="381636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mmunism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extreme vorm van socialisme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staat centraal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ductiefactoren beheerd door de staa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culiere eigendom is niet toegestaan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2"/>
          <p:cNvGrpSpPr/>
          <p:nvPr/>
        </p:nvGrpSpPr>
        <p:grpSpPr>
          <a:xfrm>
            <a:off x="826920" y="5300640"/>
            <a:ext cx="7745760" cy="1362240"/>
            <a:chOff x="826920" y="5300640"/>
            <a:chExt cx="7745760" cy="1362240"/>
          </a:xfrm>
        </p:grpSpPr>
        <p:pic>
          <p:nvPicPr>
            <p:cNvPr id="127" name="Picture 8" descr=""/>
            <p:cNvPicPr/>
            <p:nvPr/>
          </p:nvPicPr>
          <p:blipFill>
            <a:blip r:embed="rId1"/>
            <a:stretch/>
          </p:blipFill>
          <p:spPr>
            <a:xfrm>
              <a:off x="826920" y="5300640"/>
              <a:ext cx="774576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1"/>
            <p:cNvSpPr/>
            <p:nvPr/>
          </p:nvSpPr>
          <p:spPr>
            <a:xfrm>
              <a:off x="3708360" y="544500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fessionalisme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F90C-B4B6-4CE5-8BF9-31A6DFEF98C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532640"/>
          </a:xfrm>
          <a:prstGeom prst="rect">
            <a:avLst/>
          </a:prstGeom>
          <a:ln w="0">
            <a:noFill/>
          </a:ln>
        </p:spPr>
      </p:pic>
      <p:sp>
        <p:nvSpPr>
          <p:cNvPr id="133" name="Line 5"/>
          <p:cNvSpPr/>
          <p:nvPr/>
        </p:nvSpPr>
        <p:spPr>
          <a:xfrm>
            <a:off x="0" y="3213000"/>
            <a:ext cx="9144000" cy="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0" y="2637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un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219640" y="17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eral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979640" y="17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al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6732720" y="220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h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332000" y="220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8028000" y="2708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sc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924360" y="2276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tendemocr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logo vvd"/>
          <p:cNvPicPr/>
          <p:nvPr/>
        </p:nvPicPr>
        <p:blipFill>
          <a:blip r:embed="rId2"/>
          <a:stretch/>
        </p:blipFill>
        <p:spPr>
          <a:xfrm>
            <a:off x="5651640" y="3284640"/>
            <a:ext cx="466560" cy="57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logo cda"/>
          <p:cNvPicPr/>
          <p:nvPr/>
        </p:nvPicPr>
        <p:blipFill>
          <a:blip r:embed="rId3"/>
          <a:stretch/>
        </p:blipFill>
        <p:spPr>
          <a:xfrm>
            <a:off x="4643280" y="3284640"/>
            <a:ext cx="720720" cy="345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logo CU"/>
          <p:cNvPicPr/>
          <p:nvPr/>
        </p:nvPicPr>
        <p:blipFill>
          <a:blip r:embed="rId4"/>
          <a:stretch/>
        </p:blipFill>
        <p:spPr>
          <a:xfrm>
            <a:off x="3564000" y="4076640"/>
            <a:ext cx="1152360" cy="319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logo d66"/>
          <p:cNvPicPr/>
          <p:nvPr/>
        </p:nvPicPr>
        <p:blipFill>
          <a:blip r:embed="rId5"/>
          <a:stretch/>
        </p:blipFill>
        <p:spPr>
          <a:xfrm>
            <a:off x="3564000" y="3284640"/>
            <a:ext cx="720720" cy="533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LOGO groen links"/>
          <p:cNvPicPr/>
          <p:nvPr/>
        </p:nvPicPr>
        <p:blipFill>
          <a:blip r:embed="rId6"/>
          <a:stretch/>
        </p:blipFill>
        <p:spPr>
          <a:xfrm>
            <a:off x="900000" y="3933720"/>
            <a:ext cx="792360" cy="366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LOGO pvda"/>
          <p:cNvPicPr/>
          <p:nvPr/>
        </p:nvPicPr>
        <p:blipFill>
          <a:blip r:embed="rId7"/>
          <a:stretch/>
        </p:blipFill>
        <p:spPr>
          <a:xfrm>
            <a:off x="2916360" y="3789360"/>
            <a:ext cx="420480" cy="50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logo pvv"/>
          <p:cNvPicPr/>
          <p:nvPr/>
        </p:nvPicPr>
        <p:blipFill>
          <a:blip r:embed="rId8"/>
          <a:srcRect l="0" t="17834" r="0" b="20000"/>
          <a:stretch/>
        </p:blipFill>
        <p:spPr>
          <a:xfrm>
            <a:off x="7020000" y="3284640"/>
            <a:ext cx="936720" cy="309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logo sgp"/>
          <p:cNvPicPr/>
          <p:nvPr/>
        </p:nvPicPr>
        <p:blipFill>
          <a:blip r:embed="rId9"/>
          <a:stretch/>
        </p:blipFill>
        <p:spPr>
          <a:xfrm>
            <a:off x="6300720" y="32846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LOGO sp"/>
          <p:cNvPicPr/>
          <p:nvPr/>
        </p:nvPicPr>
        <p:blipFill>
          <a:blip r:embed="rId10"/>
          <a:stretch/>
        </p:blipFill>
        <p:spPr>
          <a:xfrm>
            <a:off x="468360" y="3357720"/>
            <a:ext cx="574560" cy="31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logo pvvd"/>
          <p:cNvPicPr/>
          <p:nvPr/>
        </p:nvPicPr>
        <p:blipFill>
          <a:blip r:embed="rId11"/>
          <a:stretch/>
        </p:blipFill>
        <p:spPr>
          <a:xfrm>
            <a:off x="1835280" y="3357720"/>
            <a:ext cx="635040" cy="718920"/>
          </a:xfrm>
          <a:prstGeom prst="rect">
            <a:avLst/>
          </a:prstGeom>
          <a:ln w="0">
            <a:noFill/>
          </a:ln>
        </p:spPr>
      </p:pic>
      <p:sp>
        <p:nvSpPr>
          <p:cNvPr id="151" name="Line 23"/>
          <p:cNvSpPr/>
          <p:nvPr/>
        </p:nvSpPr>
        <p:spPr>
          <a:xfrm>
            <a:off x="179280" y="306864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1692360" y="2565360"/>
            <a:ext cx="0" cy="6494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5"/>
          <p:cNvSpPr/>
          <p:nvPr/>
        </p:nvSpPr>
        <p:spPr>
          <a:xfrm>
            <a:off x="2411280" y="2133720"/>
            <a:ext cx="0" cy="1079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4284720" y="2637000"/>
            <a:ext cx="0" cy="57600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6227640" y="299736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7020000" y="306864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6227640" y="2133720"/>
            <a:ext cx="0" cy="1079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0"/>
          <p:cNvSpPr/>
          <p:nvPr/>
        </p:nvSpPr>
        <p:spPr>
          <a:xfrm>
            <a:off x="7020000" y="2565360"/>
            <a:ext cx="0" cy="6494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1"/>
          <p:cNvSpPr/>
          <p:nvPr/>
        </p:nvSpPr>
        <p:spPr>
          <a:xfrm>
            <a:off x="8964720" y="3068640"/>
            <a:ext cx="1404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2"/>
          <p:cNvSpPr/>
          <p:nvPr/>
        </p:nvSpPr>
        <p:spPr>
          <a:xfrm>
            <a:off x="3059280" y="206064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3"/>
          <p:cNvSpPr/>
          <p:nvPr/>
        </p:nvSpPr>
        <p:spPr>
          <a:xfrm>
            <a:off x="3419640" y="1773360"/>
            <a:ext cx="19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essionalis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1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" dur="2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5C4E-D352-4701-B6A3-8F829C5E12D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Politiek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en 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basis van IDEOLOGIE: ontstaan door dezelfde ideologiën/strom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E-ISSUEPARTIJEN: gericht op 1 aspect in de samenleving. (Pvd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TESTPARTIJEN: ontstaan uit onvrede met bestaande politiek. (L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DEMOCRATISCHE parijen: zoals fascisitische partijen. Komen niet vaak voor in parlemen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A625-E5B9-480A-A2B6-3E830168567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Politiek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uncties van par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tegratiefunctie: het partijenprogr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formatiefunctie: informeren over standpu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ticipatiefunctie: burgers stimuleren actief aan politiek te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lectiefunctie: mensen die in de politiek willen, kijken bij welke partij ze willen 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52B0-A8F5-460F-A636-55011F0169E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4: Verkiezing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24000" y="148428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4 j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vincial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te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5 j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lijsttrekker"/>
          <p:cNvPicPr/>
          <p:nvPr/>
        </p:nvPicPr>
        <p:blipFill>
          <a:blip r:embed="rId1"/>
          <a:srcRect l="12929" t="0" r="11185" b="0"/>
          <a:stretch/>
        </p:blipFill>
        <p:spPr>
          <a:xfrm>
            <a:off x="108000" y="1773360"/>
            <a:ext cx="38163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BBDD-710B-43DD-B242-31C5F20A192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52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ssief kies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kozen kunnen worden al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d van de Tweede Kamer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ndere volksvertegen-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rdigende lichamen: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iesbaar 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f kiesre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ers van 18 jaar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 met Nederlands paspoor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bben het recht om te ste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4: Verkiez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kieskompas"/>
          <p:cNvPicPr/>
          <p:nvPr/>
        </p:nvPicPr>
        <p:blipFill>
          <a:blip r:embed="rId1"/>
          <a:stretch/>
        </p:blipFill>
        <p:spPr>
          <a:xfrm>
            <a:off x="5148360" y="2249640"/>
            <a:ext cx="38876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CDE3-8CAE-4016-9307-DFEB99A1D36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195640" y="1628640"/>
            <a:ext cx="67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79280" y="1268280"/>
            <a:ext cx="5832720" cy="49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Lijsttrekker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hoogst geplaatste persoon op de kandidatenlijst van een politieke partij bij verkiezingen.  De belangrijkste persoon van de partij in de verkiezingsstrijd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Zwevende kiezers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oep kiezers die bij verkiezingen niet steeds op dezelfde politieke partij stemt.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eursstemmen: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men op een persoon (niet op een partij) waardoor die misschien wel in de tweedekamer komt, ondanks dat die laag op de lijst staat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195640" y="274680"/>
            <a:ext cx="504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4: verkiezing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9" descr="stomwijzer_1"/>
          <p:cNvPicPr/>
          <p:nvPr/>
        </p:nvPicPr>
        <p:blipFill>
          <a:blip r:embed="rId1"/>
          <a:stretch/>
        </p:blipFill>
        <p:spPr>
          <a:xfrm>
            <a:off x="6227640" y="1484280"/>
            <a:ext cx="26672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2628-1576-4396-85D2-B014E82CD8C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83883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Evenredige vertegenwoordiging: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 zetels worden gelijk verdeld op baisis van alle geldig uitgebrachte stemm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Kiesde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- Aantal geldig uitgebrachte stemmen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50 ze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beeld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7.500.000 geldi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itgebrachte stemm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an is de kiesdeler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7.500.000/1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= 50.000 stemm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 1 zetel nodi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1979640" y="189000"/>
            <a:ext cx="504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4: Verkiezing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284720" y="6165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zete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4211640" cy="2497320"/>
          </a:xfrm>
          <a:prstGeom prst="rect">
            <a:avLst/>
          </a:prstGeom>
          <a:ln w="0">
            <a:noFill/>
          </a:ln>
        </p:spPr>
      </p:pic>
      <p:sp>
        <p:nvSpPr>
          <p:cNvPr id="186" name="Line 6"/>
          <p:cNvSpPr/>
          <p:nvPr/>
        </p:nvSpPr>
        <p:spPr>
          <a:xfrm flipV="1">
            <a:off x="4859280" y="5229000"/>
            <a:ext cx="2890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571F-3D72-450C-AD75-8CCD03F05A1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bbe0e3"/>
                </a:solidFill>
                <a:latin typeface="Arial"/>
              </a:rPr>
              <a:t>Machtsmiddelen: </a:t>
            </a: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Om macht te kunnen hebben, bestaan er machtmidd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Functie/beroep (politie als hij een bekeuring ge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Kennis/vaardigheden (dokter weet welke medicijnen je nodig he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Aanzien (de paus vraagt gelovigen iets wel of niet te d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Overtuigingskracht (politici zijn vaak getraind om mensen te overtui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Geld (de overheid beslist wat ze doen met die miljarden euro’s die ze heb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Aantal (de klas weigert massaal een proefwerk te mak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Geweld (een rechter veroordeeld de moordenaar tot levensla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F482-A3A4-4946-8AF7-B865D10BC3A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95280" y="26028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de regering / §6: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340000" y="249228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835280" y="5877000"/>
            <a:ext cx="1800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rste kam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547640" y="162864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lemen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3492360" y="4221000"/>
            <a:ext cx="2016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n-Gener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6012000" y="3429000"/>
            <a:ext cx="107928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bine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916360" y="335772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ingi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7093080" y="4149720"/>
            <a:ext cx="180000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ksvertegenwoordig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2556000" y="5084640"/>
            <a:ext cx="1800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6588000" y="2060640"/>
            <a:ext cx="230508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atssecrtariss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1258920" y="371628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er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5364000" y="508464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raa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4932360" y="1628640"/>
            <a:ext cx="1152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mi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7451640" y="2997360"/>
            <a:ext cx="86364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7524720" y="6021360"/>
            <a:ext cx="576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468360" y="2637000"/>
            <a:ext cx="1368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i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4932360" y="270828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g. 1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5292720" y="609300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gekoz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395280" y="4581360"/>
            <a:ext cx="194472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ct gekoz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B14C-BABF-444B-B660-3D7D89F6F8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2"/>
          <p:cNvGrpSpPr/>
          <p:nvPr/>
        </p:nvGrpSpPr>
        <p:grpSpPr>
          <a:xfrm>
            <a:off x="971640" y="1268280"/>
            <a:ext cx="6948360" cy="2239920"/>
            <a:chOff x="971640" y="1268280"/>
            <a:chExt cx="6948360" cy="2239920"/>
          </a:xfrm>
        </p:grpSpPr>
        <p:sp>
          <p:nvSpPr>
            <p:cNvPr id="209" name="Text Box 3"/>
            <p:cNvSpPr/>
            <p:nvPr/>
          </p:nvSpPr>
          <p:spPr>
            <a:xfrm>
              <a:off x="1979640" y="1915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weed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m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4"/>
            <p:cNvSpPr/>
            <p:nvPr/>
          </p:nvSpPr>
          <p:spPr>
            <a:xfrm>
              <a:off x="4284720" y="1915920"/>
              <a:ext cx="180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ers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m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5"/>
            <p:cNvSpPr/>
            <p:nvPr/>
          </p:nvSpPr>
          <p:spPr>
            <a:xfrm>
              <a:off x="971640" y="1268280"/>
              <a:ext cx="694836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Parlement </a:t>
              </a: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(ookwel:</a:t>
              </a: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Staten-Generaal of Volksvertegenwoordiging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6"/>
            <p:cNvSpPr/>
            <p:nvPr/>
          </p:nvSpPr>
          <p:spPr>
            <a:xfrm>
              <a:off x="1979640" y="2563560"/>
              <a:ext cx="792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7"/>
            <p:cNvSpPr/>
            <p:nvPr/>
          </p:nvSpPr>
          <p:spPr>
            <a:xfrm>
              <a:off x="5508720" y="2563560"/>
              <a:ext cx="576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8"/>
            <p:cNvSpPr/>
            <p:nvPr/>
          </p:nvSpPr>
          <p:spPr>
            <a:xfrm>
              <a:off x="1979640" y="3139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rect gekoz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9"/>
            <p:cNvSpPr/>
            <p:nvPr/>
          </p:nvSpPr>
          <p:spPr>
            <a:xfrm>
              <a:off x="4284720" y="3139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rect gekoz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0"/>
            <p:cNvSpPr/>
            <p:nvPr/>
          </p:nvSpPr>
          <p:spPr>
            <a:xfrm>
              <a:off x="2411280" y="234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1"/>
            <p:cNvSpPr/>
            <p:nvPr/>
          </p:nvSpPr>
          <p:spPr>
            <a:xfrm>
              <a:off x="5940360" y="234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2"/>
            <p:cNvSpPr/>
            <p:nvPr/>
          </p:nvSpPr>
          <p:spPr>
            <a:xfrm>
              <a:off x="3708360" y="2347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3"/>
            <p:cNvSpPr/>
            <p:nvPr/>
          </p:nvSpPr>
          <p:spPr>
            <a:xfrm>
              <a:off x="4716360" y="2347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4"/>
            <p:cNvSpPr/>
            <p:nvPr/>
          </p:nvSpPr>
          <p:spPr>
            <a:xfrm flipH="1">
              <a:off x="3563640" y="1699920"/>
              <a:ext cx="21564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>
              <a:off x="4500360" y="1699920"/>
              <a:ext cx="21600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6"/>
          <p:cNvGrpSpPr/>
          <p:nvPr/>
        </p:nvGrpSpPr>
        <p:grpSpPr>
          <a:xfrm>
            <a:off x="1116000" y="4076640"/>
            <a:ext cx="6516720" cy="2581560"/>
            <a:chOff x="1116000" y="4076640"/>
            <a:chExt cx="6516720" cy="2581560"/>
          </a:xfrm>
        </p:grpSpPr>
        <p:sp>
          <p:nvSpPr>
            <p:cNvPr id="223" name="Text Box 17"/>
            <p:cNvSpPr/>
            <p:nvPr/>
          </p:nvSpPr>
          <p:spPr>
            <a:xfrm>
              <a:off x="5076720" y="4076640"/>
              <a:ext cx="107964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binet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8"/>
            <p:cNvSpPr/>
            <p:nvPr/>
          </p:nvSpPr>
          <p:spPr>
            <a:xfrm>
              <a:off x="5148360" y="4797360"/>
              <a:ext cx="248436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Staatssecretariss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9"/>
            <p:cNvSpPr/>
            <p:nvPr/>
          </p:nvSpPr>
          <p:spPr>
            <a:xfrm>
              <a:off x="1189080" y="4797360"/>
              <a:ext cx="13669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0"/>
            <p:cNvSpPr/>
            <p:nvPr/>
          </p:nvSpPr>
          <p:spPr>
            <a:xfrm>
              <a:off x="3132000" y="4797360"/>
              <a:ext cx="129564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s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1"/>
            <p:cNvSpPr/>
            <p:nvPr/>
          </p:nvSpPr>
          <p:spPr>
            <a:xfrm>
              <a:off x="1116000" y="4076640"/>
              <a:ext cx="144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ering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2"/>
            <p:cNvSpPr/>
            <p:nvPr/>
          </p:nvSpPr>
          <p:spPr>
            <a:xfrm>
              <a:off x="2916360" y="4076640"/>
              <a:ext cx="180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raad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3"/>
            <p:cNvSpPr/>
            <p:nvPr/>
          </p:nvSpPr>
          <p:spPr>
            <a:xfrm>
              <a:off x="3348000" y="5805720"/>
              <a:ext cx="428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emier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ider kabinet (minister president)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4"/>
            <p:cNvSpPr/>
            <p:nvPr/>
          </p:nvSpPr>
          <p:spPr>
            <a:xfrm>
              <a:off x="3348000" y="6289920"/>
              <a:ext cx="428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ies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specialiseerde beleidsterreinen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5"/>
            <p:cNvSpPr/>
            <p:nvPr/>
          </p:nvSpPr>
          <p:spPr>
            <a:xfrm>
              <a:off x="4213080" y="5300640"/>
              <a:ext cx="1224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g. 1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>
              <a:off x="241308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7"/>
            <p:cNvSpPr/>
            <p:nvPr/>
          </p:nvSpPr>
          <p:spPr>
            <a:xfrm>
              <a:off x="2413080" y="4508640"/>
              <a:ext cx="718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8"/>
            <p:cNvSpPr/>
            <p:nvPr/>
          </p:nvSpPr>
          <p:spPr>
            <a:xfrm>
              <a:off x="529272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9"/>
            <p:cNvSpPr/>
            <p:nvPr/>
          </p:nvSpPr>
          <p:spPr>
            <a:xfrm flipH="1">
              <a:off x="4500720" y="4508640"/>
              <a:ext cx="792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0"/>
            <p:cNvSpPr/>
            <p:nvPr/>
          </p:nvSpPr>
          <p:spPr>
            <a:xfrm>
              <a:off x="378144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1"/>
            <p:cNvSpPr/>
            <p:nvPr/>
          </p:nvSpPr>
          <p:spPr>
            <a:xfrm>
              <a:off x="4429080" y="501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2"/>
            <p:cNvSpPr/>
            <p:nvPr/>
          </p:nvSpPr>
          <p:spPr>
            <a:xfrm flipH="1">
              <a:off x="5005080" y="50133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3"/>
            <p:cNvSpPr/>
            <p:nvPr/>
          </p:nvSpPr>
          <p:spPr>
            <a:xfrm>
              <a:off x="4573440" y="50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4"/>
            <p:cNvSpPr/>
            <p:nvPr/>
          </p:nvSpPr>
          <p:spPr>
            <a:xfrm>
              <a:off x="5005440" y="50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5"/>
            <p:cNvSpPr/>
            <p:nvPr/>
          </p:nvSpPr>
          <p:spPr>
            <a:xfrm>
              <a:off x="3132000" y="522936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6"/>
            <p:cNvSpPr/>
            <p:nvPr/>
          </p:nvSpPr>
          <p:spPr>
            <a:xfrm>
              <a:off x="3132000" y="5948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7"/>
            <p:cNvSpPr/>
            <p:nvPr/>
          </p:nvSpPr>
          <p:spPr>
            <a:xfrm>
              <a:off x="3132000" y="6453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Line 38"/>
          <p:cNvSpPr/>
          <p:nvPr/>
        </p:nvSpPr>
        <p:spPr>
          <a:xfrm>
            <a:off x="826920" y="3789360"/>
            <a:ext cx="709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0"/>
          <p:cNvSpPr/>
          <p:nvPr/>
        </p:nvSpPr>
        <p:spPr>
          <a:xfrm>
            <a:off x="395280" y="26028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de regering / §6: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AA8A-C549-4A9E-9916-2D65615D26D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schema politiek systeem antwoorden"/>
          <p:cNvPicPr/>
          <p:nvPr/>
        </p:nvPicPr>
        <p:blipFill>
          <a:blip r:embed="rId1"/>
          <a:srcRect l="0" t="0" r="0" b="14868"/>
          <a:stretch/>
        </p:blipFill>
        <p:spPr>
          <a:xfrm>
            <a:off x="2340000" y="1341360"/>
            <a:ext cx="5310000" cy="551664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395280" y="26028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de regering / §6: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8B92-0A0E-41BF-AC4E-4EDAAC8FE02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weedekamer verkiezingen </a:t>
            </a:r>
            <a:r>
              <a:rPr b="1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dan de kabinets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atie van ministers d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samen globaal eens zijn over het toekomstig bel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 de meerderheid van de zetels hebben (de helft + 1 = 7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5: De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EFBA-7FCC-4FCD-BE97-F22D3694611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oe gaat de kabinetsformati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adering  m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  Konin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ice-president Raad van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zitters 1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2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ractievoorzi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informateu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ze onderzoekt welke partijen misschien samen ku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at partijen compromissen slu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lt samen met coalitiepartijen het regeerakkoord 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formateu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ekt geschikte ministers en staatssecretariss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meestal afkomstig van de grootste regeringspartij en wordt meestal minister presid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ministers en staatssecretari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5. Foto op het bor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5: De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1B77-0160-4C7F-982D-8721F08C8C3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195280" y="1268280"/>
            <a:ext cx="69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uidige regerings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uidige oppositie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regering"/>
          <p:cNvPicPr/>
          <p:nvPr/>
        </p:nvPicPr>
        <p:blipFill>
          <a:blip r:embed="rId1"/>
          <a:stretch/>
        </p:blipFill>
        <p:spPr>
          <a:xfrm>
            <a:off x="2987640" y="4309920"/>
            <a:ext cx="5257800" cy="2548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logo vvd"/>
          <p:cNvPicPr/>
          <p:nvPr/>
        </p:nvPicPr>
        <p:blipFill>
          <a:blip r:embed="rId2"/>
          <a:stretch/>
        </p:blipFill>
        <p:spPr>
          <a:xfrm>
            <a:off x="5364000" y="3068640"/>
            <a:ext cx="700200" cy="865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logo cda"/>
          <p:cNvPicPr/>
          <p:nvPr/>
        </p:nvPicPr>
        <p:blipFill>
          <a:blip r:embed="rId3"/>
          <a:stretch/>
        </p:blipFill>
        <p:spPr>
          <a:xfrm>
            <a:off x="2411280" y="1773360"/>
            <a:ext cx="1511280" cy="725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logo CU"/>
          <p:cNvPicPr/>
          <p:nvPr/>
        </p:nvPicPr>
        <p:blipFill>
          <a:blip r:embed="rId4"/>
          <a:stretch/>
        </p:blipFill>
        <p:spPr>
          <a:xfrm>
            <a:off x="5724360" y="1773360"/>
            <a:ext cx="2303640" cy="637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logo d66"/>
          <p:cNvPicPr/>
          <p:nvPr/>
        </p:nvPicPr>
        <p:blipFill>
          <a:blip r:embed="rId5"/>
          <a:stretch/>
        </p:blipFill>
        <p:spPr>
          <a:xfrm>
            <a:off x="6227640" y="3068640"/>
            <a:ext cx="863640" cy="638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LOGO groen links"/>
          <p:cNvPicPr/>
          <p:nvPr/>
        </p:nvPicPr>
        <p:blipFill>
          <a:blip r:embed="rId6"/>
          <a:srcRect l="0" t="21404" r="0" b="0"/>
          <a:stretch/>
        </p:blipFill>
        <p:spPr>
          <a:xfrm>
            <a:off x="2411280" y="3716280"/>
            <a:ext cx="1441440" cy="523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9" descr="LOGO pvda"/>
          <p:cNvPicPr/>
          <p:nvPr/>
        </p:nvPicPr>
        <p:blipFill>
          <a:blip r:embed="rId7"/>
          <a:stretch/>
        </p:blipFill>
        <p:spPr>
          <a:xfrm>
            <a:off x="4427640" y="1773360"/>
            <a:ext cx="662040" cy="792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" descr="logo pvv"/>
          <p:cNvPicPr/>
          <p:nvPr/>
        </p:nvPicPr>
        <p:blipFill>
          <a:blip r:embed="rId8"/>
          <a:srcRect l="0" t="17829" r="0" b="19982"/>
          <a:stretch/>
        </p:blipFill>
        <p:spPr>
          <a:xfrm>
            <a:off x="2340000" y="2997360"/>
            <a:ext cx="1835280" cy="606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1" descr="logo sgp"/>
          <p:cNvPicPr/>
          <p:nvPr/>
        </p:nvPicPr>
        <p:blipFill>
          <a:blip r:embed="rId9"/>
          <a:srcRect l="16553" t="0" r="16723" b="11262"/>
          <a:stretch/>
        </p:blipFill>
        <p:spPr>
          <a:xfrm>
            <a:off x="8244000" y="30686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2" descr="LOGO sp"/>
          <p:cNvPicPr/>
          <p:nvPr/>
        </p:nvPicPr>
        <p:blipFill>
          <a:blip r:embed="rId10"/>
          <a:stretch/>
        </p:blipFill>
        <p:spPr>
          <a:xfrm>
            <a:off x="7236000" y="3068640"/>
            <a:ext cx="863280" cy="477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3" descr="logo pvvd"/>
          <p:cNvPicPr/>
          <p:nvPr/>
        </p:nvPicPr>
        <p:blipFill>
          <a:blip r:embed="rId11"/>
          <a:stretch/>
        </p:blipFill>
        <p:spPr>
          <a:xfrm>
            <a:off x="4356000" y="3068640"/>
            <a:ext cx="825480" cy="9349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395280" y="475920"/>
            <a:ext cx="8507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de regering / §6:Het Parle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563E-EAA8-4869-8D04-5FC7EC2D1D4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3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oalitiereger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ring die uit meerdere partijen besta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gerings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ft leden In het parlement én in de reg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de meerderheid zel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ppositie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ft leden in het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regering + stelt dingen v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6182-180B-4677-AC59-EE6BF79C581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5: De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8" descr="ministers anno 2008"/>
          <p:cNvPicPr/>
          <p:nvPr/>
        </p:nvPicPr>
        <p:blipFill>
          <a:blip r:embed="rId1"/>
          <a:stretch/>
        </p:blipFill>
        <p:spPr>
          <a:xfrm>
            <a:off x="250920" y="1125360"/>
            <a:ext cx="86421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E823-F6F9-4AF6-970C-FE190D805D8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547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(nieuwe) regering noteert de belangrijkste plannen voor komende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jaar in ee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geerakkoo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regeerakkoord050207"/>
          <p:cNvPicPr/>
          <p:nvPr/>
        </p:nvPicPr>
        <p:blipFill>
          <a:blip r:embed="rId1"/>
          <a:stretch/>
        </p:blipFill>
        <p:spPr>
          <a:xfrm>
            <a:off x="2195640" y="3141720"/>
            <a:ext cx="4714920" cy="3429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7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5: De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E449-A114-4908-BEC9-29F460A9188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576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doet de koning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t handtekening onder alle we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est de troonrede v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t met de minister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egenwoordigt ons land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lpt ná de verkiezingen met het vormen van de nieuwe reg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schend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7" descr="2006-09-20%20-%20Koningin%20Beatrix%20-%20troonrede%202006"/>
          <p:cNvPicPr/>
          <p:nvPr/>
        </p:nvPicPr>
        <p:blipFill>
          <a:blip r:embed="rId1"/>
          <a:srcRect l="8960" t="0" r="10939" b="5207"/>
          <a:stretch/>
        </p:blipFill>
        <p:spPr>
          <a:xfrm>
            <a:off x="5940360" y="1268280"/>
            <a:ext cx="2952720" cy="50292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De reg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8DBB-AA7A-4FE1-9ED1-D09762F518E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bbe0e3"/>
                </a:solidFill>
                <a:uFillTx/>
                <a:latin typeface="Arial"/>
              </a:rPr>
              <a:t>Normen:</a:t>
            </a:r>
            <a:r>
              <a:rPr b="1" lang="nl-NL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gedragsregels, v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erwachtingen over wat normaal is, manier van handelen waar mensen zich aan kunnen of moeten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bbe0e3"/>
                </a:solidFill>
                <a:uFillTx/>
                <a:latin typeface="Arial"/>
              </a:rPr>
              <a:t>Waarden</a:t>
            </a:r>
            <a:r>
              <a:rPr b="1" lang="nl-NL" sz="3200" spc="-1" strike="noStrike">
                <a:solidFill>
                  <a:srgbClr val="bbe0e3"/>
                </a:solidFill>
                <a:latin typeface="Arial"/>
              </a:rPr>
              <a:t>: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 waarden zijn dingen en denkbeelden waar we waarde aan hechten. Aspecten die we belangrijk vinden.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Waarde: eer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Norm: niet st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4335-A18F-4600-8CC5-03E7F4054A3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-324360" y="14130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Minister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ij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ek verantwoordelijk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oor hun beleidsterrein (portefeuil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ken zij ee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rnstige fou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tr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merleden dienen moti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wantrouwen 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angenomen = ook aftr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tie van wantrouwen tegen hele kabinetsbeleid = kabinets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fs"/>
          <p:cNvPicPr/>
          <p:nvPr/>
        </p:nvPicPr>
        <p:blipFill>
          <a:blip r:embed="rId1"/>
          <a:srcRect l="12929" t="0" r="9545" b="14848"/>
          <a:stretch/>
        </p:blipFill>
        <p:spPr>
          <a:xfrm>
            <a:off x="5219640" y="2781360"/>
            <a:ext cx="3672000" cy="252576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De reg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E06A-ED4E-448F-A1B5-FFF1EF0D20C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chtsstaat: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land waarin iedereen rechten heeft en waar deze rechten zijn vastgelegd in wet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riaspolitica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machtenschei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ze splitsing voorkomen we machtsmisbrui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gevend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itvoerende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erlijkem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324000" y="4437000"/>
            <a:ext cx="194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e en 2e kamer beslissen over de wetsvoorstell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3059280" y="4508640"/>
            <a:ext cx="2233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isters (en ambtenaren zoals de politie) voeren de wet ui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6227640" y="4430880"/>
            <a:ext cx="223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ers oordelen in specifieke situaties of er volgens de wet is gehandeld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7"/>
          <p:cNvSpPr/>
          <p:nvPr/>
        </p:nvSpPr>
        <p:spPr>
          <a:xfrm flipH="1">
            <a:off x="1692000" y="3573360"/>
            <a:ext cx="1150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435600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9"/>
          <p:cNvSpPr/>
          <p:nvPr/>
        </p:nvSpPr>
        <p:spPr>
          <a:xfrm>
            <a:off x="6443640" y="357336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0"/>
          <p:cNvSpPr/>
          <p:nvPr/>
        </p:nvSpPr>
        <p:spPr>
          <a:xfrm>
            <a:off x="611280" y="357336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885F-4B5F-4EAA-AEEA-CEC0FDAD160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65_montesquieu"/>
          <p:cNvPicPr/>
          <p:nvPr/>
        </p:nvPicPr>
        <p:blipFill>
          <a:blip r:embed="rId1"/>
          <a:stretch/>
        </p:blipFill>
        <p:spPr>
          <a:xfrm>
            <a:off x="395280" y="1268280"/>
            <a:ext cx="86043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250A-926E-4022-B693-A754E831A99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stembiljet"/>
          <p:cNvPicPr/>
          <p:nvPr/>
        </p:nvPicPr>
        <p:blipFill>
          <a:blip r:embed="rId1"/>
          <a:stretch/>
        </p:blipFill>
        <p:spPr>
          <a:xfrm>
            <a:off x="1908000" y="3429000"/>
            <a:ext cx="4535640" cy="151128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5"/>
          <p:cNvSpPr/>
          <p:nvPr/>
        </p:nvSpPr>
        <p:spPr>
          <a:xfrm>
            <a:off x="324000" y="1268280"/>
            <a:ext cx="8569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politieke partij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ideeë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l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langrijkste beleidsterreinen (programma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t kandidaten bij verkiez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 komen op voor het algemeen bela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250920" y="5013360"/>
            <a:ext cx="8893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pressiegroep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ideeë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nkel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langrijke beleidsterrein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t zich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I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erkiesbaa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beert de politiek te beïnvloe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74AC-8FED-4C6E-A61F-CBA622A58B8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doet het Parl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etgevende ta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temrecht bij wetsontwer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udgetrech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= rijksbegroting wel of niet goedke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itiatief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wetsontwerp ind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mendemen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bij meerderheid veranderingen aanbrengen in wetsvoorstellen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Interpellat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vragen in een spoeddeb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trolerende ta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ragenrech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elke dinsdag vragen stellen aan min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otie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bijvoorbeeld een motie van wantrouwen aannemen of ind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en va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terpellat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ver belangrijk onderwerp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poeddeb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ralementaire Enquêt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ouden, onderzoekscommissie vormen, onder ede laten getui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3" descr="j0124651.wmf (126222 bytes)"/>
          <p:cNvPicPr/>
          <p:nvPr/>
        </p:nvPicPr>
        <p:blipFill>
          <a:blip r:embed="rId1"/>
          <a:stretch/>
        </p:blipFill>
        <p:spPr>
          <a:xfrm>
            <a:off x="6516720" y="620640"/>
            <a:ext cx="2305080" cy="159408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5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EB4D-3B65-4B89-A29E-1E9714C71FB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-324360" y="1268280"/>
            <a:ext cx="97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 wetsontwerp naar 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ring maakt wetsontwerp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ndt ontwerp naar Tweede Kam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ractiespecialisten bekijken het, kunnen punten wijzigen, stellen vragen aan de minister: debateren. Daarna geeft voltallige Tweede Kamer het oordeel over het wetsontwerp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derheid Tweede Kamer voo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aat naar Eerste kam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g géén wijzigingen meer aannemen, bekijkt het nog eens goed, zegt: “ja” of “nee” (bijna altijd; “j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Betreffende minister + koningin zetten handtekening onder de 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Wet komt in de Staatscou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7" descr="staatscourant"/>
          <p:cNvPicPr/>
          <p:nvPr/>
        </p:nvPicPr>
        <p:blipFill>
          <a:blip r:embed="rId1"/>
          <a:stretch/>
        </p:blipFill>
        <p:spPr>
          <a:xfrm>
            <a:off x="4219560" y="5661000"/>
            <a:ext cx="4924440" cy="9334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7AE6-4EEB-4F12-8B2C-FF32AEFB30C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7705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decentraliseerde eenheidssta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jk beslit grote lijnen, gedetailleerde invullin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aan lagere overheden overgela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1042920" y="2637000"/>
            <a:ext cx="3240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ordel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een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centrale stu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r niet alles centraal geregel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re afstem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lokale zeggenschap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4716360" y="2708280"/>
            <a:ext cx="3492720" cy="28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Nadel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kale bevoegdheden zijn beperkt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é veel centrale stu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verscheidenhei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F6BF-95BB-441E-AD3D-A2B63E3B19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me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ar stemm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emeentera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liggen dichter bij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emmingspla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baar verv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ner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ort en onderwijsvoorzie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eca vergun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A512-A109-4D87-91BB-82CB7B0C1B5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et college van B&amp;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llege van Burgemeester en Wethou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t het beleid 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en benoemd door de gemeentera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meentera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emt beslui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t het college van B&amp;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gekozen door de bevol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burgemeest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voorzitter van de gemeenteraad en College van B&amp;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benoemd door de reg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A909-45D6-4D87-A692-323085EEA63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5"/>
          <p:cNvGrpSpPr/>
          <p:nvPr/>
        </p:nvGrpSpPr>
        <p:grpSpPr>
          <a:xfrm>
            <a:off x="179280" y="1773360"/>
            <a:ext cx="8675640" cy="3288240"/>
            <a:chOff x="179280" y="1773360"/>
            <a:chExt cx="8675640" cy="3288240"/>
          </a:xfrm>
        </p:grpSpPr>
        <p:sp>
          <p:nvSpPr>
            <p:cNvPr id="327" name="Text Box 4"/>
            <p:cNvSpPr/>
            <p:nvPr/>
          </p:nvSpPr>
          <p:spPr>
            <a:xfrm>
              <a:off x="2195280" y="3141720"/>
              <a:ext cx="2160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Burgemeest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5"/>
            <p:cNvSpPr/>
            <p:nvPr/>
          </p:nvSpPr>
          <p:spPr>
            <a:xfrm>
              <a:off x="212220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meenteraad (9 tot 45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6"/>
            <p:cNvSpPr/>
            <p:nvPr/>
          </p:nvSpPr>
          <p:spPr>
            <a:xfrm>
              <a:off x="457020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Wethouders (2-9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7"/>
            <p:cNvSpPr/>
            <p:nvPr/>
          </p:nvSpPr>
          <p:spPr>
            <a:xfrm>
              <a:off x="284292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B en W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8"/>
            <p:cNvSpPr/>
            <p:nvPr/>
          </p:nvSpPr>
          <p:spPr>
            <a:xfrm>
              <a:off x="17928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"/>
            <p:cNvSpPr/>
            <p:nvPr/>
          </p:nvSpPr>
          <p:spPr>
            <a:xfrm>
              <a:off x="349092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0"/>
            <p:cNvSpPr/>
            <p:nvPr/>
          </p:nvSpPr>
          <p:spPr>
            <a:xfrm>
              <a:off x="727056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GR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11"/>
            <p:cNvSpPr/>
            <p:nvPr/>
          </p:nvSpPr>
          <p:spPr>
            <a:xfrm>
              <a:off x="727056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GR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2"/>
            <p:cNvSpPr/>
            <p:nvPr/>
          </p:nvSpPr>
          <p:spPr>
            <a:xfrm>
              <a:off x="356220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3"/>
            <p:cNvSpPr/>
            <p:nvPr/>
          </p:nvSpPr>
          <p:spPr>
            <a:xfrm>
              <a:off x="565128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4"/>
            <p:cNvSpPr/>
            <p:nvPr/>
          </p:nvSpPr>
          <p:spPr>
            <a:xfrm>
              <a:off x="572292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5"/>
            <p:cNvSpPr/>
            <p:nvPr/>
          </p:nvSpPr>
          <p:spPr>
            <a:xfrm>
              <a:off x="176184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6"/>
            <p:cNvSpPr/>
            <p:nvPr/>
          </p:nvSpPr>
          <p:spPr>
            <a:xfrm flipH="1">
              <a:off x="709092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4"/>
            <p:cNvSpPr/>
            <p:nvPr/>
          </p:nvSpPr>
          <p:spPr>
            <a:xfrm flipV="1">
              <a:off x="5506920" y="4437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30"/>
            <p:cNvSpPr/>
            <p:nvPr/>
          </p:nvSpPr>
          <p:spPr>
            <a:xfrm>
              <a:off x="2050920" y="4724280"/>
              <a:ext cx="680400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ekozen door de bevolk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B0B9-5215-40A7-88AC-A70755E92AA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bbe0e3"/>
                </a:solidFill>
                <a:latin typeface="Arial"/>
              </a:rPr>
              <a:t>Propaganda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: doelbewust eenzijdige informatie geven, om meningen te beinvlo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bbe0e3"/>
                </a:solidFill>
                <a:latin typeface="Arial"/>
              </a:rPr>
              <a:t>Manipulatie: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 met opzet feiten weglaten of vera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bbe0e3"/>
                </a:solidFill>
                <a:latin typeface="Arial"/>
              </a:rPr>
              <a:t>Indoctrinatie: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 voortdurend opdringen van bepaalde meningen (met behulp van zeer intensieve psychologische middeltjes)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2016-52A4-45EE-89F7-9DBCA4FE05F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vinc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 stemm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provincial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aken liggen bi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telijke ord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li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zicht op geme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zicht op waterbeh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B9A4-A906-480E-B386-DFCE01BB18B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dental Provinciale Staten hangt af van aantal inwoners van de provinc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Provinciale Staten kiezen de leden van de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deputeerde Stat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dagelijks best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814B-0738-4CCB-9EB4-C661D25BF93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3"/>
          <p:cNvGrpSpPr/>
          <p:nvPr/>
        </p:nvGrpSpPr>
        <p:grpSpPr>
          <a:xfrm>
            <a:off x="468360" y="1773360"/>
            <a:ext cx="8675640" cy="2600280"/>
            <a:chOff x="468360" y="1773360"/>
            <a:chExt cx="8675640" cy="2600280"/>
          </a:xfrm>
        </p:grpSpPr>
        <p:sp>
          <p:nvSpPr>
            <p:cNvPr id="351" name="Text Box 4"/>
            <p:cNvSpPr/>
            <p:nvPr/>
          </p:nvSpPr>
          <p:spPr>
            <a:xfrm>
              <a:off x="2484360" y="3141720"/>
              <a:ext cx="2160720" cy="64260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mmissaris van de 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5"/>
            <p:cNvSpPr/>
            <p:nvPr/>
          </p:nvSpPr>
          <p:spPr>
            <a:xfrm>
              <a:off x="241128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Provinciale Staten (39 tot 83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6"/>
            <p:cNvSpPr/>
            <p:nvPr/>
          </p:nvSpPr>
          <p:spPr>
            <a:xfrm>
              <a:off x="485928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deputeerden (6-8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7"/>
            <p:cNvSpPr/>
            <p:nvPr/>
          </p:nvSpPr>
          <p:spPr>
            <a:xfrm>
              <a:off x="313200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Gedeputeerde Stat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8"/>
            <p:cNvSpPr/>
            <p:nvPr/>
          </p:nvSpPr>
          <p:spPr>
            <a:xfrm>
              <a:off x="46836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"/>
            <p:cNvSpPr/>
            <p:nvPr/>
          </p:nvSpPr>
          <p:spPr>
            <a:xfrm>
              <a:off x="378000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0"/>
            <p:cNvSpPr/>
            <p:nvPr/>
          </p:nvSpPr>
          <p:spPr>
            <a:xfrm>
              <a:off x="755964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11"/>
            <p:cNvSpPr/>
            <p:nvPr/>
          </p:nvSpPr>
          <p:spPr>
            <a:xfrm>
              <a:off x="755964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2"/>
            <p:cNvSpPr/>
            <p:nvPr/>
          </p:nvSpPr>
          <p:spPr>
            <a:xfrm>
              <a:off x="385128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3"/>
            <p:cNvSpPr/>
            <p:nvPr/>
          </p:nvSpPr>
          <p:spPr>
            <a:xfrm>
              <a:off x="594036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14"/>
            <p:cNvSpPr/>
            <p:nvPr/>
          </p:nvSpPr>
          <p:spPr>
            <a:xfrm>
              <a:off x="601200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5"/>
            <p:cNvSpPr/>
            <p:nvPr/>
          </p:nvSpPr>
          <p:spPr>
            <a:xfrm>
              <a:off x="205092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6"/>
            <p:cNvSpPr/>
            <p:nvPr/>
          </p:nvSpPr>
          <p:spPr>
            <a:xfrm flipH="1">
              <a:off x="738000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17"/>
          <p:cNvSpPr/>
          <p:nvPr/>
        </p:nvSpPr>
        <p:spPr>
          <a:xfrm>
            <a:off x="7920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5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521964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3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9"/>
          <p:cNvSpPr/>
          <p:nvPr/>
        </p:nvSpPr>
        <p:spPr>
          <a:xfrm>
            <a:off x="6588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4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370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2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226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1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2"/>
          <p:cNvSpPr/>
          <p:nvPr/>
        </p:nvSpPr>
        <p:spPr>
          <a:xfrm flipV="1">
            <a:off x="284328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3"/>
          <p:cNvSpPr/>
          <p:nvPr/>
        </p:nvSpPr>
        <p:spPr>
          <a:xfrm flipV="1">
            <a:off x="4284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4"/>
          <p:cNvSpPr/>
          <p:nvPr/>
        </p:nvSpPr>
        <p:spPr>
          <a:xfrm flipV="1">
            <a:off x="5796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5"/>
          <p:cNvSpPr/>
          <p:nvPr/>
        </p:nvSpPr>
        <p:spPr>
          <a:xfrm flipV="1">
            <a:off x="716436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6"/>
          <p:cNvSpPr/>
          <p:nvPr/>
        </p:nvSpPr>
        <p:spPr>
          <a:xfrm flipV="1">
            <a:off x="8532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7"/>
          <p:cNvSpPr/>
          <p:nvPr/>
        </p:nvSpPr>
        <p:spPr>
          <a:xfrm>
            <a:off x="3564000" y="5589720"/>
            <a:ext cx="36003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iegelingscollege: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le grote partijen in G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5AD2-A651-45F4-AE5E-FCE341F2158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3"/>
          <p:cNvGrpSpPr/>
          <p:nvPr/>
        </p:nvGrpSpPr>
        <p:grpSpPr>
          <a:xfrm>
            <a:off x="468360" y="1773360"/>
            <a:ext cx="8675640" cy="2600280"/>
            <a:chOff x="468360" y="1773360"/>
            <a:chExt cx="8675640" cy="2600280"/>
          </a:xfrm>
        </p:grpSpPr>
        <p:sp>
          <p:nvSpPr>
            <p:cNvPr id="378" name="Text Box 4"/>
            <p:cNvSpPr/>
            <p:nvPr/>
          </p:nvSpPr>
          <p:spPr>
            <a:xfrm>
              <a:off x="2484360" y="3141720"/>
              <a:ext cx="2160720" cy="64260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mmissaris van de 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5"/>
            <p:cNvSpPr/>
            <p:nvPr/>
          </p:nvSpPr>
          <p:spPr>
            <a:xfrm>
              <a:off x="241128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Provinciale Staten (39 tot 83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6"/>
            <p:cNvSpPr/>
            <p:nvPr/>
          </p:nvSpPr>
          <p:spPr>
            <a:xfrm>
              <a:off x="485928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deputeerden (6-8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7"/>
            <p:cNvSpPr/>
            <p:nvPr/>
          </p:nvSpPr>
          <p:spPr>
            <a:xfrm>
              <a:off x="313200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Gedeputeerde Stat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8"/>
            <p:cNvSpPr/>
            <p:nvPr/>
          </p:nvSpPr>
          <p:spPr>
            <a:xfrm>
              <a:off x="46836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9"/>
            <p:cNvSpPr/>
            <p:nvPr/>
          </p:nvSpPr>
          <p:spPr>
            <a:xfrm>
              <a:off x="378000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0"/>
            <p:cNvSpPr/>
            <p:nvPr/>
          </p:nvSpPr>
          <p:spPr>
            <a:xfrm>
              <a:off x="755964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1"/>
            <p:cNvSpPr/>
            <p:nvPr/>
          </p:nvSpPr>
          <p:spPr>
            <a:xfrm>
              <a:off x="755964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2"/>
            <p:cNvSpPr/>
            <p:nvPr/>
          </p:nvSpPr>
          <p:spPr>
            <a:xfrm>
              <a:off x="385128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3"/>
            <p:cNvSpPr/>
            <p:nvPr/>
          </p:nvSpPr>
          <p:spPr>
            <a:xfrm>
              <a:off x="594036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4"/>
            <p:cNvSpPr/>
            <p:nvPr/>
          </p:nvSpPr>
          <p:spPr>
            <a:xfrm>
              <a:off x="601200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5"/>
            <p:cNvSpPr/>
            <p:nvPr/>
          </p:nvSpPr>
          <p:spPr>
            <a:xfrm>
              <a:off x="205092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6"/>
            <p:cNvSpPr/>
            <p:nvPr/>
          </p:nvSpPr>
          <p:spPr>
            <a:xfrm flipH="1">
              <a:off x="738000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17"/>
          <p:cNvSpPr/>
          <p:nvPr/>
        </p:nvSpPr>
        <p:spPr>
          <a:xfrm>
            <a:off x="7920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5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8"/>
          <p:cNvSpPr/>
          <p:nvPr/>
        </p:nvSpPr>
        <p:spPr>
          <a:xfrm>
            <a:off x="521964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3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9"/>
          <p:cNvSpPr/>
          <p:nvPr/>
        </p:nvSpPr>
        <p:spPr>
          <a:xfrm>
            <a:off x="6588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4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0"/>
          <p:cNvSpPr/>
          <p:nvPr/>
        </p:nvSpPr>
        <p:spPr>
          <a:xfrm>
            <a:off x="370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2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1"/>
          <p:cNvSpPr/>
          <p:nvPr/>
        </p:nvSpPr>
        <p:spPr>
          <a:xfrm>
            <a:off x="226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1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2"/>
          <p:cNvSpPr/>
          <p:nvPr/>
        </p:nvSpPr>
        <p:spPr>
          <a:xfrm flipV="1">
            <a:off x="5796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3"/>
          <p:cNvSpPr/>
          <p:nvPr/>
        </p:nvSpPr>
        <p:spPr>
          <a:xfrm flipV="1">
            <a:off x="716436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4"/>
          <p:cNvSpPr/>
          <p:nvPr/>
        </p:nvSpPr>
        <p:spPr>
          <a:xfrm flipV="1">
            <a:off x="8532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5"/>
          <p:cNvSpPr/>
          <p:nvPr/>
        </p:nvSpPr>
        <p:spPr>
          <a:xfrm>
            <a:off x="3564000" y="5589720"/>
            <a:ext cx="50403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heidscollege: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mmige fracties in GS (krijgt politieke kleur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9CC4-F7C4-495A-A1C7-7D862D5B8E7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23640" y="1600200"/>
            <a:ext cx="4392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U: Europese 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 munteenheid (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voor v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concurrentie in 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al ecnomische be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5 jaar geko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5" descr="europe%20flag"/>
          <p:cNvPicPr/>
          <p:nvPr/>
        </p:nvPicPr>
        <p:blipFill>
          <a:blip r:embed="rId1"/>
          <a:stretch/>
        </p:blipFill>
        <p:spPr>
          <a:xfrm>
            <a:off x="4500720" y="2205000"/>
            <a:ext cx="43210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CB8E-6495-4384-BB7C-51AB71B949A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427280" y="1557360"/>
            <a:ext cx="4392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U: Europese Unie: na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nationale soevereiniteit: De Nederlandse regering kan niet alles zelf besl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inig democratisch karak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se burger hebben minder invloed op besluiten van de EU (dan van onze nationale reg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werkgelegen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5" descr="EU%20vlag"/>
          <p:cNvPicPr/>
          <p:nvPr/>
        </p:nvPicPr>
        <p:blipFill>
          <a:blip r:embed="rId1"/>
          <a:stretch/>
        </p:blipFill>
        <p:spPr>
          <a:xfrm>
            <a:off x="250920" y="1844640"/>
            <a:ext cx="3889440" cy="27860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6756-9E2A-4614-BFCE-7E39CEA59EF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zijn drie instellingen die samen het bestuur van de Europese Unie vorm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se Commiss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es Par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ad van Min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6" descr="EU%20vlag"/>
          <p:cNvPicPr/>
          <p:nvPr/>
        </p:nvPicPr>
        <p:blipFill>
          <a:blip r:embed="rId1"/>
          <a:stretch/>
        </p:blipFill>
        <p:spPr>
          <a:xfrm>
            <a:off x="6227640" y="4581360"/>
            <a:ext cx="2162160" cy="154944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AEC7-7ACC-46A8-8F1B-E5113E8E1DF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uropese Commissie: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 het 'dagelijks bestuur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initiatief tot voorstellen voor wetgeving en maatregelen op Europees nive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zorgt voor uitvoering van de w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EU%20vlag"/>
          <p:cNvPicPr/>
          <p:nvPr/>
        </p:nvPicPr>
        <p:blipFill>
          <a:blip r:embed="rId1"/>
          <a:stretch/>
        </p:blipFill>
        <p:spPr>
          <a:xfrm>
            <a:off x="6227640" y="4581360"/>
            <a:ext cx="2162160" cy="154944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F178-27E3-4677-B76A-5960A77926E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Europees Parlemen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5 jaar geko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ervoor dat wetten democratisch tot stand ko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viseert of beslist over de wetsvoorstell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list over de toetreding van nieuwe land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trole over de Europese Commiss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EU%20vlag"/>
          <p:cNvPicPr/>
          <p:nvPr/>
        </p:nvPicPr>
        <p:blipFill>
          <a:blip r:embed="rId1"/>
          <a:stretch/>
        </p:blipFill>
        <p:spPr>
          <a:xfrm>
            <a:off x="7126200" y="5411880"/>
            <a:ext cx="2017800" cy="14461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E9C9-7438-4936-AAAB-113947B472B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aad van Min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ministers van de afzonderlijke lidstaten nemen de uiteindelijke beslissing over de wetgeving in de Un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eggen met regeringsleiders (euro-to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uisteren naar voorstellen van de Commissie en het advies van het Europees Parl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EU%20vlag"/>
          <p:cNvPicPr/>
          <p:nvPr/>
        </p:nvPicPr>
        <p:blipFill>
          <a:blip r:embed="rId1"/>
          <a:stretch/>
        </p:blipFill>
        <p:spPr>
          <a:xfrm>
            <a:off x="6804000" y="5157720"/>
            <a:ext cx="2017800" cy="144612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94B9-B2F5-41C6-A927-6CCE7313205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586728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bbe0e3"/>
                </a:solidFill>
                <a:uFillTx/>
                <a:latin typeface="Arial"/>
              </a:rPr>
              <a:t>Stereotypering</a:t>
            </a:r>
            <a:r>
              <a:rPr b="1" lang="nl-NL" sz="2000" spc="-1" strike="noStrike">
                <a:solidFill>
                  <a:srgbClr val="bbe0e3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Beeld van een bepaalde bevolkingsgroep dat met de werkelijkheid weinig of niets te maken heeft.</a:t>
            </a:r>
            <a:br>
              <a:rPr sz="2000"/>
            </a:b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VB: Afrikanen in rieten rokjes met botjes in hun neus en dikke li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Nederlanders op klom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bbe0e3"/>
                </a:solidFill>
                <a:uFillTx/>
                <a:latin typeface="Arial"/>
              </a:rPr>
              <a:t>Vooroordeel</a:t>
            </a:r>
            <a:r>
              <a:rPr b="1" lang="nl-NL" sz="2000" spc="-1" strike="noStrike">
                <a:solidFill>
                  <a:srgbClr val="bbe0e3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Een vooroordeel is een mening over iemand of een groep mensen die niet op feiten is gebasee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VB: 'alle duitsers hebben bierbuiken, 'Belgen zijn dom', 'Nederlanders zijn krenterig' of 'dikke mensen zijn gezellig</a:t>
            </a:r>
            <a:r>
              <a:rPr b="1" lang="nl-NL" sz="2000" spc="-1" strike="noStrike">
                <a:solidFill>
                  <a:srgbClr val="bbe0e3"/>
                </a:solidFill>
                <a:latin typeface="Arial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bbe0e3"/>
                </a:solidFill>
                <a:uFillTx/>
                <a:latin typeface="Arial"/>
              </a:rPr>
              <a:t>Discriminatie</a:t>
            </a:r>
            <a:r>
              <a:rPr b="1" lang="nl-NL" sz="2000" spc="-1" strike="noStrike">
                <a:solidFill>
                  <a:srgbClr val="bbe0e3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Als mensen op basis van deze vooroordelen worden achtergesteld, is er sprake van discriminat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10809"/>
          <p:cNvPicPr/>
          <p:nvPr/>
        </p:nvPicPr>
        <p:blipFill>
          <a:blip r:embed="rId1"/>
          <a:stretch/>
        </p:blipFill>
        <p:spPr>
          <a:xfrm>
            <a:off x="7451640" y="1052640"/>
            <a:ext cx="1438200" cy="2666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121581"/>
          <p:cNvPicPr/>
          <p:nvPr/>
        </p:nvPicPr>
        <p:blipFill>
          <a:blip r:embed="rId2"/>
          <a:srcRect l="9962" t="2883" r="10174" b="4043"/>
          <a:stretch/>
        </p:blipFill>
        <p:spPr>
          <a:xfrm>
            <a:off x="6300720" y="39337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6495-A849-4EE9-82A5-0268C4B2B32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Leden van de E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74" descr=""/>
          <p:cNvPicPr/>
          <p:nvPr/>
        </p:nvPicPr>
        <p:blipFill>
          <a:blip r:embed="rId1"/>
          <a:srcRect l="16032" t="25589" r="21208" b="36162"/>
          <a:stretch/>
        </p:blipFill>
        <p:spPr>
          <a:xfrm>
            <a:off x="0" y="2060640"/>
            <a:ext cx="8820000" cy="403236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528F-24ED-415D-8DF1-A4814E4DDF6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EU%20vlag"/>
          <p:cNvPicPr/>
          <p:nvPr/>
        </p:nvPicPr>
        <p:blipFill>
          <a:blip r:embed="rId1"/>
          <a:stretch/>
        </p:blipFill>
        <p:spPr>
          <a:xfrm>
            <a:off x="6877080" y="5229360"/>
            <a:ext cx="2017800" cy="1446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" descr=""/>
          <p:cNvPicPr/>
          <p:nvPr/>
        </p:nvPicPr>
        <p:blipFill>
          <a:blip r:embed="rId2"/>
          <a:srcRect l="15301" t="22439" r="24154" b="7683"/>
          <a:stretch/>
        </p:blipFill>
        <p:spPr>
          <a:xfrm>
            <a:off x="1187280" y="1413000"/>
            <a:ext cx="6048720" cy="52354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027E-DF36-4681-8A12-655465052AF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enigde Naties (V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na alle landen van de wereld zijn er lid 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el: komende generaties behoeden voor oor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internationale vrede en veiligheid te handh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 werken bij natuurrampen, oorlog, hongersnood en arm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spect bevorderen van mensen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lag V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6" descr="Vlag van de Verenigde Naties"/>
          <p:cNvPicPr/>
          <p:nvPr/>
        </p:nvPicPr>
        <p:blipFill>
          <a:blip r:embed="rId1"/>
          <a:stretch/>
        </p:blipFill>
        <p:spPr>
          <a:xfrm>
            <a:off x="6667560" y="5210280"/>
            <a:ext cx="2476440" cy="16477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DF97-CCF6-4D55-9D7B-A8C3916CEA3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stuur van de Verenigde Naties (V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zijn zes bestuursorganen die de werkzaamheden van de organisatie aansturen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Algemene Verga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conomische en Sociale 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Internationaal Gerechtsh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Secretariaat (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craterus-genera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Trustschapsraad (tegenwoordig inactief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Veiligheids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4" descr="Vlag van de Verenigde Naties"/>
          <p:cNvPicPr/>
          <p:nvPr/>
        </p:nvPicPr>
        <p:blipFill>
          <a:blip r:embed="rId1"/>
          <a:stretch/>
        </p:blipFill>
        <p:spPr>
          <a:xfrm>
            <a:off x="6667560" y="3357720"/>
            <a:ext cx="2476440" cy="16477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C197-FAAA-4D4D-90AB-8E76A714B32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september tot december bespreken ze de problemen in de wer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s komt er een resolutie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t is een soort niet bindende wetge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 kunnen voorstellen om een land te boyc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edestroepen: ze kunnen militairen sturen naar een gebied. (zoals de Nederlandse Blauwhel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4" descr="Vlag van de Verenigde Naties"/>
          <p:cNvPicPr/>
          <p:nvPr/>
        </p:nvPicPr>
        <p:blipFill>
          <a:blip r:embed="rId1"/>
          <a:stretch/>
        </p:blipFill>
        <p:spPr>
          <a:xfrm>
            <a:off x="1476360" y="4941720"/>
            <a:ext cx="2476440" cy="16480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10828987"/>
          <p:cNvPicPr/>
          <p:nvPr/>
        </p:nvPicPr>
        <p:blipFill>
          <a:blip r:embed="rId2"/>
          <a:stretch/>
        </p:blipFill>
        <p:spPr>
          <a:xfrm>
            <a:off x="5724360" y="4941720"/>
            <a:ext cx="2381400" cy="16574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0612-5624-466E-878E-431BC014523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5" descr="sw_einde"/>
          <p:cNvPicPr/>
          <p:nvPr/>
        </p:nvPicPr>
        <p:blipFill>
          <a:blip r:embed="rId1"/>
          <a:stretch/>
        </p:blipFill>
        <p:spPr>
          <a:xfrm>
            <a:off x="2195640" y="476280"/>
            <a:ext cx="38750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jdelijke aanduiding voor dianumm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C51B-8C99-4873-9825-D93AAB65B47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28760" y="642960"/>
          <a:ext cx="8334360" cy="5962680"/>
        </p:xfrm>
        <a:graphic>
          <a:graphicData uri="http://schemas.openxmlformats.org/drawingml/2006/table">
            <a:tbl>
              <a:tblPr/>
              <a:tblGrid>
                <a:gridCol w="1836720"/>
                <a:gridCol w="630000"/>
                <a:gridCol w="3043440"/>
                <a:gridCol w="630000"/>
                <a:gridCol w="2194200"/>
              </a:tblGrid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ND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TVANG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EF/SUBJECTIEF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eiten/Meningen [Meerdere kanten]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ROUWBARE BRONNE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BS, Wikipedia, edu-sites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IPUL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TIEVE WAARNEMING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erdraaien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send voor jezelf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GANDA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enzijdig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IEKAD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OCTRIN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rvaring, Waarden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wingend/Langdurig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RIMIN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reotypering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oroordele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7639-47E0-4CDC-99FF-CC6E087F395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Hoofdstuk 3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arlementaire democr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539640" y="623736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Toets eind oktober 2009                  Pagina 68 t/m 108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65_montesquieu"/>
          <p:cNvPicPr/>
          <p:nvPr/>
        </p:nvPicPr>
        <p:blipFill>
          <a:blip r:embed="rId1"/>
          <a:stretch/>
        </p:blipFill>
        <p:spPr>
          <a:xfrm>
            <a:off x="1692360" y="2708280"/>
            <a:ext cx="5933880" cy="329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question_mark_3d"/>
          <p:cNvPicPr/>
          <p:nvPr/>
        </p:nvPicPr>
        <p:blipFill>
          <a:blip r:embed="rId2"/>
          <a:stretch/>
        </p:blipFill>
        <p:spPr>
          <a:xfrm rot="1550400">
            <a:off x="4140360" y="2060640"/>
            <a:ext cx="26762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l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bin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tengenera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4838-A808-4172-BE21-B25FD3E5CE2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Absent</cp:lastModifiedBy>
  <dcterms:modified xsi:type="dcterms:W3CDTF">2009-09-24T12:05:12Z</dcterms:modified>
  <cp:revision>62</cp:revision>
  <dc:subject/>
  <dc:title>Dia 1</dc:title>
</cp:coreProperties>
</file>