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237-A77A-40EF-A913-C7BBB423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770-9353-40DC-89DE-82A488FF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6F9-5E99-46A3-9E95-1817FEEA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B01-28E1-4DA9-8E66-72C2554D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F8F-5FA5-4657-8374-B473699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398-493C-4CB9-AAA2-D3878FA3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93F-1CCC-44CB-9A75-B4B41C3A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F22-0D71-4BFF-B8BF-5B86E4B0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879-FDE3-4C72-AC1B-1E5257C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FD0-A8E4-4381-B738-40FC223F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41E-9D74-4BDC-ADA6-86E64145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B28-83BB-435E-B5F8-E7F6B1B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29B1-B24C-4124-AE6F-77AF697B1C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29F4-627E-4E0C-875D-8CED9D2F76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  </a:t>
            </a:r>
            <a:r>
              <a:rPr b="1" lang="nl-NL" sz="3000" spc="-1" strike="noStrike">
                <a:solidFill>
                  <a:srgbClr val="19194d"/>
                </a:solidFill>
                <a:latin typeface="Arial"/>
              </a:rPr>
              <a:t>Sociale verzekeringen. </a:t>
            </a: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 De sociale verzekeringen zijn verplicht en er zijn 2 soorten de werknemers verzekering en de volks verzekering. </a:t>
            </a: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58D4-5A91-463B-A480-1245029646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ij"/>
          <p:cNvPicPr/>
          <p:nvPr/>
        </p:nvPicPr>
        <p:blipFill>
          <a:blip r:embed="rId1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Werknemersverzekeringen.  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Is voor mensen met loondienst. De premie die je moet betalen , hangt af van je loon en wordt ook van je salaris afgetrok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Volksverzekeringen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: gelden voor iedereen!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3514-1115-4F63-934D-E569341FEE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ontslag"/>
          <p:cNvPicPr/>
          <p:nvPr/>
        </p:nvPicPr>
        <p:blipFill>
          <a:blip r:embed="rId1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B6EC-0D7B-46C7-B2FB-E2B4109617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w -&gt; werklooshei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ulbz -&gt; wet uitkering loondoorbetaling bij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Zw -&gt; Ziekte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ia -&gt; wet werk en inkomen naar arbeids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Wel als je minsten 26 uur van de 36 gewerkt h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3 jaar &amp; 2 maanden gebruik maken van deze w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ontslagen wordt door je baas, krijg je van de overheid een WW (werkeloosheidswet). De eerste twee maanden 75% van je laatst verdiende loon en daarna 7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zelf ontslag neemt krijg je geen W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hthoek 6" descr=""/>
          <p:cNvPicPr/>
          <p:nvPr/>
        </p:nvPicPr>
        <p:blipFill>
          <a:blip r:embed="rId1"/>
          <a:stretch/>
        </p:blipFill>
        <p:spPr>
          <a:xfrm>
            <a:off x="1401840" y="255600"/>
            <a:ext cx="63831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rkgever die gedurende 2 jaar loon betaald aan werkg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Bepaalde situaties niet, die behoren bij ziektew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a twee jaar kom je bij de WIA. Je krijgt dan 70% van je laatst verdiende l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hthoek 6" descr=""/>
          <p:cNvPicPr/>
          <p:nvPr/>
        </p:nvPicPr>
        <p:blipFill>
          <a:blip r:embed="rId1"/>
          <a:stretch/>
        </p:blipFill>
        <p:spPr>
          <a:xfrm>
            <a:off x="2919240" y="384120"/>
            <a:ext cx="3895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412640"/>
            <a:ext cx="78343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iet iedereen heeft recht op een doorbetaalde WULBZ </a:t>
            </a:r>
            <a:r>
              <a:rPr b="0" lang="nl-NL" sz="3200" spc="-1" strike="noStrike">
                <a:solidFill>
                  <a:srgbClr val="19194d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 Dan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ls je een WW hebt krijg je een lagere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Geen recht op WULBZ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tijdelijk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zwangere werknee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usici arti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uitzendkr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ensen met een WW uit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krijgen vaak lagere ZW uitk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hthoek 7" descr=""/>
          <p:cNvPicPr/>
          <p:nvPr/>
        </p:nvPicPr>
        <p:blipFill>
          <a:blip r:embed="rId1"/>
          <a:stretch/>
        </p:blipFill>
        <p:spPr>
          <a:xfrm>
            <a:off x="2279520" y="255600"/>
            <a:ext cx="5048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B586-6AD0-4EB2-9E0F-4E16E8FE9E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19159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t inkomen naar arbeidsverle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rbeidsongeschik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Langer dan 2 jaar zi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oor je niet bij WULB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eb je uitkering van W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Kan deels worden toegewezen (voorbeeld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hthoek 6" descr=""/>
          <p:cNvPicPr/>
          <p:nvPr/>
        </p:nvPicPr>
        <p:blipFill>
          <a:blip r:embed="rId1"/>
          <a:stretch/>
        </p:blipFill>
        <p:spPr>
          <a:xfrm>
            <a:off x="3114720" y="401760"/>
            <a:ext cx="29876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CB00-2086-4C6B-8360-99B377623E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92DF-AD1C-4BD3-A23F-60E758FD4A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A47-433F-4B18-8DFA-99BC5A4CB4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06A9-1D16-4EEB-BFE3-C9BD9DBE92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rcRect l="3543" t="34699" r="61612" b="19529"/>
          <a:stretch/>
        </p:blipFill>
        <p:spPr>
          <a:xfrm>
            <a:off x="1763640" y="476280"/>
            <a:ext cx="5688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6465-84DB-4D2A-A971-F03304956D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24"/>
          <p:cNvCxnSpPr>
            <a:stCxn id="132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25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6"/>
          <p:cNvCxnSpPr>
            <a:endCxn id="134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7"/>
          <p:cNvCxnSpPr>
            <a:stCxn id="135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8"/>
          <p:cNvCxnSpPr>
            <a:stCxn id="137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30"/>
          <p:cNvCxnSpPr>
            <a:stCxn id="131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31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32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AutoShape 33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34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AutoShape 35"/>
          <p:cNvCxnSpPr>
            <a:stCxn id="129" idx="0"/>
            <a:endCxn id="132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36"/>
          <p:cNvCxnSpPr>
            <a:stCxn id="129" idx="1"/>
            <a:endCxn id="131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37"/>
          <p:cNvCxnSpPr>
            <a:stCxn id="130" idx="0"/>
            <a:endCxn id="133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38"/>
          <p:cNvCxnSpPr>
            <a:stCxn id="128" idx="0"/>
            <a:endCxn id="129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39"/>
          <p:cNvCxnSpPr>
            <a:stCxn id="128" idx="1"/>
            <a:endCxn id="130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C3D5-713E-43D4-BF5D-AB709940D2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yn004_original_300_300_gif_3393_dff762f4410a90ec9f3116881b3b4adb"/>
          <p:cNvPicPr/>
          <p:nvPr/>
        </p:nvPicPr>
        <p:blipFill>
          <a:blip r:embed="rId1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DEB8-A1C7-4A2F-AB34-E0F0847B39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6F64-0FC3-4C1F-9D95-7472880B37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n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jf 9 begrippen op uit de lij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k beschrijf het be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orstrepen als je begrip is gewe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s weg: BINGO! = prij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099"/>
          <p:cNvPicPr/>
          <p:nvPr/>
        </p:nvPicPr>
        <p:blipFill>
          <a:blip r:embed="rId1"/>
          <a:stretch/>
        </p:blipFill>
        <p:spPr>
          <a:xfrm>
            <a:off x="6516720" y="3936960"/>
            <a:ext cx="2071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604-249C-42A7-A2EF-F0DB1A4C3A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hthoek 4" descr=""/>
          <p:cNvPicPr/>
          <p:nvPr/>
        </p:nvPicPr>
        <p:blipFill>
          <a:blip r:embed="rId1"/>
          <a:stretch/>
        </p:blipFill>
        <p:spPr>
          <a:xfrm>
            <a:off x="1444680" y="165240"/>
            <a:ext cx="5400720" cy="1974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www.cov-oostvlaanderen.be/images/zijn%20er%20nog%20vragen.jpg"/>
          <p:cNvPicPr/>
          <p:nvPr/>
        </p:nvPicPr>
        <p:blipFill>
          <a:blip r:embed="rId2"/>
          <a:stretch/>
        </p:blipFill>
        <p:spPr>
          <a:xfrm>
            <a:off x="1928880" y="2214720"/>
            <a:ext cx="4533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2A65-92AD-412E-B9FD-19EEDB346D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A157-89D4-4EA1-9277-FCF8549C98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133720" y="1523880"/>
            <a:ext cx="6858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evereiniteit in eigen kring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rotestants-christelij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atschappelijke groepen bi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eigen kring moeten voor elkaar zorgen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verheid niet mee bemoei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bsidariteitsbeginse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atholie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inanciering armenzorg door overh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wel geaccepteer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zodra burgers zelf initiatieven toond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overheid terugtrekk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55F9-BA32-457A-ABA0-4938E28E93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§4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7E00-650F-4970-91AD-7B054DF706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B546-E12B-4314-9F6F-2E9D62678C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E9FC-785C-4BF4-A566-8D1AF0DBC2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3-03-08T12:14:44Z</dcterms:modified>
  <cp:revision>63</cp:revision>
  <dc:subject/>
  <dc:title>Dia 1</dc:title>
</cp:coreProperties>
</file>