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72C8-A53F-4634-97A2-E42DAE05F0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8E4-2E08-4511-A8DC-F2165C96FD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DAA-E69D-4090-8023-5767F78C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27A-E1F6-4D43-9E79-CF3BE5AF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4CA-9DBE-49F4-B7AE-2ACBBC73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9F4-2989-45E9-9BED-0C0C7F32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DD1-B0DE-4A42-818D-4363A6A4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113-B04F-42B9-A80D-C7E5527B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9FD-6F0C-402E-8790-6D8F8AD1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9EA-8D70-46EB-A63A-3BAF6D22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166-078A-4DBD-B4B1-61F35C71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BDE-68D3-492B-8A2D-A47C437B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364-59C7-4C1E-B1CE-038DCA46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FBD-1073-4222-AAC3-A9B0B87A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B780-2960-4B52-BBCB-BA78AED3CF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0792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rech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(materi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 belangrijkste wetten in Nederland staan hier in (buiten de grondwet d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Wat de strafbare feiten zijn en welke straffen ervoor kunnen uitgesprok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Strafbare feiten omschrev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Zoals: moord, diefstal, oplichting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vordering: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form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paalt hoe strafbare feiten vervolgd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handelt de hele procedure van aanhouding t/m de strafoplegging door de rech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ze twee wetboeken vormen de basis van het Nederlandse strafrec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DE4E-2A03-4BF9-BE80-77B4FD344F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F07F-B072-418E-B6A1-C7AAD3B759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63640" y="220500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ail"/>
          <p:cNvPicPr/>
          <p:nvPr/>
        </p:nvPicPr>
        <p:blipFill>
          <a:blip r:embed="rId3"/>
          <a:stretch/>
        </p:blipFill>
        <p:spPr>
          <a:xfrm>
            <a:off x="0" y="105264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17982" t="12065" r="17265" b="4859"/>
          <a:stretch/>
        </p:blipFill>
        <p:spPr>
          <a:xfrm>
            <a:off x="324000" y="476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C27-3224-4E29-9949-993DFB1CE2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 straftecht: De opsporing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 Zwaardere straf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minder zware stra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Criminee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overtreder/ of nie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AAE8-A856-4554-BB1F-C6C9E8F522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01D3-5FB9-426F-8D2C-D711B3E09C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81080" y="1125360"/>
            <a:ext cx="849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procedur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tap 1: de politie verzamelt inform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 dwangmiddelen gebruik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55640" y="378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aande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ten stilstaan, id vragen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00000" y="5589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beslage nam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wijsmateriaal innem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755640" y="422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00000" y="6021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ast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et op: de tijd tussen 00.00 middernacht en 09.00 uur ‘s ochtends wordt hierbij niet meegerekend. In de nachtelijke uren mag je overigens wel door de politie worden verho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82F3-DD73-4CC3-AFDB-78019EBC48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30002" t="11412" r="2498" b="26629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ED8E-0839-4692-B425-A4C5093333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-181080" y="1125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wangmiddelen met toestemm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5280" y="306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vragen gegevens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lefoontabs, creditcard gebruik, etc alleen met toestemming van OV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5280" y="551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filtr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t toestemming van rechter-commissaris infiltreren in misdaad organisaties. (uitlokken mag niet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24000" y="1628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: een machtiging tot binnentreding va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95280" y="422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voorarrest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a de aanhouding langer vasthouden. Toestemming OvJ e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BC5D-26AD-4814-997B-D3973116B0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29543" t="32465" r="29119" b="36049"/>
          <a:stretch/>
        </p:blipFill>
        <p:spPr>
          <a:xfrm>
            <a:off x="684360" y="1268280"/>
            <a:ext cx="3600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5219640" y="1268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395280" y="3379680"/>
            <a:ext cx="8424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2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politie geeft het proces verbaal aan de Officier van Justiti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ze gaat de zaak verder onderzoeken in het opsporingsonderzoe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Hij heeft 3 keuzes, maar besluit dat Pieter voor de rechter moet kom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3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 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 rechter beslist wat er met Pieter gebeur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EAAF-2A8D-4B34-857C-D42EF22939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/transac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DA28-E426-4188-AC74-9C79C7CA6D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"/>
          <p:cNvGraphicFramePr/>
          <p:nvPr/>
        </p:nvGraphicFramePr>
        <p:xfrm>
          <a:off x="179280" y="1989000"/>
          <a:ext cx="8815320" cy="39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8153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43:35Z</dcterms:modified>
  <cp:revision>160</cp:revision>
  <dc:subject/>
  <dc:title>Dia 1</dc:title>
</cp:coreProperties>
</file>