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3DA-1616-4C2B-8712-3EF57ACE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A78-7523-45AA-AA46-F4660DD1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BE7-E4E6-4D2C-A7D0-FEF0CC13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B1B-6EDD-4B39-AA03-CE517495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A99-0F84-4C99-881D-FB832976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CBB-1F85-487E-BFED-A17EB925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B4C-FC3F-48D0-92AC-595EF77A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31D-22F2-4C0B-8305-189A263B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3C7-1152-4194-9A6A-5A9048A0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27C-EF19-4352-911A-30717842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231-4329-4EC8-9CBF-F18C8CAB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00F-E13D-4AC6-A3AF-0AA7997E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57FB-0C01-48B1-B10A-577B81F6D5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AF25-990A-4997-AACC-0CC7EE007E9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3C0F-5483-4D24-9A4A-B523BD062B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8B89-58B2-4FC5-819B-4ECD633832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0" r="70754" b="15652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-1549440" y="-243000"/>
            <a:ext cx="855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§ 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BCB7-2CBC-4BC2-B2C2-3178FC957D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50920" y="981000"/>
            <a:ext cx="828036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pening: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nlastenlegging: 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nderzoek: 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. Persoonlijke omstandigh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judge"/>
          <p:cNvPicPr/>
          <p:nvPr/>
        </p:nvPicPr>
        <p:blipFill>
          <a:blip r:embed="rId2"/>
          <a:stretch/>
        </p:blipFill>
        <p:spPr>
          <a:xfrm>
            <a:off x="7286760" y="62064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45B6-93BF-4E29-B6EA-B69603D6FD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4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0920" y="170028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Requisitoir: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Pleidooi: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Laatste woord: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, onschuld benadrukken, schade door straf uitleg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Vonnis: De rechter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47628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ail"/>
          <p:cNvPicPr/>
          <p:nvPr/>
        </p:nvPicPr>
        <p:blipFill>
          <a:blip r:embed="rId3"/>
          <a:stretch/>
        </p:blipFill>
        <p:spPr>
          <a:xfrm>
            <a:off x="0" y="54936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ADFB-FB0A-4551-95B3-F15CFBE15A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5EAA-BADD-48D9-8233-AD3B242C73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AC21-84ED-4A8F-A3AD-D29ECECF73B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69228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68360" y="1989000"/>
            <a:ext cx="8494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Vrijheidsstraf (zoals gevangenisstraf/hechtenis}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68360" y="3141720"/>
            <a:ext cx="7848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, straatverbod, geen bevoegdheid meer, etc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95280" y="4292640"/>
            <a:ext cx="7993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ontneming wederrechtelijk voordeel, schadevergoed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police"/>
          <p:cNvPicPr/>
          <p:nvPr/>
        </p:nvPicPr>
        <p:blipFill>
          <a:blip r:embed="rId1"/>
          <a:stretch/>
        </p:blipFill>
        <p:spPr>
          <a:xfrm>
            <a:off x="7524720" y="1484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957-95C1-4215-A0EC-719AC4B7578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41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rafrecht voor minderjari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8360" y="198900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en &gt; 12 jaar &lt; 18 jaar.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68360" y="34290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rechter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jeugdgevangenis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5280" y="4221000"/>
            <a:ext cx="799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Bij stoorniss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behandelcentra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police"/>
          <p:cNvPicPr/>
          <p:nvPr/>
        </p:nvPicPr>
        <p:blipFill>
          <a:blip r:embed="rId1"/>
          <a:stretch/>
        </p:blipFill>
        <p:spPr>
          <a:xfrm>
            <a:off x="6516720" y="1700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468360" y="270828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ALT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het alternatief: taakstraf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51:52Z</dcterms:modified>
  <cp:revision>156</cp:revision>
  <dc:subject/>
  <dc:title>Dia 1</dc:title>
</cp:coreProperties>
</file>