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33.jpeg" ContentType="image/jpeg"/>
  <Override PartName="/ppt/media/image45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8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19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C52-2760-41AC-B96F-FD46EDDC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D11-CAE8-45CC-B7A3-229182EE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626-3EB4-44BB-A5AA-46438462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651-9839-40B4-941C-5028E74E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DEE-4C13-492B-B0AE-29BE9825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1DD-CBC1-492C-AEE3-0FB5CDB6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AD1-F519-468D-A745-895AD4A2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6F7-E467-443A-8ADB-006D1735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F2E-55E7-4176-BFA6-90B89467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C45-BC1A-4900-9F1A-6C6D490F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E6B-7235-4C22-9757-C96AD02F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043-0C3E-4D41-9B4A-AD2DC367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84A7-E124-4452-9575-AE46D965AB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32.jpeg"/><Relationship Id="rId7" Type="http://schemas.openxmlformats.org/officeDocument/2006/relationships/image" Target="../media/image20.pn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B379-8170-428C-A584-415185FFAE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H 1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D824-C22D-4D12-B53A-E32F3CC9EF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A08E-B05B-41A1-BDF9-EEE9C89884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55640" y="11592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B6B9-BEA2-4F0C-BDAA-BFB7F8D5E4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3C42-AB45-408F-B548-E5B514F132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E485-066A-42F4-A955-26F5710996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gelmatige verkiezingen (geheime stem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alleen een onafhankelijke rechter mag publicaties of uitzendingen verbi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triaspoli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2AD3-6C99-4549-9375-A4E5C72679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5328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1636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707240" cy="1095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276720" y="5661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9D9F-2FC1-4D76-8AA8-0558E081B2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89BD-8A5F-44C0-B822-5239A20D57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7640" y="274680"/>
            <a:ext cx="7417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CCB0-859C-4FC3-BB38-86E8B30561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699E-454F-4203-8D50-6391F036DB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C7D6-FCD7-4227-B024-7E5AD6772D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9C5C-FD2A-4B39-9379-42342242A7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3081-5ADC-45E1-8A85-BD696014EC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436480" y="162864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56000" y="1536840"/>
            <a:ext cx="6048360" cy="5321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1B43-19BB-4A33-A100-038DE47713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4EE5-5550-4182-A75A-E4126718D8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151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92B2-14AD-44CD-A7B6-B04CAB78C1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07EE-4C44-4875-BDB9-47D16A2BB6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ABF2-A89F-4F5D-AB4D-14D0333ACC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1566-0ECA-442A-9313-D8F1246DA2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5066-3E89-44C2-A032-45C9808CBD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5640" y="2746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BF69-DD47-40E5-895A-4C1CCFD49E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979640" y="189000"/>
            <a:ext cx="50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186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53BD-5D58-4BEE-A892-D99AC0F2B1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bbe0e3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3315-4485-485F-B7D5-BCAA81E952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69E1-7A37-4BA5-AE56-B1967BA394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209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223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F8CD-0040-4019-BB50-34F624E10C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74F7-0E77-4359-B9DB-02BD0CC9CF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505B-C1AF-4580-9700-E9AF25959E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3C92-9FF3-4AB9-8361-59F0FFE2E6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regering"/>
          <p:cNvPicPr/>
          <p:nvPr/>
        </p:nvPicPr>
        <p:blipFill>
          <a:blip r:embed="rId1"/>
          <a:stretch/>
        </p:blipFill>
        <p:spPr>
          <a:xfrm>
            <a:off x="2987640" y="4309920"/>
            <a:ext cx="5257800" cy="254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logo vvd"/>
          <p:cNvPicPr/>
          <p:nvPr/>
        </p:nvPicPr>
        <p:blipFill>
          <a:blip r:embed="rId2"/>
          <a:stretch/>
        </p:blipFill>
        <p:spPr>
          <a:xfrm>
            <a:off x="5364000" y="3068640"/>
            <a:ext cx="700200" cy="865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logo cda"/>
          <p:cNvPicPr/>
          <p:nvPr/>
        </p:nvPicPr>
        <p:blipFill>
          <a:blip r:embed="rId3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logo CU"/>
          <p:cNvPicPr/>
          <p:nvPr/>
        </p:nvPicPr>
        <p:blipFill>
          <a:blip r:embed="rId4"/>
          <a:stretch/>
        </p:blipFill>
        <p:spPr>
          <a:xfrm>
            <a:off x="5724360" y="1773360"/>
            <a:ext cx="2303640" cy="637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logo d66"/>
          <p:cNvPicPr/>
          <p:nvPr/>
        </p:nvPicPr>
        <p:blipFill>
          <a:blip r:embed="rId5"/>
          <a:stretch/>
        </p:blipFill>
        <p:spPr>
          <a:xfrm>
            <a:off x="6227640" y="306864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LOGO groen links"/>
          <p:cNvPicPr/>
          <p:nvPr/>
        </p:nvPicPr>
        <p:blipFill>
          <a:blip r:embed="rId6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LOGO pvda"/>
          <p:cNvPicPr/>
          <p:nvPr/>
        </p:nvPicPr>
        <p:blipFill>
          <a:blip r:embed="rId7"/>
          <a:stretch/>
        </p:blipFill>
        <p:spPr>
          <a:xfrm>
            <a:off x="4427640" y="1773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logo pvv"/>
          <p:cNvPicPr/>
          <p:nvPr/>
        </p:nvPicPr>
        <p:blipFill>
          <a:blip r:embed="rId8"/>
          <a:srcRect l="0" t="17829" r="0" b="19982"/>
          <a:stretch/>
        </p:blipFill>
        <p:spPr>
          <a:xfrm>
            <a:off x="2340000" y="299736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logo sgp"/>
          <p:cNvPicPr/>
          <p:nvPr/>
        </p:nvPicPr>
        <p:blipFill>
          <a:blip r:embed="rId9"/>
          <a:srcRect l="16553" t="0" r="16723" b="11262"/>
          <a:stretch/>
        </p:blipFill>
        <p:spPr>
          <a:xfrm>
            <a:off x="8244000" y="3068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LOGO sp"/>
          <p:cNvPicPr/>
          <p:nvPr/>
        </p:nvPicPr>
        <p:blipFill>
          <a:blip r:embed="rId10"/>
          <a:stretch/>
        </p:blipFill>
        <p:spPr>
          <a:xfrm>
            <a:off x="7236000" y="306864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logo pvvd"/>
          <p:cNvPicPr/>
          <p:nvPr/>
        </p:nvPicPr>
        <p:blipFill>
          <a:blip r:embed="rId11"/>
          <a:stretch/>
        </p:blipFill>
        <p:spPr>
          <a:xfrm>
            <a:off x="4356000" y="306864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1C5E-7E32-4A81-A037-32C3A8276F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E079-73DB-4D00-B502-495C3B9CCF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ministers anno 2008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E7C0-F147-4333-B31C-5C43A03398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egeerakkoord050207"/>
          <p:cNvPicPr/>
          <p:nvPr/>
        </p:nvPicPr>
        <p:blipFill>
          <a:blip r:embed="rId1"/>
          <a:stretch/>
        </p:blipFill>
        <p:spPr>
          <a:xfrm>
            <a:off x="2195640" y="3141720"/>
            <a:ext cx="4714920" cy="3429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6DA0-D21E-48B7-B874-1C11F1E324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244D-7B32-44D1-B4E2-1776A65F47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bbe0e3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bbe0e3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waarden zijn dingen en denkbeelden waar we waarde aan hechten. Aspecten die we belangrijk vinden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C401-DF89-47FA-880A-8691B29653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2622-9EDD-4BD1-A57F-FDF17E509B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2EBC-03DC-4E5B-9021-AE5797A23E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75B-BF4C-454C-8817-4CC0315D0E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4CC3-3110-4203-B149-3859DC1208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vragen in een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a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9744-DF43-4AAA-8993-5E83A02B97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899C-C112-4FF9-83BF-C0B5BA46D3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5BE9-8CE5-46A6-8401-C5B60A4E85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94B4-7B55-4468-A6D9-2E29A15F6B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36AF-551C-4BCA-A547-DED8DCFB2B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327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F645-DC38-48C7-AE3D-520FDF5058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voortdurend opdringen van bepaalde meningen (met behulp van zeer intensieve psychologische middeltjes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4623-2B48-4E1B-A6FF-302EA833C6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F225-169B-439C-ACD3-27C2A4A7C7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478C-AB35-44EC-940F-D6FC228A5F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51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3564000" y="5589720"/>
            <a:ext cx="360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iegeling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grote partijen in G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88DB-F652-4E84-99D5-B9F78E96BC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78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2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3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4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5"/>
          <p:cNvSpPr/>
          <p:nvPr/>
        </p:nvSpPr>
        <p:spPr>
          <a:xfrm>
            <a:off x="3564000" y="5589720"/>
            <a:ext cx="504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heid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mmige fracties in GS (krijgt politieke kleur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DA42-715A-4E00-99F4-05C20BAA81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F8F-5443-4616-8198-DFDA89D895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DC0E-BE58-46A2-B67D-A768B69491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2B2B-E8E4-4258-A860-71F8232660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C8FC-483C-4305-B450-567CE79D57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4F3A-9021-4691-A26A-60F224142A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557A-E64A-49FF-AFE5-363B41967E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47DA-7310-40A2-ABC5-C1E5372E37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58F4-67A3-4B41-873C-0B6905AD31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120A-FCC0-4A26-9840-0FCE43C030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2137-D62B-414C-8966-4EF6E02B0B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5821-3E07-40C4-B02E-9E1D372AA8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D742-3A8B-4B24-9A33-7B2D370717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BE8F-8935-4CF7-BDF9-F4C398BEC0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746B-692E-4D13-8849-0F2BA5DBA5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oofdstuk 3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623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eind oktober 2009                  Pagina 68 t/m 108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bi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tengenera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A622-0DDD-4112-AC4A-6F8D1D38E8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09-09-24T12:05:12Z</dcterms:modified>
  <cp:revision>62</cp:revision>
  <dc:subject/>
  <dc:title>Dia 1</dc:title>
</cp:coreProperties>
</file>