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FB0F-ACC3-47B8-9556-8C8145E807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2A2E-950F-4583-9E4E-D61D47D90D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224-25BC-4E4C-89C8-84412D3D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85F-4620-4C3C-9BAF-212B157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A2D-8C99-4D80-911D-63328615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5C4-CA95-4222-A09D-4EDDE5DA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496-9CF6-497C-91FA-2E15933E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D3C-B977-4389-B64D-185985D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79E-E0D6-4D32-98BB-80D3A5D8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71E-047E-4BFA-9C1F-F7702B8F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B44-53F6-453D-91FA-7FD5B005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B55-DB91-47E2-B4C5-0A1BE4A6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55A-B052-4D7F-A65C-56A6427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045-8477-47A1-B326-19370D9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E90C-675B-4055-B103-7D64F76C97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0792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rech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(materi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 belangrijkste wetten in Nederland staan hier in (buiten de grondwet d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Wat de strafbare feiten zijn en welke straffen ervoor kunnen uitgesprok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Strafbare feiten omschrev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Zoals: moord, diefstal, oplichting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vordering: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form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paalt hoe strafbare feiten vervolgd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handelt de hele procedure van aanhouding t/m de strafoplegging door de rech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ze twee wetboeken vormen de basis van het Nederlandse strafrec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5CA-1A17-48CF-98EE-61E0A378F0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39C-C5E2-4C8A-90A6-3FDF5E65F4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63640" y="220500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ail"/>
          <p:cNvPicPr/>
          <p:nvPr/>
        </p:nvPicPr>
        <p:blipFill>
          <a:blip r:embed="rId3"/>
          <a:stretch/>
        </p:blipFill>
        <p:spPr>
          <a:xfrm>
            <a:off x="0" y="105264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17982" t="12065" r="17265" b="4859"/>
          <a:stretch/>
        </p:blipFill>
        <p:spPr>
          <a:xfrm>
            <a:off x="324000" y="476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E8E-A308-4D0D-BAED-73708A4A39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 straftecht: De opsporing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 Zwaardere straf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minder zware stra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Criminee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overtreder/ of nie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76C1-FB8E-46EF-88D6-AEFC763A41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7484-2441-460C-A5FF-0E1A82BE81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81080" y="1125360"/>
            <a:ext cx="849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procedur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tap 1: de politie verzamelt inform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 dwangmiddelen gebruik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55640" y="378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aande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ten stilstaan, id vragen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00000" y="5589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beslage nam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wijsmateriaal innem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755640" y="422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00000" y="6021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ast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et op: de tijd tussen 00.00 middernacht en 09.00 uur ‘s ochtends wordt hierbij niet meegerekend. In de nachtelijke uren mag je overigens wel door de politie worden verho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EE20-0944-4EE6-9ABA-4338C43B6A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30002" t="11412" r="2498" b="26629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CBB7-2EDC-4093-B99F-2E6499FC28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-181080" y="1125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wangmiddelen met toestemm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5280" y="306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vragen gegevens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lefoontabs, creditcard gebruik, etc alleen met toestemming van OV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5280" y="551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filtr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t toestemming van rechter-commissaris infiltreren in misdaad organisaties. (uitlokken mag niet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24000" y="1628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: een machtiging tot binnentreding va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95280" y="422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voorarrest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a de aanhouding langer vasthouden. Toestemming OvJ e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4F52-306F-47C0-8632-03A698E731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29543" t="32465" r="29119" b="36049"/>
          <a:stretch/>
        </p:blipFill>
        <p:spPr>
          <a:xfrm>
            <a:off x="684360" y="1268280"/>
            <a:ext cx="3600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5219640" y="1268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395280" y="3379680"/>
            <a:ext cx="8424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2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politie geeft het proces verbaal aan de Officier van Justiti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ze gaat de zaak verder onderzoeken in het opsporingsonderzoe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Hij heeft 3 keuzes, maar besluit dat Pieter voor de rechter moet kom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3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 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 rechter beslist wat er met Pieter gebeur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92AE-0A15-4AB6-A8E4-0CD37D26B9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/transac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99E4-3C03-4AA0-BFFE-05DDA122BC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"/>
          <p:cNvGraphicFramePr/>
          <p:nvPr/>
        </p:nvGraphicFramePr>
        <p:xfrm>
          <a:off x="179280" y="1989000"/>
          <a:ext cx="8815320" cy="39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8153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43:35Z</dcterms:modified>
  <cp:revision>160</cp:revision>
  <dc:subject/>
  <dc:title>Dia 1</dc:title>
</cp:coreProperties>
</file>