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13.png" ContentType="image/png"/>
  <Override PartName="/ppt/media/image33.jpeg" ContentType="image/jpeg"/>
  <Override PartName="/ppt/media/image45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11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8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19.jpeg" ContentType="image/jpeg"/>
  <Override PartName="/ppt/media/image25.png" ContentType="image/pn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3B2-30CA-4125-8D8F-AD116F12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55B-BAD0-4102-9E1B-61B62CE6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6AA-D1FB-4674-89F7-DD8F33B2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A85-DD0D-429B-8B92-5E5316B6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608-C189-4299-A537-B6E04588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83A-0D25-4812-9545-CBA6C859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5B3-95EB-422D-82F8-5C846E29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647-289E-4DB1-A8CE-036B1F74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384-7665-4EC8-A12E-FE9D5D32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A80-0D8A-4C6F-A65A-0AE194EB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8A22-6DB3-480B-BA1C-127787E8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B860-7134-490E-A200-4858E5B3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EA1E-312C-4597-BFD5-BD370D8E0D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32.jpeg"/><Relationship Id="rId7" Type="http://schemas.openxmlformats.org/officeDocument/2006/relationships/image" Target="../media/image20.pn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AB9D-58E0-421B-B6FA-3B192FF8D20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vatting H 1 +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examen_vak_succes_met_maatschappijleer"/>
          <p:cNvPicPr/>
          <p:nvPr/>
        </p:nvPicPr>
        <p:blipFill>
          <a:blip r:embed="rId1"/>
          <a:stretch/>
        </p:blipFill>
        <p:spPr>
          <a:xfrm>
            <a:off x="1116000" y="1773360"/>
            <a:ext cx="712800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3DB7-E8F8-4356-9442-908B41EEC1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785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olitiek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t maken van keuzes zodat een land, een provincie of een gemeente kan worden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vloe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worden van politieke part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oek indienen (bvb bij gemeentera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bena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luiten bij actie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waarschrift schrijven (rech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rgelijke ongehoorzaamheid (kerk zet geen asielzoekers u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2561-6DD0-4327-A849-78EB4E2AD3E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ctatuu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uba (Fidel Castro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e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1 persoon/groep/familie/partij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olksvertegenwoordi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tairen aan de m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oversgestelde van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geldt 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met basis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raude bij verkiez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heime/vrije verkiez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en gelijke rech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lijke rechten voor iede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onderdru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recht op 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ensuu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ers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iet je mening ui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rijheid van menings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nipulatie/indoctrinati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Indirecte 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nderda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ooit een rechtsstaa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ers niet onafhank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rias 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Heerst veel ang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leven in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755640" y="11592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FB2C-D89E-4F36-AB1E-524EE31CB3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052640"/>
            <a:ext cx="8280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2 Basiselementen voor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Alle 18+ inwoners met NL paspoort kunnen d.m.v. algemeen kiesrecht invloed uitoefenen op de 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Aantal grondrechten is gewaarborgd om in vrijheid invloed te kunnen uitoefen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r is enkel sprake van democratie als er ook een rechtsstaat i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alle burgers hebben gelijke rechten. Er mag niet worden gediscrimineerd.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urgers moeten hun eigen leven kunnen inri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10EE-E0A5-4712-B064-03FE15C2F9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611280" y="18900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kunnen rechtstreeks meepraten en beslissen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bij weinig inwon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s via referendum: volksstemm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ia een volksvertegenwoordig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stemmen op vertegenwoordigers die hun belangen behartigen in de politieke besluitvorm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hebben de meeste landen in de werel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2796-0EAF-4B64-86B2-C74313F0D96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gelmatige verkiezingen (geheime stem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alleen een onafhankelijke rechter mag publicaties of uitzendingen verbi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chtenscheid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triaspoli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11280" y="18900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9BAC-770C-423B-80C6-EF9162A058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8000" y="274680"/>
            <a:ext cx="53280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ijkheid/ gelijkwaard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eve overheid/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 rol voor de sta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men op voor mensen met een zwakke positie in de samenle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jen met progressieve uitgangspun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stal richting social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16360" y="1268280"/>
            <a:ext cx="4032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hts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sieve overheid/ beperkte rol voor de staa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jen met conservatieve uitgangspu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stal richting liber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684360" y="5589720"/>
            <a:ext cx="7707240" cy="1095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3276720" y="5661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762C-5F7C-4AF7-BC11-FB5F769504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374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endemocrat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chten veel waarde aan het gezin en Christelijke normen en waard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 schrijft voor hoe de mens zich dient te ged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rcRect l="7494" t="0" r="0" b="0"/>
          <a:stretch/>
        </p:blipFill>
        <p:spPr>
          <a:xfrm>
            <a:off x="4140360" y="1484280"/>
            <a:ext cx="475272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694640" cy="10954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F249-851A-4F0F-9258-B95E1245D3A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1476360" y="1557360"/>
            <a:ext cx="56707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a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 als het ide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wikkeling van het individu staat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op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dividu is verantwoordelijk vo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richten van zijn lev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heidsbemoeienis moet hierbij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imaal zij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"/>
          <p:cNvPicPr/>
          <p:nvPr/>
        </p:nvPicPr>
        <p:blipFill>
          <a:blip r:embed="rId1"/>
          <a:stretch/>
        </p:blipFill>
        <p:spPr>
          <a:xfrm>
            <a:off x="539640" y="5400720"/>
            <a:ext cx="7640640" cy="1457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3132000" y="5589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7640" y="274680"/>
            <a:ext cx="7417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05FC-72C0-4F4B-AE01-0C028A3EF1A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isme / Sociaal-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de belangrijkste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eerlijke samenleving met gelijke k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verheidsbemoeienis om sociale en maatschappelijke problemen op te lo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e antipathie voor een (te) vrije ma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3276720" y="51577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DBAA-2521-4B39-B6E8-C7AAE355607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ession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litieke opvattinge gebasseerd op geloofsovertu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tmeesterschap: als mens goed voor de aarde z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ide verantwoordelijkheid: ‘zorgzame samenlev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 middenveld: overheid aanvullende rol, de rest overlaten aan bvb welzijnsinstellingen en schoolbestu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3348000" y="5157720"/>
            <a:ext cx="18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276720" y="49417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3590-6815-407F-B79B-B214E9C605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bbe0e3"/>
                </a:solidFill>
                <a:latin typeface="Arial"/>
              </a:rPr>
              <a:t>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Deze macht is officieel vastgelegd in wetten en regels (gez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Voorbeeld: de burgemeester verbied een boetbalwedstrij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bbe0e3"/>
                </a:solidFill>
                <a:latin typeface="Arial"/>
              </a:rPr>
              <a:t>In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Macht die niet officieel is vastgelegd (invlo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Vb: ‘regels’ die binnen je vriendengroep ge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4F7A-587B-4A47-9CAB-80F4ADD6054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8137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ogress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olitieke stro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baseerd op progres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uitgang, toenemend, vooruitgaand, zich uitbreid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links/sociaal-democratische den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servat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politieke stroming die zich grondves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tradit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tijnse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onservar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dat "in ongeschonden toestand bewaren" betek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verandering, het oude in takt willen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rechtse/liberale en Christen=democratische 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50560" y="274680"/>
            <a:ext cx="6985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B321-BFF1-40EB-AFFB-9BA4CE02BFD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436480" y="162864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556000" y="1536840"/>
            <a:ext cx="6048360" cy="5321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D95E-390F-4738-A481-D22A1AE55A3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284360" y="1268280"/>
            <a:ext cx="475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ascism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zeer nationalistische en autoritaire begins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ert zich tegen vrijheid, gelijkheid en tolera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len bedreigd door maatschappelijke veranderingen en ‘vreemde groepe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ering eigen natie en v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gressieve rassenl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539640" y="1268280"/>
            <a:ext cx="381636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unism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treme vorm van socialisme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staat centraa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ductiefactoren beheerd door de staa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culiere eigendom is niet toegestaa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2"/>
          <p:cNvGrpSpPr/>
          <p:nvPr/>
        </p:nvGrpSpPr>
        <p:grpSpPr>
          <a:xfrm>
            <a:off x="826920" y="5300640"/>
            <a:ext cx="7745760" cy="1362240"/>
            <a:chOff x="826920" y="5300640"/>
            <a:chExt cx="7745760" cy="1362240"/>
          </a:xfrm>
        </p:grpSpPr>
        <p:pic>
          <p:nvPicPr>
            <p:cNvPr id="127" name="Picture 8" descr=""/>
            <p:cNvPicPr/>
            <p:nvPr/>
          </p:nvPicPr>
          <p:blipFill>
            <a:blip r:embed="rId1"/>
            <a:stretch/>
          </p:blipFill>
          <p:spPr>
            <a:xfrm>
              <a:off x="826920" y="5300640"/>
              <a:ext cx="77457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1"/>
            <p:cNvSpPr/>
            <p:nvPr/>
          </p:nvSpPr>
          <p:spPr>
            <a:xfrm>
              <a:off x="3708360" y="544500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fessionalism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20C5-4090-4FC8-A594-A40A6B9515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133" name="Line 5"/>
          <p:cNvSpPr/>
          <p:nvPr/>
        </p:nvSpPr>
        <p:spPr>
          <a:xfrm>
            <a:off x="0" y="3213000"/>
            <a:ext cx="914400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0" y="2637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21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er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97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673272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h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33200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8028000" y="2708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sc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92436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endemocr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logo vvd"/>
          <p:cNvPicPr/>
          <p:nvPr/>
        </p:nvPicPr>
        <p:blipFill>
          <a:blip r:embed="rId2"/>
          <a:stretch/>
        </p:blipFill>
        <p:spPr>
          <a:xfrm>
            <a:off x="5651640" y="3284640"/>
            <a:ext cx="466560" cy="57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logo cda"/>
          <p:cNvPicPr/>
          <p:nvPr/>
        </p:nvPicPr>
        <p:blipFill>
          <a:blip r:embed="rId3"/>
          <a:stretch/>
        </p:blipFill>
        <p:spPr>
          <a:xfrm>
            <a:off x="4643280" y="3284640"/>
            <a:ext cx="720720" cy="345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logo CU"/>
          <p:cNvPicPr/>
          <p:nvPr/>
        </p:nvPicPr>
        <p:blipFill>
          <a:blip r:embed="rId4"/>
          <a:stretch/>
        </p:blipFill>
        <p:spPr>
          <a:xfrm>
            <a:off x="3564000" y="4076640"/>
            <a:ext cx="1152360" cy="3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logo d66"/>
          <p:cNvPicPr/>
          <p:nvPr/>
        </p:nvPicPr>
        <p:blipFill>
          <a:blip r:embed="rId5"/>
          <a:stretch/>
        </p:blipFill>
        <p:spPr>
          <a:xfrm>
            <a:off x="3564000" y="3284640"/>
            <a:ext cx="720720" cy="533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LOGO groen links"/>
          <p:cNvPicPr/>
          <p:nvPr/>
        </p:nvPicPr>
        <p:blipFill>
          <a:blip r:embed="rId6"/>
          <a:stretch/>
        </p:blipFill>
        <p:spPr>
          <a:xfrm>
            <a:off x="900000" y="3933720"/>
            <a:ext cx="792360" cy="366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LOGO pvda"/>
          <p:cNvPicPr/>
          <p:nvPr/>
        </p:nvPicPr>
        <p:blipFill>
          <a:blip r:embed="rId7"/>
          <a:stretch/>
        </p:blipFill>
        <p:spPr>
          <a:xfrm>
            <a:off x="2916360" y="3789360"/>
            <a:ext cx="420480" cy="50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logo pvv"/>
          <p:cNvPicPr/>
          <p:nvPr/>
        </p:nvPicPr>
        <p:blipFill>
          <a:blip r:embed="rId8"/>
          <a:srcRect l="0" t="17834" r="0" b="20000"/>
          <a:stretch/>
        </p:blipFill>
        <p:spPr>
          <a:xfrm>
            <a:off x="7020000" y="3284640"/>
            <a:ext cx="936720" cy="309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logo sgp"/>
          <p:cNvPicPr/>
          <p:nvPr/>
        </p:nvPicPr>
        <p:blipFill>
          <a:blip r:embed="rId9"/>
          <a:stretch/>
        </p:blipFill>
        <p:spPr>
          <a:xfrm>
            <a:off x="6300720" y="3284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LOGO sp"/>
          <p:cNvPicPr/>
          <p:nvPr/>
        </p:nvPicPr>
        <p:blipFill>
          <a:blip r:embed="rId10"/>
          <a:stretch/>
        </p:blipFill>
        <p:spPr>
          <a:xfrm>
            <a:off x="468360" y="3357720"/>
            <a:ext cx="574560" cy="31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logo pvvd"/>
          <p:cNvPicPr/>
          <p:nvPr/>
        </p:nvPicPr>
        <p:blipFill>
          <a:blip r:embed="rId11"/>
          <a:stretch/>
        </p:blipFill>
        <p:spPr>
          <a:xfrm>
            <a:off x="1835280" y="3357720"/>
            <a:ext cx="635040" cy="718920"/>
          </a:xfrm>
          <a:prstGeom prst="rect">
            <a:avLst/>
          </a:prstGeom>
          <a:ln w="0">
            <a:noFill/>
          </a:ln>
        </p:spPr>
      </p:pic>
      <p:sp>
        <p:nvSpPr>
          <p:cNvPr id="151" name="Line 23"/>
          <p:cNvSpPr/>
          <p:nvPr/>
        </p:nvSpPr>
        <p:spPr>
          <a:xfrm>
            <a:off x="17928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169236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>
            <a:off x="241128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4284720" y="2637000"/>
            <a:ext cx="0" cy="57600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6227640" y="299736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702000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622764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>
            <a:off x="702000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964720" y="3068640"/>
            <a:ext cx="1404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2"/>
          <p:cNvSpPr/>
          <p:nvPr/>
        </p:nvSpPr>
        <p:spPr>
          <a:xfrm>
            <a:off x="3059280" y="206064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3419640" y="177336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1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9405-46DC-4AE3-B588-1FBF69CAB67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Politiek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e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basis van IDEOLOGIE: ontstaan door dezelfde ideologiën/stro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E-ISSUEPARTIJEN: gericht op 1 aspect in de samenleving. (Pv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ESTPARTIJEN: ontstaan uit onvrede met bestaande politiek. (L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DEMOCRATISCHE parijen: zoals fascisitische partijen. Komen niet vaak voor in parlem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9FC1-B8ED-48CA-8DA1-EA330E739E3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Politiek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uncties van par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egratiefunctie: het partijen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formatiefunctie: informeren over standpu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ticipatiefunctie: burgers stimuleren actief aan politiek te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lectiefunctie: mensen die in de politiek willen, kijken bij welke partij ze willen 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27D4-30A6-45C6-82F9-41BCDA82E9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4: Verkiezing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4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lijsttrekker"/>
          <p:cNvPicPr/>
          <p:nvPr/>
        </p:nvPicPr>
        <p:blipFill>
          <a:blip r:embed="rId1"/>
          <a:srcRect l="12929" t="0" r="11185" b="0"/>
          <a:stretch/>
        </p:blipFill>
        <p:spPr>
          <a:xfrm>
            <a:off x="108000" y="1773360"/>
            <a:ext cx="3816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DB98-F732-4E8D-A56C-8418F1D1FA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ozen kunnen worden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van de Tweede Kame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ndere volksvertegen-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rdigende lichamen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iesbaar 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f kiesre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ers van 18 jaa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 met Nederlands paspoor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bben het recht om te 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4: Verkiez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kieskompas"/>
          <p:cNvPicPr/>
          <p:nvPr/>
        </p:nvPicPr>
        <p:blipFill>
          <a:blip r:embed="rId1"/>
          <a:stretch/>
        </p:blipFill>
        <p:spPr>
          <a:xfrm>
            <a:off x="5148360" y="2249640"/>
            <a:ext cx="38876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CE74-1BC1-46EB-B30D-AB23A6EB26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195640" y="1628640"/>
            <a:ext cx="67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79280" y="1268280"/>
            <a:ext cx="583272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Lijsttrekker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hoogst geplaatste persoon op de kandidatenlijst van een politieke partij bij verkiezingen.  De belangrijkste persoon van de partij in de verkiezingsstrijd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Zwevende kiezers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ep kiezers die bij verkiezingen niet steeds op dezelfde politieke partij stemt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eursstemmen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 op een persoon (niet op een partij) waardoor die misschien wel in de tweedekamer komt, ondanks dat die laag op de lijst staat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195640" y="274680"/>
            <a:ext cx="50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4: verkiezing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" descr="stomwijzer_1"/>
          <p:cNvPicPr/>
          <p:nvPr/>
        </p:nvPicPr>
        <p:blipFill>
          <a:blip r:embed="rId1"/>
          <a:stretch/>
        </p:blipFill>
        <p:spPr>
          <a:xfrm>
            <a:off x="6227640" y="1484280"/>
            <a:ext cx="2667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762E-256B-434D-A1B9-09AB4669EF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83883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Evenredige vertegenwoordiging: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 zetels worden gelijk verdeld op baisis van alle geldig uitgebrachte stemm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Kiesde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- Aantal geldig uitgebrachte stemmen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50 ze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beel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 geldi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itgebrachte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an is de kiesdel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/1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= 50.000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 1 zetel nodi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979640" y="189000"/>
            <a:ext cx="504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4: Verkiezing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28472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zet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4211640" cy="2497320"/>
          </a:xfrm>
          <a:prstGeom prst="rect">
            <a:avLst/>
          </a:prstGeom>
          <a:ln w="0">
            <a:noFill/>
          </a:ln>
        </p:spPr>
      </p:pic>
      <p:sp>
        <p:nvSpPr>
          <p:cNvPr id="186" name="Line 6"/>
          <p:cNvSpPr/>
          <p:nvPr/>
        </p:nvSpPr>
        <p:spPr>
          <a:xfrm flipV="1">
            <a:off x="4859280" y="5229000"/>
            <a:ext cx="289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A1D4-38E0-4927-A0B7-CF9E222DB7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bbe0e3"/>
                </a:solidFill>
                <a:latin typeface="Arial"/>
              </a:rPr>
              <a:t>Machtsmiddelen: </a:t>
            </a: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Om macht te kunnen hebben, bestaan er machtmidd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Functie/beroep (politie als hij een bekeuring ge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Kennis/vaardigheden (dokter weet welke medicijnen je nodig h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Aanzien (de paus vraagt gelovigen iets wel of niet te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Overtuigingskracht (politici zijn vaak getraind om mensen te overtu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Geld (de overheid beslist wat ze doen met die miljarden euro’s die ze 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Aantal (de klas weigert massaal een proefwerk te ma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Geweld (een rechter veroordeeld de moordenaar tot levensla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4FA7-C7EC-4776-9810-535A00650B8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9528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340000" y="249228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835280" y="587700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rst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547640" y="1628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eme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492360" y="4221000"/>
            <a:ext cx="201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n-Gener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6012000" y="3429000"/>
            <a:ext cx="10792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bin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916360" y="335772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ingi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7093080" y="4149720"/>
            <a:ext cx="180000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ksvertegenwoordig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556000" y="508464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6588000" y="2060640"/>
            <a:ext cx="23050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tssecrtariss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258920" y="3716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r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5364000" y="5084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raa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4932360" y="1628640"/>
            <a:ext cx="1152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mi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7451640" y="2997360"/>
            <a:ext cx="86364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7524720" y="6021360"/>
            <a:ext cx="57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468360" y="2637000"/>
            <a:ext cx="1368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4932360" y="2708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. 1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5292720" y="609300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395280" y="4581360"/>
            <a:ext cx="194472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80C8-2FCA-4B28-93A2-C6D46A484A0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"/>
          <p:cNvGrpSpPr/>
          <p:nvPr/>
        </p:nvGrpSpPr>
        <p:grpSpPr>
          <a:xfrm>
            <a:off x="971640" y="1268280"/>
            <a:ext cx="6948360" cy="2239920"/>
            <a:chOff x="971640" y="1268280"/>
            <a:chExt cx="6948360" cy="2239920"/>
          </a:xfrm>
        </p:grpSpPr>
        <p:sp>
          <p:nvSpPr>
            <p:cNvPr id="209" name="Text Box 3"/>
            <p:cNvSpPr/>
            <p:nvPr/>
          </p:nvSpPr>
          <p:spPr>
            <a:xfrm>
              <a:off x="1979640" y="1915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eed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4"/>
            <p:cNvSpPr/>
            <p:nvPr/>
          </p:nvSpPr>
          <p:spPr>
            <a:xfrm>
              <a:off x="4284720" y="191592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ers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5"/>
            <p:cNvSpPr/>
            <p:nvPr/>
          </p:nvSpPr>
          <p:spPr>
            <a:xfrm>
              <a:off x="971640" y="1268280"/>
              <a:ext cx="6948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Parlement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(ookwel:</a:t>
              </a: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aten-Generaal of Volksvertegenwoordiging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6"/>
            <p:cNvSpPr/>
            <p:nvPr/>
          </p:nvSpPr>
          <p:spPr>
            <a:xfrm>
              <a:off x="1979640" y="2563560"/>
              <a:ext cx="792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7"/>
            <p:cNvSpPr/>
            <p:nvPr/>
          </p:nvSpPr>
          <p:spPr>
            <a:xfrm>
              <a:off x="5508720" y="2563560"/>
              <a:ext cx="576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8"/>
            <p:cNvSpPr/>
            <p:nvPr/>
          </p:nvSpPr>
          <p:spPr>
            <a:xfrm>
              <a:off x="197964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9"/>
            <p:cNvSpPr/>
            <p:nvPr/>
          </p:nvSpPr>
          <p:spPr>
            <a:xfrm>
              <a:off x="428472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0"/>
            <p:cNvSpPr/>
            <p:nvPr/>
          </p:nvSpPr>
          <p:spPr>
            <a:xfrm>
              <a:off x="241128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1"/>
            <p:cNvSpPr/>
            <p:nvPr/>
          </p:nvSpPr>
          <p:spPr>
            <a:xfrm>
              <a:off x="594036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2"/>
            <p:cNvSpPr/>
            <p:nvPr/>
          </p:nvSpPr>
          <p:spPr>
            <a:xfrm>
              <a:off x="3708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3"/>
            <p:cNvSpPr/>
            <p:nvPr/>
          </p:nvSpPr>
          <p:spPr>
            <a:xfrm>
              <a:off x="4716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 flipH="1">
              <a:off x="3563640" y="1699920"/>
              <a:ext cx="215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4500360" y="1699920"/>
              <a:ext cx="2160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6"/>
          <p:cNvGrpSpPr/>
          <p:nvPr/>
        </p:nvGrpSpPr>
        <p:grpSpPr>
          <a:xfrm>
            <a:off x="1116000" y="4076640"/>
            <a:ext cx="6516720" cy="2581560"/>
            <a:chOff x="1116000" y="4076640"/>
            <a:chExt cx="6516720" cy="2581560"/>
          </a:xfrm>
        </p:grpSpPr>
        <p:sp>
          <p:nvSpPr>
            <p:cNvPr id="223" name="Text Box 17"/>
            <p:cNvSpPr/>
            <p:nvPr/>
          </p:nvSpPr>
          <p:spPr>
            <a:xfrm>
              <a:off x="5076720" y="4076640"/>
              <a:ext cx="1079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binet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8"/>
            <p:cNvSpPr/>
            <p:nvPr/>
          </p:nvSpPr>
          <p:spPr>
            <a:xfrm>
              <a:off x="5148360" y="4797360"/>
              <a:ext cx="2484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Staatssecretariss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9"/>
            <p:cNvSpPr/>
            <p:nvPr/>
          </p:nvSpPr>
          <p:spPr>
            <a:xfrm>
              <a:off x="1189080" y="4797360"/>
              <a:ext cx="13669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0"/>
            <p:cNvSpPr/>
            <p:nvPr/>
          </p:nvSpPr>
          <p:spPr>
            <a:xfrm>
              <a:off x="3132000" y="4797360"/>
              <a:ext cx="1295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s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1"/>
            <p:cNvSpPr/>
            <p:nvPr/>
          </p:nvSpPr>
          <p:spPr>
            <a:xfrm>
              <a:off x="1116000" y="4076640"/>
              <a:ext cx="144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ering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2"/>
            <p:cNvSpPr/>
            <p:nvPr/>
          </p:nvSpPr>
          <p:spPr>
            <a:xfrm>
              <a:off x="2916360" y="407664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raa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3"/>
            <p:cNvSpPr/>
            <p:nvPr/>
          </p:nvSpPr>
          <p:spPr>
            <a:xfrm>
              <a:off x="3348000" y="58057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mier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ider kabinet (minister president)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4"/>
            <p:cNvSpPr/>
            <p:nvPr/>
          </p:nvSpPr>
          <p:spPr>
            <a:xfrm>
              <a:off x="3348000" y="62899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ies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specialiseerde beleidsterreinen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5"/>
            <p:cNvSpPr/>
            <p:nvPr/>
          </p:nvSpPr>
          <p:spPr>
            <a:xfrm>
              <a:off x="4213080" y="5300640"/>
              <a:ext cx="1224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g. 1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>
              <a:off x="241308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>
              <a:off x="2413080" y="4508640"/>
              <a:ext cx="718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8"/>
            <p:cNvSpPr/>
            <p:nvPr/>
          </p:nvSpPr>
          <p:spPr>
            <a:xfrm>
              <a:off x="529272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 flipH="1">
              <a:off x="4500720" y="4508640"/>
              <a:ext cx="79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>
              <a:off x="378144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1"/>
            <p:cNvSpPr/>
            <p:nvPr/>
          </p:nvSpPr>
          <p:spPr>
            <a:xfrm>
              <a:off x="4429080" y="501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2"/>
            <p:cNvSpPr/>
            <p:nvPr/>
          </p:nvSpPr>
          <p:spPr>
            <a:xfrm flipH="1">
              <a:off x="5005080" y="50133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3"/>
            <p:cNvSpPr/>
            <p:nvPr/>
          </p:nvSpPr>
          <p:spPr>
            <a:xfrm>
              <a:off x="4573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4"/>
            <p:cNvSpPr/>
            <p:nvPr/>
          </p:nvSpPr>
          <p:spPr>
            <a:xfrm>
              <a:off x="5005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5"/>
            <p:cNvSpPr/>
            <p:nvPr/>
          </p:nvSpPr>
          <p:spPr>
            <a:xfrm>
              <a:off x="3132000" y="522936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6"/>
            <p:cNvSpPr/>
            <p:nvPr/>
          </p:nvSpPr>
          <p:spPr>
            <a:xfrm>
              <a:off x="3132000" y="5948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7"/>
            <p:cNvSpPr/>
            <p:nvPr/>
          </p:nvSpPr>
          <p:spPr>
            <a:xfrm>
              <a:off x="3132000" y="6453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Line 38"/>
          <p:cNvSpPr/>
          <p:nvPr/>
        </p:nvSpPr>
        <p:spPr>
          <a:xfrm>
            <a:off x="826920" y="3789360"/>
            <a:ext cx="709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0"/>
          <p:cNvSpPr/>
          <p:nvPr/>
        </p:nvSpPr>
        <p:spPr>
          <a:xfrm>
            <a:off x="39528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F481-D2AD-49B5-AE7E-CFEA73949D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schema politiek systeem antwoorden"/>
          <p:cNvPicPr/>
          <p:nvPr/>
        </p:nvPicPr>
        <p:blipFill>
          <a:blip r:embed="rId1"/>
          <a:srcRect l="0" t="0" r="0" b="14868"/>
          <a:stretch/>
        </p:blipFill>
        <p:spPr>
          <a:xfrm>
            <a:off x="2340000" y="1341360"/>
            <a:ext cx="5310000" cy="55166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39528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AE24-893A-498C-8EC6-57421932F5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weedekamer verkiezingen </a:t>
            </a: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dan de kabinets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atie van ministers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amen globaal eens zijn over het toekomstig bel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 de meerderheid van de zetels hebben (de helft + 1 = 7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96A5-87D0-49ED-A89D-746970173F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oe gaat de kabinetsformati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adering  m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  Konin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ce-president Raad van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zitters 1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ractievoorzi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in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ze onderzoekt welke partijen misschien samen ku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t partijen compromissen slu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samen met coalitiepartijen het regeerakkoord 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ekt geschikte ministers en staatssecretariss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meestal afkomstig van de grootste regeringspartij en wordt meestal minister presid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ministers en staatssecretar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5. Foto op het bor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B114-BED3-460E-BE99-4BC09A8356F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195280" y="1268280"/>
            <a:ext cx="69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regerings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regering"/>
          <p:cNvPicPr/>
          <p:nvPr/>
        </p:nvPicPr>
        <p:blipFill>
          <a:blip r:embed="rId1"/>
          <a:stretch/>
        </p:blipFill>
        <p:spPr>
          <a:xfrm>
            <a:off x="2987640" y="4309920"/>
            <a:ext cx="5257800" cy="2548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logo vvd"/>
          <p:cNvPicPr/>
          <p:nvPr/>
        </p:nvPicPr>
        <p:blipFill>
          <a:blip r:embed="rId2"/>
          <a:stretch/>
        </p:blipFill>
        <p:spPr>
          <a:xfrm>
            <a:off x="5364000" y="3068640"/>
            <a:ext cx="700200" cy="865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logo cda"/>
          <p:cNvPicPr/>
          <p:nvPr/>
        </p:nvPicPr>
        <p:blipFill>
          <a:blip r:embed="rId3"/>
          <a:stretch/>
        </p:blipFill>
        <p:spPr>
          <a:xfrm>
            <a:off x="2411280" y="1773360"/>
            <a:ext cx="1511280" cy="725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logo CU"/>
          <p:cNvPicPr/>
          <p:nvPr/>
        </p:nvPicPr>
        <p:blipFill>
          <a:blip r:embed="rId4"/>
          <a:stretch/>
        </p:blipFill>
        <p:spPr>
          <a:xfrm>
            <a:off x="5724360" y="1773360"/>
            <a:ext cx="2303640" cy="637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logo d66"/>
          <p:cNvPicPr/>
          <p:nvPr/>
        </p:nvPicPr>
        <p:blipFill>
          <a:blip r:embed="rId5"/>
          <a:stretch/>
        </p:blipFill>
        <p:spPr>
          <a:xfrm>
            <a:off x="6227640" y="3068640"/>
            <a:ext cx="863640" cy="638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LOGO groen links"/>
          <p:cNvPicPr/>
          <p:nvPr/>
        </p:nvPicPr>
        <p:blipFill>
          <a:blip r:embed="rId6"/>
          <a:srcRect l="0" t="21404" r="0" b="0"/>
          <a:stretch/>
        </p:blipFill>
        <p:spPr>
          <a:xfrm>
            <a:off x="2411280" y="3716280"/>
            <a:ext cx="1441440" cy="52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LOGO pvda"/>
          <p:cNvPicPr/>
          <p:nvPr/>
        </p:nvPicPr>
        <p:blipFill>
          <a:blip r:embed="rId7"/>
          <a:stretch/>
        </p:blipFill>
        <p:spPr>
          <a:xfrm>
            <a:off x="4427640" y="1773360"/>
            <a:ext cx="662040" cy="792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logo pvv"/>
          <p:cNvPicPr/>
          <p:nvPr/>
        </p:nvPicPr>
        <p:blipFill>
          <a:blip r:embed="rId8"/>
          <a:srcRect l="0" t="17829" r="0" b="19982"/>
          <a:stretch/>
        </p:blipFill>
        <p:spPr>
          <a:xfrm>
            <a:off x="2340000" y="2997360"/>
            <a:ext cx="1835280" cy="606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1" descr="logo sgp"/>
          <p:cNvPicPr/>
          <p:nvPr/>
        </p:nvPicPr>
        <p:blipFill>
          <a:blip r:embed="rId9"/>
          <a:srcRect l="16553" t="0" r="16723" b="11262"/>
          <a:stretch/>
        </p:blipFill>
        <p:spPr>
          <a:xfrm>
            <a:off x="8244000" y="3068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2" descr="LOGO sp"/>
          <p:cNvPicPr/>
          <p:nvPr/>
        </p:nvPicPr>
        <p:blipFill>
          <a:blip r:embed="rId10"/>
          <a:stretch/>
        </p:blipFill>
        <p:spPr>
          <a:xfrm>
            <a:off x="7236000" y="3068640"/>
            <a:ext cx="863280" cy="477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3" descr="logo pvvd"/>
          <p:cNvPicPr/>
          <p:nvPr/>
        </p:nvPicPr>
        <p:blipFill>
          <a:blip r:embed="rId11"/>
          <a:stretch/>
        </p:blipFill>
        <p:spPr>
          <a:xfrm>
            <a:off x="4356000" y="3068640"/>
            <a:ext cx="825480" cy="9349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07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CF4E-67A8-4ADB-BCB1-8FF40F27F63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alitiereger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ring die uit meerdere partijen besta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gerings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 én in de re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de meerderheid zel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regering + stelt ding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4A7A-8D69-4A47-9B38-35CDB762FCE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8" descr="ministers anno 2008"/>
          <p:cNvPicPr/>
          <p:nvPr/>
        </p:nvPicPr>
        <p:blipFill>
          <a:blip r:embed="rId1"/>
          <a:stretch/>
        </p:blipFill>
        <p:spPr>
          <a:xfrm>
            <a:off x="250920" y="112536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05F6-DFB9-4B21-AC5E-5F9D73F0E5B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547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(nieuwe) regering noteert de belangrijkste plannen voor komen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jaar in e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eerakko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regeerakkoord050207"/>
          <p:cNvPicPr/>
          <p:nvPr/>
        </p:nvPicPr>
        <p:blipFill>
          <a:blip r:embed="rId1"/>
          <a:stretch/>
        </p:blipFill>
        <p:spPr>
          <a:xfrm>
            <a:off x="2195640" y="3141720"/>
            <a:ext cx="4714920" cy="3429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7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C51B-DEC6-4E53-B903-532126150DB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576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de koning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 handtekening onder alle w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t de troonrede 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t met de minister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genwoordigt ons land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pt ná de verkiezingen met het vormen van de nieuwe reg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schend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2006-09-20%20-%20Koningin%20Beatrix%20-%20troonrede%202006"/>
          <p:cNvPicPr/>
          <p:nvPr/>
        </p:nvPicPr>
        <p:blipFill>
          <a:blip r:embed="rId1"/>
          <a:srcRect l="8960" t="0" r="10939" b="5207"/>
          <a:stretch/>
        </p:blipFill>
        <p:spPr>
          <a:xfrm>
            <a:off x="5940360" y="1268280"/>
            <a:ext cx="2952720" cy="5029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De reg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7DFD-E5A7-47D4-BA26-E0E3884F6E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bbe0e3"/>
                </a:solidFill>
                <a:uFillTx/>
                <a:latin typeface="Arial"/>
              </a:rPr>
              <a:t>Normen:</a:t>
            </a:r>
            <a:r>
              <a:rPr b="1" lang="nl-NL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gedragsregels, v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erwachtingen over wat normaal is, manier van handelen waar mensen zich aan kunnen of moeten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bbe0e3"/>
                </a:solidFill>
                <a:uFillTx/>
                <a:latin typeface="Arial"/>
              </a:rPr>
              <a:t>Waarden</a:t>
            </a: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: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 waarden zijn dingen en denkbeelden waar we waarde aan hechten. Aspecten die we belangrijk vinden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Waarde: eer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Norm: niet st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4F4C-B1B3-4BA1-9B69-977296B989C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-324360" y="1413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inister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j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 verantwoordelijk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oor hun beleidsterrein (portefeu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ken zij ee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rnstige fou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merleden dienen mo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wantrouwen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angenomen = ook aftr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e van wantrouwen tegen hele kabinetsbeleid = kabinets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fs"/>
          <p:cNvPicPr/>
          <p:nvPr/>
        </p:nvPicPr>
        <p:blipFill>
          <a:blip r:embed="rId1"/>
          <a:srcRect l="12929" t="0" r="9545" b="14848"/>
          <a:stretch/>
        </p:blipFill>
        <p:spPr>
          <a:xfrm>
            <a:off x="5219640" y="2781360"/>
            <a:ext cx="3672000" cy="25257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De reg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C417-FD16-46A6-88EE-9E0173CE99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land waarin iedereen rechten heeft en waar deze rechten zijn vastgelegd in we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ze splitsing voorkomen we machtsmisbrui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24000" y="443700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059280" y="450864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6227640" y="4430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7"/>
          <p:cNvSpPr/>
          <p:nvPr/>
        </p:nvSpPr>
        <p:spPr>
          <a:xfrm flipH="1">
            <a:off x="1692000" y="357336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6443640" y="3573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611280" y="3573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AE40-228E-4BD4-A4AB-30EDDAE4C1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65_montesquieu"/>
          <p:cNvPicPr/>
          <p:nvPr/>
        </p:nvPicPr>
        <p:blipFill>
          <a:blip r:embed="rId1"/>
          <a:stretch/>
        </p:blipFill>
        <p:spPr>
          <a:xfrm>
            <a:off x="395280" y="1268280"/>
            <a:ext cx="86043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505E-39D7-44E6-8219-5D7DAA3A09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stembiljet"/>
          <p:cNvPicPr/>
          <p:nvPr/>
        </p:nvPicPr>
        <p:blipFill>
          <a:blip r:embed="rId1"/>
          <a:stretch/>
        </p:blipFill>
        <p:spPr>
          <a:xfrm>
            <a:off x="1908000" y="3429000"/>
            <a:ext cx="4535640" cy="15112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324000" y="1268280"/>
            <a:ext cx="8569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olitieke partij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ste beleidsterreinen (programma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kandidaten bij verkiez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omen op voor het algemeen bela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250920" y="5013360"/>
            <a:ext cx="889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ressiegroep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nke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e beleidsterrei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zich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erkiesb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eert de politiek te beïnvlo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B201-8B81-4B32-8097-324906253B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het Parl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etgev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temrecht bij wetsontwer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udgetre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= rijksbegroting wel of niet goedk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itiat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wetsontwerp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mendemen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 meerderheid veranderingen aanbrengen in wetsvoorstellen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vragen in een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roler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ragenrech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elke dinsdag vragen stellen a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otie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voorbeeld een motie van wantrouwen aannemen of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 belangrijk onderwerp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ralementaire Enquê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uden, onderzoekscommissie vormen, onder ede laten getu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" descr="j0124651.wmf (126222 bytes)"/>
          <p:cNvPicPr/>
          <p:nvPr/>
        </p:nvPicPr>
        <p:blipFill>
          <a:blip r:embed="rId1"/>
          <a:stretch/>
        </p:blipFill>
        <p:spPr>
          <a:xfrm>
            <a:off x="6516720" y="620640"/>
            <a:ext cx="2305080" cy="159408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EFC8-DD61-44EB-B083-32ADD9A2E5B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-324360" y="1268280"/>
            <a:ext cx="97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ring maak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dt ontwerp naar Tweed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actiespecialisten bekijken het, kunnen punten wijzigen, stellen vragen aan de minister: debateren. Daarna geeft voltallige Tweede Kamer het oordeel over he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derheid Tweede Kamer voo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at naar Eerst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g géén wijzigingen meer aannemen, bekijkt het nog eens goed, zegt: “ja” of “nee” (bijna altijd; “j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Betreffende minister + koningin zetten handtekening onder de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Wet komt in de Staatsco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7" descr="staatscourant"/>
          <p:cNvPicPr/>
          <p:nvPr/>
        </p:nvPicPr>
        <p:blipFill>
          <a:blip r:embed="rId1"/>
          <a:stretch/>
        </p:blipFill>
        <p:spPr>
          <a:xfrm>
            <a:off x="4219560" y="5661000"/>
            <a:ext cx="4924440" cy="9334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FF5F-6C40-4CDB-B703-CA1CF151A0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decentraliseerde eenheid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jk beslit grote lijnen, gedetailleerde invull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aan lagere overheden overgela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1042920" y="2637000"/>
            <a:ext cx="3240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een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r niet alles centraal gere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afstem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lokale zeggenscha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4716360" y="2708280"/>
            <a:ext cx="349272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Na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kale bevoegdheden zijn beperk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é veel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verscheiden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A909-CFDE-4ED2-96E9-5A4963D7A7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meenter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liggen dichter bij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emmingspl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baar ver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ner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ort en onderwijsvoorzie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ca vergun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BFE1-FEF2-41DF-9802-4E94A6A53A3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college van B&amp;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llege van Burgemeester en Wethou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 het beleid 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en benoemd door de gemeentera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ra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mt beslui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 het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kozen door de bevol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burgemees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oorzitter van de gemeenteraad en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benoemd door de reg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0D26-5963-423E-979F-8C13D2F5C98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5"/>
          <p:cNvGrpSpPr/>
          <p:nvPr/>
        </p:nvGrpSpPr>
        <p:grpSpPr>
          <a:xfrm>
            <a:off x="179280" y="1773360"/>
            <a:ext cx="8675640" cy="3288240"/>
            <a:chOff x="179280" y="1773360"/>
            <a:chExt cx="8675640" cy="3288240"/>
          </a:xfrm>
        </p:grpSpPr>
        <p:sp>
          <p:nvSpPr>
            <p:cNvPr id="327" name="Text Box 4"/>
            <p:cNvSpPr/>
            <p:nvPr/>
          </p:nvSpPr>
          <p:spPr>
            <a:xfrm>
              <a:off x="2195280" y="3141720"/>
              <a:ext cx="2160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Burgemeest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5"/>
            <p:cNvSpPr/>
            <p:nvPr/>
          </p:nvSpPr>
          <p:spPr>
            <a:xfrm>
              <a:off x="212220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meenteraad (9 tot 45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6"/>
            <p:cNvSpPr/>
            <p:nvPr/>
          </p:nvSpPr>
          <p:spPr>
            <a:xfrm>
              <a:off x="457020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Wethouders (2-9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>
              <a:off x="284292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B en W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17928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"/>
            <p:cNvSpPr/>
            <p:nvPr/>
          </p:nvSpPr>
          <p:spPr>
            <a:xfrm>
              <a:off x="349092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0"/>
            <p:cNvSpPr/>
            <p:nvPr/>
          </p:nvSpPr>
          <p:spPr>
            <a:xfrm>
              <a:off x="727056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1"/>
            <p:cNvSpPr/>
            <p:nvPr/>
          </p:nvSpPr>
          <p:spPr>
            <a:xfrm>
              <a:off x="727056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2"/>
            <p:cNvSpPr/>
            <p:nvPr/>
          </p:nvSpPr>
          <p:spPr>
            <a:xfrm>
              <a:off x="356220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3"/>
            <p:cNvSpPr/>
            <p:nvPr/>
          </p:nvSpPr>
          <p:spPr>
            <a:xfrm>
              <a:off x="565128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4"/>
            <p:cNvSpPr/>
            <p:nvPr/>
          </p:nvSpPr>
          <p:spPr>
            <a:xfrm>
              <a:off x="572292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5"/>
            <p:cNvSpPr/>
            <p:nvPr/>
          </p:nvSpPr>
          <p:spPr>
            <a:xfrm>
              <a:off x="176184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6"/>
            <p:cNvSpPr/>
            <p:nvPr/>
          </p:nvSpPr>
          <p:spPr>
            <a:xfrm flipH="1">
              <a:off x="709092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4"/>
            <p:cNvSpPr/>
            <p:nvPr/>
          </p:nvSpPr>
          <p:spPr>
            <a:xfrm flipV="1">
              <a:off x="5506920" y="4437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30"/>
            <p:cNvSpPr/>
            <p:nvPr/>
          </p:nvSpPr>
          <p:spPr>
            <a:xfrm>
              <a:off x="2050920" y="4724280"/>
              <a:ext cx="680400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ekozen door de bevolk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34D5-9325-41A9-ACF1-26A8089845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Propaganda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: doelbewust eenzijdige informatie geven, om meningen te beinvlo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Manipulatie: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 met opzet feiten weglaten of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Indoctrinatie: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 voortdurend opdringen van bepaalde meningen (met behulp van zeer intensieve psychologische middeltjes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E8CA-316F-4852-BE5A-364C5B9D801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vinc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aken liggen bi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telijke o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li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geme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water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8366-E6D4-4158-9EEE-97AD192534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dental Provinciale Staten hangt af van aantal inwoners van de provinc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Provinciale Staten kiezen de leden van d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deputeerde Sta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agelijks best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8E5A-D090-46EB-BC18-0FE91A47E8D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351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 flipV="1">
            <a:off x="284328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 flipV="1">
            <a:off x="4284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4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5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6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7"/>
          <p:cNvSpPr/>
          <p:nvPr/>
        </p:nvSpPr>
        <p:spPr>
          <a:xfrm>
            <a:off x="3564000" y="5589720"/>
            <a:ext cx="36003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iegelingscollege: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le grote partijen in G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B7B6-0E4D-4988-891E-86B61EA990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378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2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3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4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5"/>
          <p:cNvSpPr/>
          <p:nvPr/>
        </p:nvSpPr>
        <p:spPr>
          <a:xfrm>
            <a:off x="3564000" y="5589720"/>
            <a:ext cx="50403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heidscollege: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mmige fracties in GS (krijgt politieke kleur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8E7C-645C-4225-9623-9CA3F2183C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23640" y="160020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: Europese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munteenheid (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v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concurrentie in 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l ecnomische be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5" descr="europe%20flag"/>
          <p:cNvPicPr/>
          <p:nvPr/>
        </p:nvPicPr>
        <p:blipFill>
          <a:blip r:embed="rId1"/>
          <a:stretch/>
        </p:blipFill>
        <p:spPr>
          <a:xfrm>
            <a:off x="4500720" y="2205000"/>
            <a:ext cx="43210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BCBB-369E-44F4-8281-5EA604580B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427280" y="155736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U: Europese Unie: na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nationale soevereiniteit: De Nederlandse regering kan niet alles zelf besl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democratisch 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se burger hebben minder invloed op besluiten van de EU (dan van onze nationale reg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werkgelegen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5" descr="EU%20vlag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27860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1293-3E7D-446A-9BAB-56FD8711C62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drie instellingen die samen het bestuur van de Europese Unie vorm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se Commiss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6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9BF4-BCF4-421C-8C49-4FE55F6E214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ropese Commissie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 het 'dagelijks bestuur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initiatief tot voorstellen voor wetgeving en maatregelen op Europees niv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zorgt voor uitvoering van de w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3B6B-B208-4F20-832B-F75F7328E54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voor dat wetten democratisch tot stand k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viseert of beslist over de wetsvoorstell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ist over de toetreding van nieuwe lan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 over de Europese Commiss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EU%20vlag"/>
          <p:cNvPicPr/>
          <p:nvPr/>
        </p:nvPicPr>
        <p:blipFill>
          <a:blip r:embed="rId1"/>
          <a:stretch/>
        </p:blipFill>
        <p:spPr>
          <a:xfrm>
            <a:off x="7126200" y="541188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3C12-29CE-4C76-A1C9-DE0265C099D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inisters van de afzonderlijke lidstaten nemen de uiteindelijke beslissing over de wetgeving in de Un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eggen met regeringsleiders (euro-to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uisteren naar voorstellen van de Commissie en het advies van het Europees Parl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EU%20vlag"/>
          <p:cNvPicPr/>
          <p:nvPr/>
        </p:nvPicPr>
        <p:blipFill>
          <a:blip r:embed="rId1"/>
          <a:stretch/>
        </p:blipFill>
        <p:spPr>
          <a:xfrm>
            <a:off x="6804000" y="515772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80C3-5C56-42A6-8BA4-EB01432958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586728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bbe0e3"/>
                </a:solidFill>
                <a:uFillTx/>
                <a:latin typeface="Arial"/>
              </a:rPr>
              <a:t>Stereotypering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Beeld van een bepaalde bevolkingsgroep dat met de werkelijkheid weinig of niets te maken heeft.</a:t>
            </a:r>
            <a:br>
              <a:rPr sz="2000"/>
            </a:b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VB: Afrikanen in rieten rokjes met botjes in hun neus en dikke 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Nederlanders op klo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bbe0e3"/>
                </a:solidFill>
                <a:uFillTx/>
                <a:latin typeface="Arial"/>
              </a:rPr>
              <a:t>Vooroordeel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Een vooroordeel is een mening over iemand of een groep mensen die niet op feiten is gebasee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VB: 'alle duitsers hebben bierbuiken, 'Belgen zijn dom', 'Nederlanders zijn krenterig' of 'dikke mensen zijn gezellig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bbe0e3"/>
                </a:solidFill>
                <a:uFillTx/>
                <a:latin typeface="Arial"/>
              </a:rPr>
              <a:t>Discriminatie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Als mensen op basis van deze vooroordelen worden achtergesteld, is er sprake van discriminat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10809"/>
          <p:cNvPicPr/>
          <p:nvPr/>
        </p:nvPicPr>
        <p:blipFill>
          <a:blip r:embed="rId1"/>
          <a:stretch/>
        </p:blipFill>
        <p:spPr>
          <a:xfrm>
            <a:off x="7451640" y="1052640"/>
            <a:ext cx="1438200" cy="266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121581"/>
          <p:cNvPicPr/>
          <p:nvPr/>
        </p:nvPicPr>
        <p:blipFill>
          <a:blip r:embed="rId2"/>
          <a:srcRect l="9962" t="2883" r="10174" b="4043"/>
          <a:stretch/>
        </p:blipFill>
        <p:spPr>
          <a:xfrm>
            <a:off x="6300720" y="3933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2A63-C864-465B-80CA-C13DD305C06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eden van de E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74" descr=""/>
          <p:cNvPicPr/>
          <p:nvPr/>
        </p:nvPicPr>
        <p:blipFill>
          <a:blip r:embed="rId1"/>
          <a:srcRect l="16032" t="25589" r="21208" b="36162"/>
          <a:stretch/>
        </p:blipFill>
        <p:spPr>
          <a:xfrm>
            <a:off x="0" y="2060640"/>
            <a:ext cx="8820000" cy="40323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0CDF-F9E1-492F-B1C7-4C612E7484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EU%20vlag"/>
          <p:cNvPicPr/>
          <p:nvPr/>
        </p:nvPicPr>
        <p:blipFill>
          <a:blip r:embed="rId1"/>
          <a:stretch/>
        </p:blipFill>
        <p:spPr>
          <a:xfrm>
            <a:off x="6877080" y="5229360"/>
            <a:ext cx="2017800" cy="1446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"/>
          <p:cNvPicPr/>
          <p:nvPr/>
        </p:nvPicPr>
        <p:blipFill>
          <a:blip r:embed="rId2"/>
          <a:srcRect l="15301" t="22439" r="24154" b="7683"/>
          <a:stretch/>
        </p:blipFill>
        <p:spPr>
          <a:xfrm>
            <a:off x="1187280" y="1413000"/>
            <a:ext cx="6048720" cy="52354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A49F-CCAC-417E-AAFB-2A825DCE83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enigde Naties (V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 alle landen van de wereld zijn er lid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el: komende generaties behoeden voor 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internationale vrede en veiligheid te 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bij natuurrampen, oorlog, hongersnood en arm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pect bevorderen van mensen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g V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6" descr="Vlag van de Verenigde Naties"/>
          <p:cNvPicPr/>
          <p:nvPr/>
        </p:nvPicPr>
        <p:blipFill>
          <a:blip r:embed="rId1"/>
          <a:stretch/>
        </p:blipFill>
        <p:spPr>
          <a:xfrm>
            <a:off x="6667560" y="521028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FED7-6A14-40F1-B91C-31EEF5CA897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stuur van de Verenigde Naties (V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zes bestuursorganen die de werkzaamheden van de organisatie aansturen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Algemene Verg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conomische en Sociale 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Internationaal Gerechtsh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Secretariaat (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raterus-gener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Trustschapsraad (tegenwoordig inactie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Veiligheids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6667560" y="335772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D061-B948-4CF4-9494-D7D92EACBF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september tot december bespreken ze de problemen in de wer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 komt er een resolutie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is een soort niet bindende wetg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unnen voorstellen om een land te boyc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edestroepen: ze kunnen militairen sturen naar een gebied. (zoals de Nederlandse Blauwhel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1476360" y="4941720"/>
            <a:ext cx="2476440" cy="16480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10828987"/>
          <p:cNvPicPr/>
          <p:nvPr/>
        </p:nvPicPr>
        <p:blipFill>
          <a:blip r:embed="rId2"/>
          <a:stretch/>
        </p:blipFill>
        <p:spPr>
          <a:xfrm>
            <a:off x="5724360" y="4941720"/>
            <a:ext cx="2381400" cy="16574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736A-D5D8-4F43-AE72-95DA39E0E11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5" descr="sw_einde"/>
          <p:cNvPicPr/>
          <p:nvPr/>
        </p:nvPicPr>
        <p:blipFill>
          <a:blip r:embed="rId1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jdelijke aanduiding voor dianumm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A752-160E-4DF9-81ED-03CD959EFC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28760" y="642960"/>
          <a:ext cx="8334360" cy="5962680"/>
        </p:xfrm>
        <a:graphic>
          <a:graphicData uri="http://schemas.openxmlformats.org/drawingml/2006/table">
            <a:tbl>
              <a:tblPr/>
              <a:tblGrid>
                <a:gridCol w="1836720"/>
                <a:gridCol w="630000"/>
                <a:gridCol w="3043440"/>
                <a:gridCol w="630000"/>
                <a:gridCol w="2194200"/>
              </a:tblGrid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N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TVANG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EF/SUBJECTIEF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eiten/Meningen [Meerdere kanten]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ROUWBARE BRONN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BS, Wikipedia, edu-sites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IPUL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EVE WAARNEM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erdraai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send voor jezelf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NDA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enzijd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IEKA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CTR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rvaring, Waard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wingend/Langdur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RIM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reotyper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oroordel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B2CF-DA19-4AE5-81E1-6035BD8B318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Hoofdstuk 3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arlementaire democr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9640" y="62373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oets eind oktober 2009                  Pagina 68 t/m 108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65_montesquieu"/>
          <p:cNvPicPr/>
          <p:nvPr/>
        </p:nvPicPr>
        <p:blipFill>
          <a:blip r:embed="rId1"/>
          <a:stretch/>
        </p:blipFill>
        <p:spPr>
          <a:xfrm>
            <a:off x="1692360" y="2708280"/>
            <a:ext cx="5933880" cy="329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question_mark_3d"/>
          <p:cNvPicPr/>
          <p:nvPr/>
        </p:nvPicPr>
        <p:blipFill>
          <a:blip r:embed="rId2"/>
          <a:stretch/>
        </p:blipFill>
        <p:spPr>
          <a:xfrm rot="1550400">
            <a:off x="4140360" y="2060640"/>
            <a:ext cx="26762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bin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tengenera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55B3-C076-4007-8FDC-EEACD6BE2FB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09-09-24T12:05:12Z</dcterms:modified>
  <cp:revision>62</cp:revision>
  <dc:subject/>
  <dc:title>Dia 1</dc:title>
</cp:coreProperties>
</file>