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424B-E3B5-497E-8BCB-F27A594496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CC39-9918-43FA-8A5E-9BE7AD0EBC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84C-6585-43ED-84EB-C293E238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015-193E-4D74-AAA0-451F37C6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3DF-9706-4739-AAF8-B80DBECF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1E8-5CEB-4AFB-8D16-C45B5B5C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804-EB47-4F0F-B700-3F017CC3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E20-D673-43DD-BB30-AC84B5FB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54C-C1CB-4E65-B9C5-76506264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232-322E-448C-9501-CA7A2D38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29B-990C-4E7D-A5C2-00D1D7A7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2B9-27FD-414E-9E6C-6CB8ED34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700-0DD6-4F70-8F7D-53448F49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572-ADD0-4ECD-A091-95BCA40C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4A33-A510-48D6-8F08-D8C90B3438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90792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rech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(materi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 belangrijkste wetten in Nederland staan hier in (buiten de grondwet d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Wat de strafbare feiten zijn en welke straffen ervoor kunnen uitgesprok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Strafbare feiten omschrev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Zoals: moord, diefstal, oplichting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vordering: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form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paalt hoe strafbare feiten vervolgd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handelt de hele procedure van aanhouding t/m de strafoplegging door de rech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ze twee wetboeken vormen de basis van het Nederlandse strafrec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557E-332B-44E3-BBBF-1D86148474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5AE2-FB3D-4C49-85DC-72955A8023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63640" y="220500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ail"/>
          <p:cNvPicPr/>
          <p:nvPr/>
        </p:nvPicPr>
        <p:blipFill>
          <a:blip r:embed="rId3"/>
          <a:stretch/>
        </p:blipFill>
        <p:spPr>
          <a:xfrm>
            <a:off x="0" y="105264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rcRect l="17982" t="12065" r="17265" b="4859"/>
          <a:stretch/>
        </p:blipFill>
        <p:spPr>
          <a:xfrm>
            <a:off x="324000" y="476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138F-997B-4CEC-8A39-EDB0BA7D39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 straftecht: De opsporing</a:t>
            </a: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 Zwaardere straf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minder zware stra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Criminee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overtreder/ of nie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ADBD-4A1A-4BAC-A354-511E1D6372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84B9-0654-47B3-9459-82E7810478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81080" y="1125360"/>
            <a:ext cx="8496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procedur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tap 1: de politie verzamelt inform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 dwangmiddelen gebruik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55640" y="378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aande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ten stilstaan, id vragen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900000" y="5589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beslage nam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wijsmateriaal innem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755640" y="422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00000" y="6021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ast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et op: de tijd tussen 00.00 middernacht en 09.00 uur ‘s ochtends wordt hierbij niet meegerekend. In de nachtelijke uren mag je overigens wel door de politie worden verho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783D-3281-4072-B5AE-7619F6F13A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rcRect l="30002" t="11412" r="2498" b="26629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025E-C402-46CD-A48D-CF109CD281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-181080" y="1125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wangmiddelen met toestemm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5280" y="306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vragen gegevens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lefoontabs, creditcard gebruik, etc alleen met toestemming van OVJ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95280" y="551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filtr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t toestemming van rechter-commissaris infiltreren in misdaad organisaties. (uitlokken mag niet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24000" y="16286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: een machtiging tot binnentreding va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395280" y="422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voorarrest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a de aanhouding langer vasthouden. Toestemming OvJ e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19CA-F1FE-4689-A1FD-1C0D1C3967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29543" t="32465" r="29119" b="36049"/>
          <a:stretch/>
        </p:blipFill>
        <p:spPr>
          <a:xfrm>
            <a:off x="684360" y="1268280"/>
            <a:ext cx="360036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5219640" y="1268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395280" y="3379680"/>
            <a:ext cx="84247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2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politie geeft het proces verbaal aan de Officier van Justiti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ze gaat de zaak verder onderzoeken in het opsporingsonderzoe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Hij heeft 3 keuzes, maar besluit dat Pieter voor de rechter moet kom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3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 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 rechter beslist wat er met Pieter gebeur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1E27-641C-40A8-93AB-3A755E5795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/transac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6CE2-08F0-41D7-9375-9408876F1A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"/>
          <p:cNvGraphicFramePr/>
          <p:nvPr/>
        </p:nvGraphicFramePr>
        <p:xfrm>
          <a:off x="179280" y="1989000"/>
          <a:ext cx="8815320" cy="39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8153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43:35Z</dcterms:modified>
  <cp:revision>160</cp:revision>
  <dc:subject/>
  <dc:title>Dia 1</dc:title>
</cp:coreProperties>
</file>