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5.gif" ContentType="image/gif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AECF-1533-4BD1-BDC8-57609E7A6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03F7-D6FA-4613-B73C-1A7745D1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AE45-C8E0-4D3E-900D-C710478C5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5C4A-CA63-47AF-A438-22C610EF9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B303-7DF7-46DB-BD19-7628B72D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EC53-69BA-4B97-9518-0AA01910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3400-3F4F-4AA8-AEF3-8CBBEA30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C46E-8968-4C49-A3A1-CC9008994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E3DF-621C-4EB3-8A3C-1FAD9B2D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E78A-3F62-45A4-B279-C8243C36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D7B6-9412-465B-84C2-4A02C5C9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6FB2-1547-4738-A38B-44AE86CA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8447-F019-4914-BEAB-37725B8FA52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2bfZcl-UQE0&amp;feature=related" TargetMode="External"/><Relationship Id="rId2" Type="http://schemas.openxmlformats.org/officeDocument/2006/relationships/hyperlink" Target="http://www.youtube.com/watch?v=2bfZcl-UQE0&amp;feature=related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2bfZcl-UQE0&amp;feature=related" TargetMode="External"/><Relationship Id="rId2" Type="http://schemas.openxmlformats.org/officeDocument/2006/relationships/hyperlink" Target="http://www.youtube.com/watch?v=2bfZcl-UQE0&amp;feature=related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DFD5-2FDC-4EBA-8A85-D818234090C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H5: verzorgingsst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95280" y="5105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Object 4"/>
          <p:cNvGraphicFramePr/>
          <p:nvPr/>
        </p:nvGraphicFramePr>
        <p:xfrm>
          <a:off x="2743200" y="1504800"/>
          <a:ext cx="4775040" cy="384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504800"/>
                    <a:ext cx="4775040" cy="38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19194d"/>
                </a:solidFill>
                <a:latin typeface="Arial"/>
              </a:rPr>
              <a:t>  </a:t>
            </a:r>
            <a:r>
              <a:rPr b="1" lang="nl-NL" sz="3000" spc="-1" strike="noStrike">
                <a:solidFill>
                  <a:srgbClr val="19194d"/>
                </a:solidFill>
                <a:latin typeface="Arial"/>
              </a:rPr>
              <a:t>Sociale verzekeringen. </a:t>
            </a:r>
            <a:r>
              <a:rPr b="0" lang="nl-NL" sz="3000" spc="-1" strike="noStrike">
                <a:solidFill>
                  <a:srgbClr val="19194d"/>
                </a:solidFill>
                <a:latin typeface="Arial"/>
              </a:rPr>
              <a:t> De sociale verzekeringen zijn verplicht en er zijn 2 soorten de werknemers verzekering en de volks verzekering. </a:t>
            </a:r>
            <a:br>
              <a:rPr sz="2400"/>
            </a:b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                        </a:t>
            </a: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r>
              <a:rPr b="0" lang="nl-N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2bfZcl-UQE0&amp;feature=related</a:t>
            </a:r>
            <a:r>
              <a:rPr b="0" lang="nl-NL" sz="1200" spc="-1" strike="noStrike">
                <a:solidFill>
                  <a:srgbClr val="19194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C2BC-127C-460A-9C09-AF66202EB26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990720" y="380520"/>
            <a:ext cx="7643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5: De sociale zekerheid gereg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tij"/>
          <p:cNvPicPr/>
          <p:nvPr/>
        </p:nvPicPr>
        <p:blipFill>
          <a:blip r:embed="rId1"/>
          <a:stretch/>
        </p:blipFill>
        <p:spPr>
          <a:xfrm>
            <a:off x="3635280" y="393372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2556000" y="2276640"/>
            <a:ext cx="360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Sociale verzekerin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4500720" y="2781360"/>
            <a:ext cx="4392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Werknemers verzekerin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395280" y="2781360"/>
            <a:ext cx="360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Volksverzekerin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95280" y="3429000"/>
            <a:ext cx="36003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zekeringen die voor iedereen geld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taald uit belasting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OW: ouderen pensio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KW:Kinderbijsla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5003640" y="3413160"/>
            <a:ext cx="395928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zekeringen die gelden voor werknemer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taald uit premies door werknemer én werkgever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W: als je werkloos word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ULBZ: Als je ziek wordt. 2 jaar lang 70% van je loon krijg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A: als je arbeidsongeschikt wordt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250920" y="1773360"/>
            <a:ext cx="8497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rzorgingsstaat:overheid helpt de burgers als nodig i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19194d"/>
                </a:solidFill>
                <a:latin typeface="Arial"/>
              </a:rPr>
              <a:t>Werknemersverzekeringen.  </a:t>
            </a:r>
            <a:r>
              <a:rPr b="0" lang="nl-NL" sz="3600" spc="-1" strike="noStrike">
                <a:solidFill>
                  <a:srgbClr val="19194d"/>
                </a:solidFill>
                <a:latin typeface="Arial"/>
              </a:rPr>
              <a:t>Is voor mensen met loondienst. De premie die je moet betalen , hangt af van je loon en wordt ook van je salaris afgetrokk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19194d"/>
                </a:solidFill>
                <a:latin typeface="Arial"/>
              </a:rPr>
              <a:t>Volksverzekeringen</a:t>
            </a:r>
            <a:r>
              <a:rPr b="0" lang="nl-NL" sz="3600" spc="-1" strike="noStrike">
                <a:solidFill>
                  <a:srgbClr val="19194d"/>
                </a:solidFill>
                <a:latin typeface="Arial"/>
              </a:rPr>
              <a:t>: gelden voor iedereen!!!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                        </a:t>
            </a: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r>
              <a:rPr b="0" lang="nl-N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2bfZcl-UQE0&amp;feature=related</a:t>
            </a:r>
            <a:r>
              <a:rPr b="0" lang="nl-NL" sz="1200" spc="-1" strike="noStrike">
                <a:solidFill>
                  <a:srgbClr val="19194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EAC6-6D40-4F3F-86BE-10C562BCD8C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51920" y="1447560"/>
            <a:ext cx="82076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Sociale 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lksverzekeringen en Werknemersverzekeringen. 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grootste gedeelte geheel bekostigd uit premiebijdragen die door werkgevers, werknemers, zelfstandigen en ingezetenen verschuldigd zij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ijn verpl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ontslag"/>
          <p:cNvPicPr/>
          <p:nvPr/>
        </p:nvPicPr>
        <p:blipFill>
          <a:blip r:embed="rId1"/>
          <a:stretch/>
        </p:blipFill>
        <p:spPr>
          <a:xfrm>
            <a:off x="6019920" y="2971800"/>
            <a:ext cx="27907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8520-0667-4EA6-B888-04F697867F2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0728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Sociale 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lksverzekeringen en Werknemersverzekeringen. 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grootste gedeelte geheel bekostigd uit premiebijdragen die door werkgevers, werknemers, zelfstandigen en ingezetenen verschuldigd zij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ijn verpl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tekenis van afkortin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N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Nabestaanden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O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Ouderdoms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WBZ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Wet Bijzondere Ziekteko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K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Kinderbijslag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IA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t werk en inkomen naar arbeidsvermogen (opvolger van WAO:Wet ArbeidsOngeschikthe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rkeloosheids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Z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Ziekte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NW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Algemene Nabestaanden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OW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Algemene Ouderdoms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WBZ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Algemene Wet Bijzondere Ziekteko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KW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Algemene Kinderbijslag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Rechthoek 9" descr=""/>
          <p:cNvPicPr/>
          <p:nvPr/>
        </p:nvPicPr>
        <p:blipFill>
          <a:blip r:embed="rId1"/>
          <a:stretch/>
        </p:blipFill>
        <p:spPr>
          <a:xfrm>
            <a:off x="1957320" y="609480"/>
            <a:ext cx="55530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Ww -&gt; werkloosheid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Wulbz -&gt; wet uitkering loondoorbetaling bij zie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Zw -&gt; Ziekte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Wia -&gt; wet werk en inkomen naar arbeidsverm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Rechthoek 9" descr=""/>
          <p:cNvPicPr/>
          <p:nvPr/>
        </p:nvPicPr>
        <p:blipFill>
          <a:blip r:embed="rId1"/>
          <a:stretch/>
        </p:blipFill>
        <p:spPr>
          <a:xfrm>
            <a:off x="1957320" y="609480"/>
            <a:ext cx="55530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Wel als je minsten 26 uur van de 36 gewerkt heb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3 jaar &amp; 2 maanden gebruik maken van deze w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Als je ontslagen wordt door je baas, krijg je van de overheid een WW (werkeloosheidswet). De eerste twee maanden 75% van je laatst verdiende loon en daarna 70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Als je zelf ontslag neemt krijg je geen WW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Rechthoek 6" descr=""/>
          <p:cNvPicPr/>
          <p:nvPr/>
        </p:nvPicPr>
        <p:blipFill>
          <a:blip r:embed="rId1"/>
          <a:stretch/>
        </p:blipFill>
        <p:spPr>
          <a:xfrm>
            <a:off x="1401840" y="255600"/>
            <a:ext cx="638316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Werkgever die gedurende 2 jaar loon betaald aan werkg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Bepaalde situaties niet, die behoren bij ziektew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Na twee jaar kom je bij de WIA. Je krijgt dan 70% van je laatst verdiende l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Rechthoek 6" descr=""/>
          <p:cNvPicPr/>
          <p:nvPr/>
        </p:nvPicPr>
        <p:blipFill>
          <a:blip r:embed="rId1"/>
          <a:stretch/>
        </p:blipFill>
        <p:spPr>
          <a:xfrm>
            <a:off x="2919240" y="384120"/>
            <a:ext cx="389592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14400" y="1412640"/>
            <a:ext cx="783432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Niet iedereen heeft recht op een doorbetaalde WULBZ </a:t>
            </a:r>
            <a:r>
              <a:rPr b="0" lang="nl-NL" sz="3200" spc="-1" strike="noStrike">
                <a:solidFill>
                  <a:srgbClr val="19194d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 Dan z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Als je een WW hebt krijg je een lagere Z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Geen recht op WULBZ 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- tijdelijk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- zwangere werkneem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- musici artie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- uitzendkra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- mensen met een WW uitk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krijgen vaak lagere ZW uitke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Rechthoek 7" descr=""/>
          <p:cNvPicPr/>
          <p:nvPr/>
        </p:nvPicPr>
        <p:blipFill>
          <a:blip r:embed="rId1"/>
          <a:stretch/>
        </p:blipFill>
        <p:spPr>
          <a:xfrm>
            <a:off x="2279520" y="255600"/>
            <a:ext cx="50482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9554-3E8B-4D1E-BBDA-53BBDC724EE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39640" y="274320"/>
            <a:ext cx="474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4: van nachtswakersstaat tot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340000" y="1916280"/>
            <a:ext cx="680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gentiende eeuw nachtwakerssta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orde handh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esche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voorzieningen waarin particulieren   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zelf niet kunnen voorz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rijken zorgen voor zichz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rmen zijn afhankelijk van familie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de kerk en van ‘giften’ van rij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00040" y="191592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Wet inkomen naar arbeidsverled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Arbeidsongeschik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Langer dan 2 jaar zi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Hoor je niet bij WULB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Heb je uitkering van W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Kan deels worden toegewezen (voorbeeld 4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Rechthoek 6" descr=""/>
          <p:cNvPicPr/>
          <p:nvPr/>
        </p:nvPicPr>
        <p:blipFill>
          <a:blip r:embed="rId1"/>
          <a:stretch/>
        </p:blipFill>
        <p:spPr>
          <a:xfrm>
            <a:off x="3114720" y="401760"/>
            <a:ext cx="298764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22DE-D87D-4D0D-AE24-74F26452415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2"/>
          <p:cNvGraphicFramePr/>
          <p:nvPr/>
        </p:nvGraphicFramePr>
        <p:xfrm>
          <a:off x="1042920" y="836640"/>
          <a:ext cx="6769080" cy="44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836640"/>
                    <a:ext cx="67690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Object 4"/>
          <p:cNvGraphicFramePr/>
          <p:nvPr/>
        </p:nvGraphicFramePr>
        <p:xfrm>
          <a:off x="971640" y="5430960"/>
          <a:ext cx="6842160" cy="1427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5430960"/>
                    <a:ext cx="6842160" cy="14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Rectangle 5"/>
          <p:cNvSpPr/>
          <p:nvPr/>
        </p:nvSpPr>
        <p:spPr>
          <a:xfrm>
            <a:off x="1692360" y="0"/>
            <a:ext cx="474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412F-BB47-46D7-BCC0-DFB97479D4B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684360" y="1484280"/>
            <a:ext cx="868824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Sociale voorzieninge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kosten van de sociale voorzieningen worden geheel betaald door de overheid en ze worden bestreden uit de algemene middelen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tekenis van afkortingen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OAW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Wet Inkomkensvoorziening Oudere en gedeeltelijk Arbeidsongeschikte werkloze Werknemer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OAZ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Wet Inkomensvoorziening Oudere en gedeeltelijk Arbeidsongeschikte gewezen zelfstandig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T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Toeslagenwe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WB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t Werk en Bijstan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WI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t Werk en Inkomen Kunstenaar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bZ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besluit bijstandsverlening zelfstandig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9CFE-BADC-44FB-843E-EC9E69BBDEE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3"/>
          <p:cNvGraphicFramePr/>
          <p:nvPr/>
        </p:nvGraphicFramePr>
        <p:xfrm>
          <a:off x="395280" y="1413000"/>
          <a:ext cx="8064360" cy="519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13000"/>
                    <a:ext cx="806436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24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4491-A81A-4CFE-9E03-EC683541513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rcRect l="3543" t="34699" r="61612" b="19529"/>
          <a:stretch/>
        </p:blipFill>
        <p:spPr>
          <a:xfrm>
            <a:off x="1763640" y="476280"/>
            <a:ext cx="568800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D849-1EE8-4352-A1A2-D632F8CB8DD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876240" y="1295280"/>
            <a:ext cx="7391520" cy="1295640"/>
          </a:xfrm>
          <a:prstGeom prst="downArrowCallout">
            <a:avLst>
              <a:gd name="adj1" fmla="val 48760"/>
              <a:gd name="adj2" fmla="val 143600"/>
              <a:gd name="adj3" fmla="val 14583"/>
              <a:gd name="adj4" fmla="val 66667"/>
            </a:avLst>
          </a:prstGeom>
          <a:solidFill>
            <a:srgbClr val="ff00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0" y="2743200"/>
            <a:ext cx="4419720" cy="857160"/>
          </a:xfrm>
          <a:prstGeom prst="downArrowCallout">
            <a:avLst>
              <a:gd name="adj1" fmla="val 44071"/>
              <a:gd name="adj2" fmla="val 129789"/>
              <a:gd name="adj3" fmla="val 14583"/>
              <a:gd name="adj4" fmla="val 66667"/>
            </a:avLst>
          </a:prstGeom>
          <a:solidFill>
            <a:srgbClr val="ff00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2"/>
          <p:cNvSpPr/>
          <p:nvPr/>
        </p:nvSpPr>
        <p:spPr>
          <a:xfrm>
            <a:off x="4724280" y="2743200"/>
            <a:ext cx="4419720" cy="857160"/>
          </a:xfrm>
          <a:prstGeom prst="downArrowCallout">
            <a:avLst>
              <a:gd name="adj1" fmla="val 44071"/>
              <a:gd name="adj2" fmla="val 129789"/>
              <a:gd name="adj3" fmla="val 14583"/>
              <a:gd name="adj4" fmla="val 66667"/>
            </a:avLst>
          </a:prstGeom>
          <a:solidFill>
            <a:srgbClr val="ff00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3"/>
          <p:cNvSpPr/>
          <p:nvPr/>
        </p:nvSpPr>
        <p:spPr>
          <a:xfrm>
            <a:off x="3124080" y="4038480"/>
            <a:ext cx="2895840" cy="1173240"/>
          </a:xfrm>
          <a:prstGeom prst="downArrowCallout">
            <a:avLst>
              <a:gd name="adj1" fmla="val 21096"/>
              <a:gd name="adj2" fmla="val 62129"/>
              <a:gd name="adj3" fmla="val 14583"/>
              <a:gd name="adj4" fmla="val 66667"/>
            </a:avLst>
          </a:prstGeom>
          <a:solidFill>
            <a:srgbClr val="ff00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4"/>
          <p:cNvSpPr/>
          <p:nvPr/>
        </p:nvSpPr>
        <p:spPr>
          <a:xfrm>
            <a:off x="0" y="4038480"/>
            <a:ext cx="2895480" cy="1173240"/>
          </a:xfrm>
          <a:prstGeom prst="downArrowCallout">
            <a:avLst>
              <a:gd name="adj1" fmla="val 21094"/>
              <a:gd name="adj2" fmla="val 62121"/>
              <a:gd name="adj3" fmla="val 14583"/>
              <a:gd name="adj4" fmla="val 66667"/>
            </a:avLst>
          </a:prstGeom>
          <a:solidFill>
            <a:srgbClr val="ff00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5"/>
          <p:cNvSpPr/>
          <p:nvPr/>
        </p:nvSpPr>
        <p:spPr>
          <a:xfrm>
            <a:off x="6172200" y="4038480"/>
            <a:ext cx="2743200" cy="76212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6"/>
          <p:cNvSpPr/>
          <p:nvPr/>
        </p:nvSpPr>
        <p:spPr>
          <a:xfrm>
            <a:off x="152280" y="5867280"/>
            <a:ext cx="1067040" cy="60984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9"/>
          <p:cNvSpPr/>
          <p:nvPr/>
        </p:nvSpPr>
        <p:spPr>
          <a:xfrm>
            <a:off x="2438280" y="5867280"/>
            <a:ext cx="1067040" cy="60984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0"/>
          <p:cNvSpPr/>
          <p:nvPr/>
        </p:nvSpPr>
        <p:spPr>
          <a:xfrm>
            <a:off x="4267080" y="5791320"/>
            <a:ext cx="1067040" cy="60948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1"/>
          <p:cNvSpPr/>
          <p:nvPr/>
        </p:nvSpPr>
        <p:spPr>
          <a:xfrm>
            <a:off x="1295280" y="5867280"/>
            <a:ext cx="1067040" cy="60984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2"/>
          <p:cNvSpPr/>
          <p:nvPr/>
        </p:nvSpPr>
        <p:spPr>
          <a:xfrm>
            <a:off x="6553080" y="5791320"/>
            <a:ext cx="1067040" cy="60948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3"/>
          <p:cNvSpPr/>
          <p:nvPr/>
        </p:nvSpPr>
        <p:spPr>
          <a:xfrm>
            <a:off x="5410080" y="5791320"/>
            <a:ext cx="1067040" cy="60948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AutoShape 24"/>
          <p:cNvCxnSpPr>
            <a:stCxn id="132" idx="0"/>
          </p:cNvCxnSpPr>
          <p:nvPr/>
        </p:nvCxnSpPr>
        <p:spPr>
          <a:xfrm>
            <a:off x="1447560" y="5211360"/>
            <a:ext cx="10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AutoShape 25"/>
          <p:cNvCxnSpPr/>
          <p:nvPr/>
        </p:nvCxnSpPr>
        <p:spPr>
          <a:xfrm>
            <a:off x="685800" y="5562360"/>
            <a:ext cx="228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" name="AutoShape 26"/>
          <p:cNvCxnSpPr>
            <a:endCxn id="134" idx="0"/>
          </p:cNvCxnSpPr>
          <p:nvPr/>
        </p:nvCxnSpPr>
        <p:spPr>
          <a:xfrm>
            <a:off x="685440" y="55627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" name="AutoShape 27"/>
          <p:cNvCxnSpPr>
            <a:stCxn id="135" idx="0"/>
          </p:cNvCxnSpPr>
          <p:nvPr/>
        </p:nvCxnSpPr>
        <p:spPr>
          <a:xfrm flipV="1">
            <a:off x="2971440" y="55623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4" name="AutoShape 28"/>
          <p:cNvCxnSpPr>
            <a:stCxn id="137" idx="0"/>
          </p:cNvCxnSpPr>
          <p:nvPr/>
        </p:nvCxnSpPr>
        <p:spPr>
          <a:xfrm flipV="1">
            <a:off x="1828440" y="55623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5" name="AutoShape 30"/>
          <p:cNvCxnSpPr>
            <a:stCxn id="131" idx="0"/>
          </p:cNvCxnSpPr>
          <p:nvPr/>
        </p:nvCxnSpPr>
        <p:spPr>
          <a:xfrm>
            <a:off x="4571640" y="5211360"/>
            <a:ext cx="23076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6" name="AutoShape 31"/>
          <p:cNvCxnSpPr/>
          <p:nvPr/>
        </p:nvCxnSpPr>
        <p:spPr>
          <a:xfrm>
            <a:off x="4800600" y="5486040"/>
            <a:ext cx="228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7" name="AutoShape 32"/>
          <p:cNvCxnSpPr/>
          <p:nvPr/>
        </p:nvCxnSpPr>
        <p:spPr>
          <a:xfrm>
            <a:off x="4800240" y="54860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8" name="AutoShape 33"/>
          <p:cNvCxnSpPr/>
          <p:nvPr/>
        </p:nvCxnSpPr>
        <p:spPr>
          <a:xfrm flipV="1">
            <a:off x="7086240" y="54856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9" name="AutoShape 34"/>
          <p:cNvCxnSpPr/>
          <p:nvPr/>
        </p:nvCxnSpPr>
        <p:spPr>
          <a:xfrm flipV="1">
            <a:off x="5943240" y="54856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0" name="AutoShape 35"/>
          <p:cNvCxnSpPr>
            <a:stCxn id="129" idx="0"/>
            <a:endCxn id="132" idx="1"/>
          </p:cNvCxnSpPr>
          <p:nvPr/>
        </p:nvCxnSpPr>
        <p:spPr>
          <a:xfrm flipH="1">
            <a:off x="1447560" y="3600000"/>
            <a:ext cx="76248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36"/>
          <p:cNvCxnSpPr>
            <a:stCxn id="129" idx="1"/>
            <a:endCxn id="131" idx="1"/>
          </p:cNvCxnSpPr>
          <p:nvPr/>
        </p:nvCxnSpPr>
        <p:spPr>
          <a:xfrm>
            <a:off x="2209680" y="3600000"/>
            <a:ext cx="236304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37"/>
          <p:cNvCxnSpPr>
            <a:stCxn id="130" idx="0"/>
            <a:endCxn id="133" idx="0"/>
          </p:cNvCxnSpPr>
          <p:nvPr/>
        </p:nvCxnSpPr>
        <p:spPr>
          <a:xfrm>
            <a:off x="6933960" y="3600000"/>
            <a:ext cx="61020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38"/>
          <p:cNvCxnSpPr>
            <a:stCxn id="128" idx="0"/>
            <a:endCxn id="129" idx="2"/>
          </p:cNvCxnSpPr>
          <p:nvPr/>
        </p:nvCxnSpPr>
        <p:spPr>
          <a:xfrm flipH="1">
            <a:off x="2209320" y="2590560"/>
            <a:ext cx="23630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39"/>
          <p:cNvCxnSpPr>
            <a:stCxn id="128" idx="1"/>
            <a:endCxn id="130" idx="1"/>
          </p:cNvCxnSpPr>
          <p:nvPr/>
        </p:nvCxnSpPr>
        <p:spPr>
          <a:xfrm>
            <a:off x="4572000" y="2590560"/>
            <a:ext cx="23630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9C52-E9B3-4A98-A23F-7013E98C05B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0" y="895320"/>
            <a:ext cx="8534520" cy="60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Verzorgingsstaat = te duur!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Meer beroep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p sociale zekerheid dan verwacht: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- jaren 60: in 1e instantie voor gezinne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- eind 60:Vrouwen op arbeidsmarkt; ook recht op uitkering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Misbruik: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ijstandsgerechtigden die samenwoonde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e snel afgekeurd, wao-uitkering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Zwartwerken om premies te ontlope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r komen steeds meer ouderen =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vergrijzing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Oliecrisis (1973):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- werkloosheid steeg --&gt; aantal uitkeringen steeg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- premies stegen, kosten werkgevers hoog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dyn004_original_300_300_gif_3393_dff762f4410a90ec9f3116881b3b4adb"/>
          <p:cNvPicPr/>
          <p:nvPr/>
        </p:nvPicPr>
        <p:blipFill>
          <a:blip r:embed="rId1"/>
          <a:stretch/>
        </p:blipFill>
        <p:spPr>
          <a:xfrm>
            <a:off x="6705720" y="297180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9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6: Verzorgingsstaat onder druk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7F99-37C8-48C6-BEAD-472E4D1B0FA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atregelen aanbodzijde: minder arbeidskra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rbeidstijdverkoting (ATV) 40, 38 naar 36 u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rijwillig vervroegde uittreding (V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atregelen vraagzijde: meer werkgelegen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rsoneel goedkoper: belasting en premies omla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ubsidies ondernemers voor person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jecten starten en infrastructuur : arbeidsplaatsen cree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heid neemt producten af van bedrijfsl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 banen: laageschoolde en werklozen aan tijdelijke baan hel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6: Verzorgingsstaat onder druk:</a:t>
            </a:r>
            <a:br>
              <a:rPr sz="2800"/>
            </a:br>
            <a:br>
              <a:rPr sz="2800"/>
            </a:b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E34B-7DE7-436E-844C-831719E0904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6685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 kom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zuinigin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minder snel uitkering,minder snel arbeidsongeschikt, strengere regels bij ziekte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 (Werkloosheidswet) afhankelijk van hoe lang iemand heeft gewer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ende arbeid: werkloze moeten aangeboden baan eerder aann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O wordt WIA: strenger gekeurd, deels arbeids ongeschikt = wer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jstand: leeftijd van 18 naar 21 ja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haalsplicht: vb gemeente moet beijstand vrouw bij ex-man verha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e strenger: vb computer sociale dienst en belastingdienst vergele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ziening bezuinigd: eigen bijdrage verhoogd, minder zorg personeel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6: Verzorgingsstaat onder druk:</a:t>
            </a:r>
            <a:br>
              <a:rPr sz="2800"/>
            </a:b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Spe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ing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chrijf 9 begrippen op uit de lij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k beschrijf het begr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oorstrepen als je begrip is gewe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lles weg: BINGO! = prijs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099"/>
          <p:cNvPicPr/>
          <p:nvPr/>
        </p:nvPicPr>
        <p:blipFill>
          <a:blip r:embed="rId1"/>
          <a:stretch/>
        </p:blipFill>
        <p:spPr>
          <a:xfrm>
            <a:off x="6516720" y="3936960"/>
            <a:ext cx="207180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E0C5-412E-482A-AE7B-B694A390511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514240" y="16002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erzorgingsstaat ontst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begin 20e eeuw d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nemende bewustwording van de kosten van industrialis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schappelijk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nemen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vloed van 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ers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we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3"/>
          <p:cNvGraphicFramePr/>
          <p:nvPr/>
        </p:nvGraphicFramePr>
        <p:xfrm>
          <a:off x="5473800" y="3429000"/>
          <a:ext cx="3670200" cy="337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73800" y="3429000"/>
                    <a:ext cx="3670200" cy="33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195640" y="0"/>
            <a:ext cx="489744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4: van nachtswakersstaat tot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Rechthoek 4" descr=""/>
          <p:cNvPicPr/>
          <p:nvPr/>
        </p:nvPicPr>
        <p:blipFill>
          <a:blip r:embed="rId1"/>
          <a:stretch/>
        </p:blipFill>
        <p:spPr>
          <a:xfrm>
            <a:off x="1444680" y="165240"/>
            <a:ext cx="5400720" cy="19746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http://www.cov-oostvlaanderen.be/images/zijn%20er%20nog%20vragen.jpg"/>
          <p:cNvPicPr/>
          <p:nvPr/>
        </p:nvPicPr>
        <p:blipFill>
          <a:blip r:embed="rId2"/>
          <a:stretch/>
        </p:blipFill>
        <p:spPr>
          <a:xfrm>
            <a:off x="1928880" y="2214720"/>
            <a:ext cx="45338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F15B-0E43-41F2-A4E2-A1B633AA757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133720" y="1371600"/>
            <a:ext cx="72388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854: armen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886: sociale quaestie;parlementaire enqu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889: ontstaan arbeidsinspectie en kinderwetje   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van Van Houten (1874) effect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895/1914: industrialis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00: leerplicht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01: ongevallenwet (begin verzorgingss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43: commissie-Van R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52: werkloosheidsverzek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56: Algemene ouderdoms 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65: algemene bijstands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67: wet op de </a:t>
            </a: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arbeidsongeschiktheidsverzeke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76: arbeidsongeschiktheids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2339640" y="-36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4: van nachtswakersstaat tot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75D9-43C2-43D4-A799-6A67F0BC63A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2133720" y="1523880"/>
            <a:ext cx="685800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evereiniteit in eigen kring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protestants-christelijke opvattin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maatschappelijke groepen binn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eigen kring moeten voor elkaar zorgen.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overheid niet mee bemoei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ubsidariteitsbeginsel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katholieke opvattin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financiering armenzorg door overheid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wel geaccepteerd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zodra burgers zelf initiatieven toonden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overheid terugtrekk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4: van nachtswakersstaat tot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8D63-AF72-40E7-8DC0-626472E92CA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 u="sng">
                <a:solidFill>
                  <a:srgbClr val="000000"/>
                </a:solidFill>
                <a:uFillTx/>
                <a:latin typeface="Arial"/>
              </a:rPr>
              <a:t>§4: van nachtwakersstaat tot verzorgingssta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58560" y="1412640"/>
            <a:ext cx="7010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emocratische driehoe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Staat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overhe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tten en re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Civil society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Mark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burgermaatschappij)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econom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ekenisvolle structur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el 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vig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3132000" y="2781360"/>
            <a:ext cx="2743200" cy="25146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50920" y="170028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Sociaal democratisch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6912000" y="4581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Liberaa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0" y="422100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Christen democratisch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6D42-4402-4B89-B551-F8A922E3227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39640" y="274320"/>
            <a:ext cx="474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derland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en totale gelijkhei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en totale vrijhei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en weg, belangrijke waa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ulier initiat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atschappelijke harmo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arit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gengaan sociale ongelijk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rije ondernemingsgewijze produ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920E-6E3D-4957-BCC0-B90F21DD9A1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5122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Sociale Zekerhe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t er (sinds jaren 60) voor dat niemand onder het SOCIAAL MINIMUM hoeft te l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zamelterm voor voorzieningen en verzekering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mmige zijn wettelijk verplicht en algemeen geldend of voor een bepaalde groep, andere zijn op vrijwillige bas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2124000" y="404640"/>
            <a:ext cx="474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37DA-8CD0-4595-90C4-CE76192B2FF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3"/>
          <p:cNvGraphicFramePr/>
          <p:nvPr/>
        </p:nvGraphicFramePr>
        <p:xfrm>
          <a:off x="179280" y="1341360"/>
          <a:ext cx="8604360" cy="468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341360"/>
                    <a:ext cx="860436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cls</cp:lastModifiedBy>
  <dcterms:modified xsi:type="dcterms:W3CDTF">2013-03-08T12:14:44Z</dcterms:modified>
  <cp:revision>63</cp:revision>
  <dc:subject/>
  <dc:title>Dia 1</dc:title>
</cp:coreProperties>
</file>