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96B-B074-47F7-8250-AD51D8A0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F39-B59D-483C-8379-A7D19940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BEF-4F77-4A75-AB17-0B0355AF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242-DC58-420C-ACB6-1A4F3ABF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AA3-F8B8-4054-A7A6-6661FEE5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411-8820-4954-A26D-62989DB8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C05-4F53-4780-9629-BD7C0421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30E-4273-4A61-90D5-B4D54306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628-5685-47DF-A142-B58A123F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B5E-DA62-453A-AA2A-BD503AA1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499-F1B7-4671-9367-0C61CE57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CD1-B24F-423A-8A73-277F429F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2388-EC72-41D9-B467-57DC60EECB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186D-4BF2-4E6B-886F-8EECA243D65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C34A-68D8-47D9-A3F9-E4375678C9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1193-835A-4AF4-8EEB-5D1F0F3F0B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0" r="70754" b="15652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-1549440" y="-243000"/>
            <a:ext cx="855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§ 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24AD-0255-45FD-91E8-B5D31C65EE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50920" y="981000"/>
            <a:ext cx="828036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pening: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nlastenlegging: 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nderzoek: 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. Persoonlijke omstandigh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judge"/>
          <p:cNvPicPr/>
          <p:nvPr/>
        </p:nvPicPr>
        <p:blipFill>
          <a:blip r:embed="rId2"/>
          <a:stretch/>
        </p:blipFill>
        <p:spPr>
          <a:xfrm>
            <a:off x="7286760" y="62064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D263-8DE1-4AD9-BAE2-5918A4965A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4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0920" y="170028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Requisitoir: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Pleidooi: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Laatste woord: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, onschuld benadrukken, schade door straf uitleg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Vonnis: De rechter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47628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ail"/>
          <p:cNvPicPr/>
          <p:nvPr/>
        </p:nvPicPr>
        <p:blipFill>
          <a:blip r:embed="rId3"/>
          <a:stretch/>
        </p:blipFill>
        <p:spPr>
          <a:xfrm>
            <a:off x="0" y="54936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E51F-047A-431B-BB88-8E173F441D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49CB-B436-4413-A20C-D3CAD9E044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6170-8939-4E0A-8EEE-B97AA92FAD9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69228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68360" y="1989000"/>
            <a:ext cx="8494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Vrijheidsstraf (zoals gevangenisstraf/hechtenis}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68360" y="3141720"/>
            <a:ext cx="7848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, straatverbod, geen bevoegdheid meer, etc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95280" y="4292640"/>
            <a:ext cx="7993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ontneming wederrechtelijk voordeel, schadevergoed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police"/>
          <p:cNvPicPr/>
          <p:nvPr/>
        </p:nvPicPr>
        <p:blipFill>
          <a:blip r:embed="rId1"/>
          <a:stretch/>
        </p:blipFill>
        <p:spPr>
          <a:xfrm>
            <a:off x="7524720" y="1484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A42D-B087-4148-8665-365196B0A93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41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rafrecht voor minderjari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8360" y="198900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en &gt; 12 jaar &lt; 18 jaar.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68360" y="34290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rechter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jeugdgevangenis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5280" y="4221000"/>
            <a:ext cx="799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Bij stoorniss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behandelcentra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police"/>
          <p:cNvPicPr/>
          <p:nvPr/>
        </p:nvPicPr>
        <p:blipFill>
          <a:blip r:embed="rId1"/>
          <a:stretch/>
        </p:blipFill>
        <p:spPr>
          <a:xfrm>
            <a:off x="6516720" y="1700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468360" y="270828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ALT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het alternatief: taakstraf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51:52Z</dcterms:modified>
  <cp:revision>156</cp:revision>
  <dc:subject/>
  <dc:title>Dia 1</dc:title>
</cp:coreProperties>
</file>