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6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649E-4947-40A6-BBAD-B34878DF12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0DB-F15E-495E-AF31-3F96E155B6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2E1-EAFB-4EE8-962F-6D1CF27E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E03-8347-49FD-A4D9-22E1615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64F-04D1-42C4-92DF-AF2C1D1A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57D-33DA-48EA-8D1B-594759CC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FE8-9836-4549-A2B5-2CB9DBA6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C79-272B-4469-A467-A4E5D239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480-DC1E-4FB0-BFAF-1A5AC8BE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B91-3A5E-49E1-85EA-BC4B9AD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61B-E40B-4D56-B1FA-964846E9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8FB-2F90-4465-9850-555222F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2BE-661A-4047-9672-D5A5DAE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060-98DF-4DF9-86F7-F779737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1068-D837-4EC9-8F23-75DDD18867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92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rech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(materi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 belangrijkste wetten in Nederland staan hier in (buiten de grondwet d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Wat de strafbare feiten zijn en welke straffen ervoor kunnen uitgesprok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Strafbare feiten omschrev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Zoals: moord, diefstal, oplichting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Wetboek van strafvordering: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formeel strafrech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paalt hoe strafbare feiten vervolgd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behandelt de hele procedure van aanhouding t/m de strafoplegging door de rech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eze twee wetboeken vormen de basis van het Nederlandse strafrec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F0A-7D77-4430-BFB1-BBDECC8143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8DC6-B89A-4E35-BA19-69E9E661C8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63640" y="220500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jail"/>
          <p:cNvPicPr/>
          <p:nvPr/>
        </p:nvPicPr>
        <p:blipFill>
          <a:blip r:embed="rId3"/>
          <a:stretch/>
        </p:blipFill>
        <p:spPr>
          <a:xfrm>
            <a:off x="0" y="1052640"/>
            <a:ext cx="1486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17982" t="12065" r="17265" b="4859"/>
          <a:stretch/>
        </p:blipFill>
        <p:spPr>
          <a:xfrm>
            <a:off x="324000" y="47628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: Strafrecht: De opsp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C6D4-CEB8-4ACC-9E5F-A65C59072C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4 straftecht: De opsporing</a:t>
            </a: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 Zwaardere straf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minder zware stra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(Crimineel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-overtreder/ of nie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FE3C-233E-4C8E-952C-AE34ED9F67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73BB-08C8-4A36-B733-00B264ABF3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81080" y="1125360"/>
            <a:ext cx="849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procedur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tap 1: de politie verzamelt inform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 dwangmiddelen gebruik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55640" y="378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aande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ten stilstaan, id vragen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00000" y="5589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beslage nam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wijsmateriaal innem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755640" y="42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00000" y="6021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ast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t op: de tijd tussen 00.00 middernacht en 09.00 uur ‘s ochtends wordt hierbij niet meegerekend. In de nachtelijke uren mag je overigens wel door de politie worden verho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433-6B64-4F8F-AAAF-6B88F52C81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30002" t="11412" r="2498" b="26629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2DCB-0843-4E38-9055-D8BCEAC8D6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-181080" y="11253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wangmiddelen met toestemm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95280" y="306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vragen gegevens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telefoontabs, creditcard gebruik, etc alleen met toestemming van OV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5280" y="551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filtr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t toestemming van rechter-commissaris infiltreren in misdaad organisaties. (uitlokken mag niet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16286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: een machtiging tot binnentreding va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politie"/>
          <p:cNvPicPr/>
          <p:nvPr/>
        </p:nvPicPr>
        <p:blipFill>
          <a:blip r:embed="rId1"/>
          <a:stretch/>
        </p:blipFill>
        <p:spPr>
          <a:xfrm>
            <a:off x="7596360" y="1628640"/>
            <a:ext cx="1349280" cy="16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395280" y="422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In voorarrest houd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a de aanhouding langer vasthouden. Toestemming OvJ en rechter-commissar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DCD0-3919-41D3-9A48-34C24AD0E3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9543" t="32465" r="29119" b="36049"/>
          <a:stretch/>
        </p:blipFill>
        <p:spPr>
          <a:xfrm>
            <a:off x="684360" y="1268280"/>
            <a:ext cx="360036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5219640" y="1268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395280" y="3379680"/>
            <a:ext cx="8424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2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politie geeft het proces verbaal aan de Officier van Justiti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ze gaat de zaak verder onderzoeken in het opsporingsonderzoe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Hij heeft 3 keuzes, maar besluit dat Pieter voor de rechter moet kom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Stap 3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: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 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e rechter beslist wat er met Pieter gebeur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B12-4DEC-4327-AA42-9511C43032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/transac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21BF-6960-4D5E-A451-6568DCFAB9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§ 4: Strafrecht de opspo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"/>
          <p:cNvGraphicFramePr/>
          <p:nvPr/>
        </p:nvGraphicFramePr>
        <p:xfrm>
          <a:off x="179280" y="1989000"/>
          <a:ext cx="8815320" cy="39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815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Beheerder</cp:lastModifiedBy>
  <dcterms:modified xsi:type="dcterms:W3CDTF">2013-04-15T19:43:35Z</dcterms:modified>
  <cp:revision>160</cp:revision>
  <dc:subject/>
  <dc:title>Dia 1</dc:title>
</cp:coreProperties>
</file>