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9CC-DB12-46D2-A8F5-79C20ECD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F54-7862-4EFD-880C-82BAA2FE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446-EC15-4312-A986-D588F70D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E39-5331-4C78-9CC1-0670CF0D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3D0-FB37-4C9C-ADC3-6564041B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D10-6EF3-4B8E-9172-6F3815D1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CFF-81D5-4A65-A493-E0F59A0B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0CE-0B60-4B6D-8C5D-44FF62D2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2DF-9AFF-4BB8-B9A6-F0B9CF12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BC8-0C13-4543-8C56-32388044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528-BA61-46CD-A22B-56363C85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B70-EE61-41DF-9A7D-D200E967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C7D6-3C42-4778-A41F-A0D68BAE02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bfZcl-UQE0&amp;feature=related" TargetMode="External"/><Relationship Id="rId2" Type="http://schemas.openxmlformats.org/officeDocument/2006/relationships/hyperlink" Target="http://www.youtube.com/watch?v=2bfZcl-UQE0&amp;feature=related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bfZcl-UQE0&amp;feature=related" TargetMode="External"/><Relationship Id="rId2" Type="http://schemas.openxmlformats.org/officeDocument/2006/relationships/hyperlink" Target="http://www.youtube.com/watch?v=2bfZcl-UQE0&amp;feature=related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67FE-514B-41AE-B9C2-E7E265279C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5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19194d"/>
                </a:solidFill>
                <a:latin typeface="Arial"/>
              </a:rPr>
              <a:t>  </a:t>
            </a:r>
            <a:r>
              <a:rPr b="1" lang="nl-NL" sz="3000" spc="-1" strike="noStrike">
                <a:solidFill>
                  <a:srgbClr val="19194d"/>
                </a:solidFill>
                <a:latin typeface="Arial"/>
              </a:rPr>
              <a:t>Sociale verzekeringen. </a:t>
            </a:r>
            <a:r>
              <a:rPr b="0" lang="nl-NL" sz="3000" spc="-1" strike="noStrike">
                <a:solidFill>
                  <a:srgbClr val="19194d"/>
                </a:solidFill>
                <a:latin typeface="Arial"/>
              </a:rPr>
              <a:t> De sociale verzekeringen zijn verplicht en er zijn 2 soorten de werknemers verzekering en de volks verzekering. </a:t>
            </a:r>
            <a:br>
              <a:rPr sz="2400"/>
            </a:b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                      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2bfZcl-UQE0&amp;feature=related</a:t>
            </a:r>
            <a:r>
              <a:rPr b="0" lang="nl-NL" sz="12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21ED-BE18-4EA2-95AE-E1A7ADAF05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sociale zekerheid gereg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ij"/>
          <p:cNvPicPr/>
          <p:nvPr/>
        </p:nvPicPr>
        <p:blipFill>
          <a:blip r:embed="rId1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ULBZ: Als je ziek wordt. 2 jaar lang 70% van je loon krij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19194d"/>
                </a:solidFill>
                <a:latin typeface="Arial"/>
              </a:rPr>
              <a:t>Werknemersverzekeringen.  </a:t>
            </a:r>
            <a:r>
              <a:rPr b="0" lang="nl-NL" sz="3600" spc="-1" strike="noStrike">
                <a:solidFill>
                  <a:srgbClr val="19194d"/>
                </a:solidFill>
                <a:latin typeface="Arial"/>
              </a:rPr>
              <a:t>Is voor mensen met loondienst. De premie die je moet betalen , hangt af van je loon en wordt ook van je salaris afgetrokk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19194d"/>
                </a:solidFill>
                <a:latin typeface="Arial"/>
              </a:rPr>
              <a:t>Volksverzekeringen</a:t>
            </a:r>
            <a:r>
              <a:rPr b="0" lang="nl-NL" sz="3600" spc="-1" strike="noStrike">
                <a:solidFill>
                  <a:srgbClr val="19194d"/>
                </a:solidFill>
                <a:latin typeface="Arial"/>
              </a:rPr>
              <a:t>: gelden voor iedereen!!!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                      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2bfZcl-UQE0&amp;feature=related</a:t>
            </a:r>
            <a:r>
              <a:rPr b="0" lang="nl-NL" sz="12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BDC6-0680-48AA-AC9B-D0B85CC355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8207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ontslag"/>
          <p:cNvPicPr/>
          <p:nvPr/>
        </p:nvPicPr>
        <p:blipFill>
          <a:blip r:embed="rId1"/>
          <a:stretch/>
        </p:blipFill>
        <p:spPr>
          <a:xfrm>
            <a:off x="6019920" y="2971800"/>
            <a:ext cx="2790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1D84-92E7-4A32-89D0-4025D0C452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hthoek 9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5553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w -&gt; werkloosheid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ulbz -&gt; wet uitkering loondoorbetaling bij 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Zw -&gt; Ziekte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ia -&gt; wet werk en inkomen naar arbeidsverm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hthoek 9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5553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Wel als je minsten 26 uur van de 36 gewerkt he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3 jaar &amp; 2 maanden gebruik maken van deze w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Als je ontslagen wordt door je baas, krijg je van de overheid een WW (werkeloosheidswet). De eerste twee maanden 75% van je laatst verdiende loon en daarna 7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Als je zelf ontslag neemt krijg je geen W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hthoek 6" descr=""/>
          <p:cNvPicPr/>
          <p:nvPr/>
        </p:nvPicPr>
        <p:blipFill>
          <a:blip r:embed="rId1"/>
          <a:stretch/>
        </p:blipFill>
        <p:spPr>
          <a:xfrm>
            <a:off x="1401840" y="255600"/>
            <a:ext cx="63831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erkgever die gedurende 2 jaar loon betaald aan werkg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Bepaalde situaties niet, die behoren bij ziektew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Na twee jaar kom je bij de WIA. Je krijgt dan 70% van je laatst verdiende l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hthoek 6" descr=""/>
          <p:cNvPicPr/>
          <p:nvPr/>
        </p:nvPicPr>
        <p:blipFill>
          <a:blip r:embed="rId1"/>
          <a:stretch/>
        </p:blipFill>
        <p:spPr>
          <a:xfrm>
            <a:off x="2919240" y="384120"/>
            <a:ext cx="38959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412640"/>
            <a:ext cx="78343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Niet iedereen heeft recht op een doorbetaalde WULBZ </a:t>
            </a:r>
            <a:r>
              <a:rPr b="0" lang="nl-NL" sz="3200" spc="-1" strike="noStrike">
                <a:solidFill>
                  <a:srgbClr val="19194d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 Dan z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Als je een WW hebt krijg je een lagere Z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Geen recht op WULBZ 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tijdelijk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zwangere werkneem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musici arti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uitzendkr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mensen met een WW uit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krijgen vaak lagere ZW uitk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hthoek 7" descr=""/>
          <p:cNvPicPr/>
          <p:nvPr/>
        </p:nvPicPr>
        <p:blipFill>
          <a:blip r:embed="rId1"/>
          <a:stretch/>
        </p:blipFill>
        <p:spPr>
          <a:xfrm>
            <a:off x="2279520" y="255600"/>
            <a:ext cx="50482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56D8-ED3C-4570-B833-E59614C483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elf niet kunnen voor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 kerk en van ‘giften’ van rij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191592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et inkomen naar arbeidsverle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Arbeidsongeschik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Langer dan 2 jaar zi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Hoor je niet bij WULB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Heb je uitkering van W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Kan deels worden toegewezen (voorbeeld 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hthoek 6" descr=""/>
          <p:cNvPicPr/>
          <p:nvPr/>
        </p:nvPicPr>
        <p:blipFill>
          <a:blip r:embed="rId1"/>
          <a:stretch/>
        </p:blipFill>
        <p:spPr>
          <a:xfrm>
            <a:off x="3114720" y="401760"/>
            <a:ext cx="298764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4986-F9D2-48E2-90F7-A3CA1F2501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2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5"/>
          <p:cNvSpPr/>
          <p:nvPr/>
        </p:nvSpPr>
        <p:spPr>
          <a:xfrm>
            <a:off x="1692360" y="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CF11-B556-440F-A072-DBA34E442F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6A25-307B-45DA-A2CE-774BFCC566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603E-EB45-4F4F-822E-2D5A6F418F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rcRect l="3543" t="34699" r="61612" b="19529"/>
          <a:stretch/>
        </p:blipFill>
        <p:spPr>
          <a:xfrm>
            <a:off x="1763640" y="476280"/>
            <a:ext cx="5688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0093-5269-41F7-A76F-4A24B4335B6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876240" y="1295280"/>
            <a:ext cx="7391520" cy="1295640"/>
          </a:xfrm>
          <a:prstGeom prst="downArrowCallout">
            <a:avLst>
              <a:gd name="adj1" fmla="val 48760"/>
              <a:gd name="adj2" fmla="val 143600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72428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3124080" y="4038480"/>
            <a:ext cx="2895840" cy="1173240"/>
          </a:xfrm>
          <a:prstGeom prst="downArrowCallout">
            <a:avLst>
              <a:gd name="adj1" fmla="val 21096"/>
              <a:gd name="adj2" fmla="val 6212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"/>
          <p:cNvSpPr/>
          <p:nvPr/>
        </p:nvSpPr>
        <p:spPr>
          <a:xfrm>
            <a:off x="0" y="4038480"/>
            <a:ext cx="2895480" cy="1173240"/>
          </a:xfrm>
          <a:prstGeom prst="downArrowCallout">
            <a:avLst>
              <a:gd name="adj1" fmla="val 21094"/>
              <a:gd name="adj2" fmla="val 62121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6172200" y="4038480"/>
            <a:ext cx="2743200" cy="76212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52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9"/>
          <p:cNvSpPr/>
          <p:nvPr/>
        </p:nvSpPr>
        <p:spPr>
          <a:xfrm>
            <a:off x="2438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4267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1295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6553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5410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24"/>
          <p:cNvCxnSpPr>
            <a:stCxn id="132" idx="0"/>
          </p:cNvCxnSpPr>
          <p:nvPr/>
        </p:nvCxnSpPr>
        <p:spPr>
          <a:xfrm>
            <a:off x="1447560" y="521136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25"/>
          <p:cNvCxnSpPr/>
          <p:nvPr/>
        </p:nvCxnSpPr>
        <p:spPr>
          <a:xfrm>
            <a:off x="685800" y="556236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26"/>
          <p:cNvCxnSpPr>
            <a:endCxn id="134" idx="0"/>
          </p:cNvCxnSpPr>
          <p:nvPr/>
        </p:nvCxnSpPr>
        <p:spPr>
          <a:xfrm>
            <a:off x="685440" y="5562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27"/>
          <p:cNvCxnSpPr>
            <a:stCxn id="135" idx="0"/>
          </p:cNvCxnSpPr>
          <p:nvPr/>
        </p:nvCxnSpPr>
        <p:spPr>
          <a:xfrm flipV="1">
            <a:off x="2971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28"/>
          <p:cNvCxnSpPr>
            <a:stCxn id="137" idx="0"/>
          </p:cNvCxnSpPr>
          <p:nvPr/>
        </p:nvCxnSpPr>
        <p:spPr>
          <a:xfrm flipV="1">
            <a:off x="1828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30"/>
          <p:cNvCxnSpPr>
            <a:stCxn id="131" idx="0"/>
          </p:cNvCxnSpPr>
          <p:nvPr/>
        </p:nvCxnSpPr>
        <p:spPr>
          <a:xfrm>
            <a:off x="4571640" y="5211360"/>
            <a:ext cx="2307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AutoShape 31"/>
          <p:cNvCxnSpPr/>
          <p:nvPr/>
        </p:nvCxnSpPr>
        <p:spPr>
          <a:xfrm>
            <a:off x="4800600" y="548604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AutoShape 32"/>
          <p:cNvCxnSpPr/>
          <p:nvPr/>
        </p:nvCxnSpPr>
        <p:spPr>
          <a:xfrm>
            <a:off x="4800240" y="5486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AutoShape 33"/>
          <p:cNvCxnSpPr/>
          <p:nvPr/>
        </p:nvCxnSpPr>
        <p:spPr>
          <a:xfrm flipV="1">
            <a:off x="7086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AutoShape 34"/>
          <p:cNvCxnSpPr/>
          <p:nvPr/>
        </p:nvCxnSpPr>
        <p:spPr>
          <a:xfrm flipV="1">
            <a:off x="5943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AutoShape 35"/>
          <p:cNvCxnSpPr>
            <a:stCxn id="129" idx="0"/>
            <a:endCxn id="132" idx="1"/>
          </p:cNvCxnSpPr>
          <p:nvPr/>
        </p:nvCxnSpPr>
        <p:spPr>
          <a:xfrm flipH="1">
            <a:off x="1447560" y="3600000"/>
            <a:ext cx="7624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36"/>
          <p:cNvCxnSpPr>
            <a:stCxn id="129" idx="1"/>
            <a:endCxn id="131" idx="1"/>
          </p:cNvCxnSpPr>
          <p:nvPr/>
        </p:nvCxnSpPr>
        <p:spPr>
          <a:xfrm>
            <a:off x="2209680" y="3600000"/>
            <a:ext cx="23630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37"/>
          <p:cNvCxnSpPr>
            <a:stCxn id="130" idx="0"/>
            <a:endCxn id="133" idx="0"/>
          </p:cNvCxnSpPr>
          <p:nvPr/>
        </p:nvCxnSpPr>
        <p:spPr>
          <a:xfrm>
            <a:off x="6933960" y="3600000"/>
            <a:ext cx="61020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38"/>
          <p:cNvCxnSpPr>
            <a:stCxn id="128" idx="0"/>
            <a:endCxn id="129" idx="2"/>
          </p:cNvCxnSpPr>
          <p:nvPr/>
        </p:nvCxnSpPr>
        <p:spPr>
          <a:xfrm flipH="1">
            <a:off x="220932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39"/>
          <p:cNvCxnSpPr>
            <a:stCxn id="128" idx="1"/>
            <a:endCxn id="130" idx="1"/>
          </p:cNvCxnSpPr>
          <p:nvPr/>
        </p:nvCxnSpPr>
        <p:spPr>
          <a:xfrm>
            <a:off x="457200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D814-7376-48DD-99F2-28147E618D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0" y="895320"/>
            <a:ext cx="853452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gsstaat = te duur!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eer beroep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 sociale zekerheid dan verwacht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aren 60: in 1e instantie voor gezinn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eind 60:Vrouwen op arbeidsmarkt; ook recht op uitker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isbruik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standsgerechtigden die samenwoond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 snel afgekeurd, wao-uitker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wartwerken om premies te ontlop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liecrisis (1973)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werkloosheid steeg --&gt; aantal uitkeringen stee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premies stegen, kosten werkgevers hoo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dyn004_original_300_300_gif_3393_dff762f4410a90ec9f3116881b3b4adb"/>
          <p:cNvPicPr/>
          <p:nvPr/>
        </p:nvPicPr>
        <p:blipFill>
          <a:blip r:embed="rId1"/>
          <a:stretch/>
        </p:blipFill>
        <p:spPr>
          <a:xfrm>
            <a:off x="6705720" y="2971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6A0E-FDD4-49CB-B1F7-975146B78E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aanbodzijde: minder arbeidskra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beidstijdverkoting (ATV) 40, 38 naar 36 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rijwillig vervroegde uittreding (V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vraagzijde: meer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eel goedkoper: belasting en premies om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sidies ondernemers voor person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jecten starten en infrastructuur : arbeidsplaatsen cre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heid neemt producten af van bedrijfs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banen: laageschoolde en werklozen aan tijdelijke baan hel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932C-B76C-41D3-B1B6-178FC99FDB3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 (Werkloosheidswet) afhankelijk van hoe lang iemand heeft 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de arbeid: werkloze moeten aangeboden baan eerder aan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O wordt WIA: strenger gekeurd, deels arbeids ongeschikt =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stand: leeftijd van 18 naar 21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haalsplicht: vb gemeente moet beijstand vrouw bij ex-man verh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strenger: vb computer sociale dienst en belastingdienst vergel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 bezuinigd: eigen bijdrage verhoogd, minder zorg personee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p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ng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rijf 9 begrippen op uit de lij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k beschrijf het beg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oorstrepen als je begrip is gewe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s weg: BINGO! = prij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099"/>
          <p:cNvPicPr/>
          <p:nvPr/>
        </p:nvPicPr>
        <p:blipFill>
          <a:blip r:embed="rId1"/>
          <a:stretch/>
        </p:blipFill>
        <p:spPr>
          <a:xfrm>
            <a:off x="6516720" y="3936960"/>
            <a:ext cx="2071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3B84-F367-4B4F-9B1F-01AC8A04D3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zorgingsstaat ontst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gin 20e eeuw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er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5473800" y="3429000"/>
          <a:ext cx="3670200" cy="33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3429000"/>
                    <a:ext cx="36702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195640" y="0"/>
            <a:ext cx="4897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hthoek 4" descr=""/>
          <p:cNvPicPr/>
          <p:nvPr/>
        </p:nvPicPr>
        <p:blipFill>
          <a:blip r:embed="rId1"/>
          <a:stretch/>
        </p:blipFill>
        <p:spPr>
          <a:xfrm>
            <a:off x="1444680" y="165240"/>
            <a:ext cx="5400720" cy="1974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http://www.cov-oostvlaanderen.be/images/zijn%20er%20nog%20vragen.jpg"/>
          <p:cNvPicPr/>
          <p:nvPr/>
        </p:nvPicPr>
        <p:blipFill>
          <a:blip r:embed="rId2"/>
          <a:stretch/>
        </p:blipFill>
        <p:spPr>
          <a:xfrm>
            <a:off x="1928880" y="2214720"/>
            <a:ext cx="45338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F600-8D71-4106-A56A-23E6A56C67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33720" y="137160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9: ontstaan arbeidsinspectie en kinderwetje   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van Van Houten (1874) eff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1: ongevallenwet (begin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E0D8-74DA-40D0-8821-0D64906E41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133720" y="1523880"/>
            <a:ext cx="68580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evereiniteit in eigen kring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rotestants-christelijke opvatt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atschappelijke groepen bi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eigen kring moeten voor elkaar zorgen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verheid niet mee bemoei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bsidariteitsbeginse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katholieke opvatt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inanciering armenzorg door overhei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wel geaccepteer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zodra burgers zelf initiatieven toond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overheid terugtrekk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EC5E-79AA-4CB5-B856-0AD596CF9C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§4: van nachtwakersstaat tot verzorgingssta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mocratische drieho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taa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over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n en 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ivil society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urgermaatschappij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conom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kenisvolle structur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132000" y="2781360"/>
            <a:ext cx="2743200" cy="2514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20" y="1700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ociaal democratis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912000" y="45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0" y="4221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hristen democratis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BF4F-1B78-4703-AFDD-5395C901FA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gelijkhei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vrijhei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en weg, belangrijke 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ier initiat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schappelijke harmo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ar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gengaan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ije ondernemingsgewijze pro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58F2-2D62-4F2E-B5B2-BDDCA59334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Sociale Zeker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124000" y="40464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83AC-E3C4-47AC-813C-5B5C3031B9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13-03-08T12:14:44Z</dcterms:modified>
  <cp:revision>63</cp:revision>
  <dc:subject/>
  <dc:title>Dia 1</dc:title>
</cp:coreProperties>
</file>