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13.png" ContentType="image/png"/>
  <Override PartName="/ppt/media/image33.jpeg" ContentType="image/jpeg"/>
  <Override PartName="/ppt/media/image45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11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8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19.jpeg" ContentType="image/jpeg"/>
  <Override PartName="/ppt/media/image25.png" ContentType="image/pn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0B40-64E0-4C66-A68A-0C82AA0A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DBE-B37C-40DC-AD53-41E89FE1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CBB-4F59-477A-9FD6-A99B0C14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B03-55AB-4C3D-9CD8-EA4E1F29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12B-4BA8-49D0-ABF9-1BAA218C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9564-5A1B-4E63-8493-EC069DA7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B1E-DA26-4218-A9D5-CE7A4836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840-CF65-4F38-97E7-9B721D4A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70B-D703-41D6-B5B9-C1A34325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DD1-5D09-4567-82B2-1AD58B2B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0CE-7AD5-4F8C-AFB3-DCB907C8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1A0-810E-4C69-901C-E998D49A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0E03-9918-4531-A893-106FCD87AC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32.jpeg"/><Relationship Id="rId7" Type="http://schemas.openxmlformats.org/officeDocument/2006/relationships/image" Target="../media/image20.pn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D61F-06A4-4BDB-9BFD-FD7B7708F3F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vatting H 1 +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xamen_vak_succes_met_maatschappijleer"/>
          <p:cNvPicPr/>
          <p:nvPr/>
        </p:nvPicPr>
        <p:blipFill>
          <a:blip r:embed="rId1"/>
          <a:stretch/>
        </p:blipFill>
        <p:spPr>
          <a:xfrm>
            <a:off x="1116000" y="1773360"/>
            <a:ext cx="71280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2424-FBC9-4D5F-9169-2A91C0E4170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78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olitiek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t maken van keuzes zodat een land, een provincie of een gemeente kan worden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vloe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worden van politieke part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oek indienen (bvb bij gemeentera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bena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luiten bij actie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waarschrift schrijven (rech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rgelijke ongehoorzaamheid (kerk zet geen asielzoekers 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9550-353B-47A7-80E6-F1617F51D0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ctatuu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uba (Fidel Castro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e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1 persoon/groep/familie/partij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olksvertegenwoordi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tairen aan de m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oversgestelde van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geldt 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met basis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raude bij verkiez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heime/vrije verkiez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en gelijke rech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lijke rechten voor iede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onderdru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recht op 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ensuu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ers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iet je mening ui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rijheid van menings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nipulatie/indoctrinati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Indirecte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nderda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ooit een rechtsstaa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ers niet onafhank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rias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Heerst veel ang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leven in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755640" y="11592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E1D0-9AFB-4D22-AD29-5633D1124F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052640"/>
            <a:ext cx="8280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Alle 18+ inwoners met NL paspoort kunnen d.m.v. algemeen kiesrecht invloed uitoefenen op de 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Aantal grondrechten is gewaarborgd om in vrijheid invloed te kunnen uitoefen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urgers moeten hun eigen leven kunnen inri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C118-C281-4897-B1DF-ED2FDC8DE5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611280" y="18900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kunnen rechtstreeks meepraten en beslisse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stemmen op vertegenwoordigers die hun belangen behartigen in de politieke besluitvorm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hebben de meeste landen in de werel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464F-9DA5-4069-BDD8-003E0BCB00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gelmatige verkiezingen (geheime stem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alleen een onafhankelijke rechter mag publicaties of uitzendingen verbi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chtenscheid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triaspoli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11280" y="18900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87A2-9304-4CA0-ABE8-051DC6C484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00" y="274680"/>
            <a:ext cx="53280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ijkheid/ gelijkwaard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16360" y="1268280"/>
            <a:ext cx="4032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sieve overheid/ beperkte rol voor de staa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684360" y="5589720"/>
            <a:ext cx="7707240" cy="1095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276720" y="5661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5EA6-D839-42E8-946D-1887A02F40E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374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7494" t="0" r="0" b="0"/>
          <a:stretch/>
        </p:blipFill>
        <p:spPr>
          <a:xfrm>
            <a:off x="4140360" y="1484280"/>
            <a:ext cx="475272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CA05-DCA6-42A8-A626-BFF93483AF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476360" y="1557360"/>
            <a:ext cx="56707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wikkeling van het individu staat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op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dividu is verantwoordelijk vo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richten van zijn lev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heidsbemoeienis moet hierbij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imaal zij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7640" y="274680"/>
            <a:ext cx="7417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1D61-F70E-4488-A9BA-6736D2E237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isme / Sociaal-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eerlijke samenleving met gelijke k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3276720" y="51577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6DC7-322B-4DC7-B8FF-7F3BF4AFB7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ession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litieke opvattinge gebasseerd op geloofsovertu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tmeesterschap: als mens goed voor de aarde z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ide verantwoordelijkheid: ‘zorgzame samenlev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 middenveld: overheid aanvullende rol, de rest overlaten aan bvb welzijnsinstellingen en schoolbestu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3348000" y="5157720"/>
            <a:ext cx="18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276720" y="4941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7FDE-8EE2-4336-8D2F-0536E75B4B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Deze macht is officieel vastgelegd in wetten en regels (gez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Voorbeeld: de burgemeester verbied een boetbalwedstrij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In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Macht die niet officieel is vastgelegd (inv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Vb: ‘regels’ die binnen je vriendengroep ge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237F-B10B-43EC-BFE0-604778DAB1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8137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baseerd op progre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uitgang, toenemend, vooruitgaand, zich uitbreid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links/sociaal-democratische den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tradit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ijnse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dat "in ongeschonden toestand bewaren" betek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rechtse/liberale en Christen=democratisch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50560" y="274680"/>
            <a:ext cx="6985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78CD-AD93-4839-84D6-220AC68F2E7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436480" y="162864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556000" y="1536840"/>
            <a:ext cx="6048360" cy="5321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717F-F1B8-4058-8728-313496F29B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284360" y="1268280"/>
            <a:ext cx="475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539640" y="1268280"/>
            <a:ext cx="38163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culiere eigendom is niet toegest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2"/>
          <p:cNvGrpSpPr/>
          <p:nvPr/>
        </p:nvGrpSpPr>
        <p:grpSpPr>
          <a:xfrm>
            <a:off x="826920" y="5300640"/>
            <a:ext cx="7745760" cy="1362240"/>
            <a:chOff x="826920" y="5300640"/>
            <a:chExt cx="7745760" cy="1362240"/>
          </a:xfrm>
        </p:grpSpPr>
        <p:pic>
          <p:nvPicPr>
            <p:cNvPr id="127" name="Picture 8" descr=""/>
            <p:cNvPicPr/>
            <p:nvPr/>
          </p:nvPicPr>
          <p:blipFill>
            <a:blip r:embed="rId1"/>
            <a:stretch/>
          </p:blipFill>
          <p:spPr>
            <a:xfrm>
              <a:off x="826920" y="5300640"/>
              <a:ext cx="77457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1"/>
            <p:cNvSpPr/>
            <p:nvPr/>
          </p:nvSpPr>
          <p:spPr>
            <a:xfrm>
              <a:off x="3708360" y="544500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fessionalism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D761-85B0-4DFE-81A5-6E515B8548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133" name="Line 5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0" y="2637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21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er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97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73272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h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33200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8028000" y="2708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sc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924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endemocr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logo vvd"/>
          <p:cNvPicPr/>
          <p:nvPr/>
        </p:nvPicPr>
        <p:blipFill>
          <a:blip r:embed="rId2"/>
          <a:stretch/>
        </p:blipFill>
        <p:spPr>
          <a:xfrm>
            <a:off x="5651640" y="3284640"/>
            <a:ext cx="466560" cy="57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logo cda"/>
          <p:cNvPicPr/>
          <p:nvPr/>
        </p:nvPicPr>
        <p:blipFill>
          <a:blip r:embed="rId3"/>
          <a:stretch/>
        </p:blipFill>
        <p:spPr>
          <a:xfrm>
            <a:off x="4643280" y="3284640"/>
            <a:ext cx="720720" cy="345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logo CU"/>
          <p:cNvPicPr/>
          <p:nvPr/>
        </p:nvPicPr>
        <p:blipFill>
          <a:blip r:embed="rId4"/>
          <a:stretch/>
        </p:blipFill>
        <p:spPr>
          <a:xfrm>
            <a:off x="3564000" y="4076640"/>
            <a:ext cx="1152360" cy="3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logo d66"/>
          <p:cNvPicPr/>
          <p:nvPr/>
        </p:nvPicPr>
        <p:blipFill>
          <a:blip r:embed="rId5"/>
          <a:stretch/>
        </p:blipFill>
        <p:spPr>
          <a:xfrm>
            <a:off x="3564000" y="3284640"/>
            <a:ext cx="720720" cy="533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LOGO groen links"/>
          <p:cNvPicPr/>
          <p:nvPr/>
        </p:nvPicPr>
        <p:blipFill>
          <a:blip r:embed="rId6"/>
          <a:stretch/>
        </p:blipFill>
        <p:spPr>
          <a:xfrm>
            <a:off x="900000" y="3933720"/>
            <a:ext cx="792360" cy="366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LOGO pvda"/>
          <p:cNvPicPr/>
          <p:nvPr/>
        </p:nvPicPr>
        <p:blipFill>
          <a:blip r:embed="rId7"/>
          <a:stretch/>
        </p:blipFill>
        <p:spPr>
          <a:xfrm>
            <a:off x="2916360" y="3789360"/>
            <a:ext cx="420480" cy="50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logo pvv"/>
          <p:cNvPicPr/>
          <p:nvPr/>
        </p:nvPicPr>
        <p:blipFill>
          <a:blip r:embed="rId8"/>
          <a:srcRect l="0" t="17834" r="0" b="20000"/>
          <a:stretch/>
        </p:blipFill>
        <p:spPr>
          <a:xfrm>
            <a:off x="7020000" y="3284640"/>
            <a:ext cx="936720" cy="309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logo sgp"/>
          <p:cNvPicPr/>
          <p:nvPr/>
        </p:nvPicPr>
        <p:blipFill>
          <a:blip r:embed="rId9"/>
          <a:stretch/>
        </p:blipFill>
        <p:spPr>
          <a:xfrm>
            <a:off x="6300720" y="3284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LOGO sp"/>
          <p:cNvPicPr/>
          <p:nvPr/>
        </p:nvPicPr>
        <p:blipFill>
          <a:blip r:embed="rId10"/>
          <a:stretch/>
        </p:blipFill>
        <p:spPr>
          <a:xfrm>
            <a:off x="468360" y="3357720"/>
            <a:ext cx="574560" cy="31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logo pvvd"/>
          <p:cNvPicPr/>
          <p:nvPr/>
        </p:nvPicPr>
        <p:blipFill>
          <a:blip r:embed="rId11"/>
          <a:stretch/>
        </p:blipFill>
        <p:spPr>
          <a:xfrm>
            <a:off x="1835280" y="3357720"/>
            <a:ext cx="635040" cy="718920"/>
          </a:xfrm>
          <a:prstGeom prst="rect">
            <a:avLst/>
          </a:prstGeom>
          <a:ln w="0">
            <a:noFill/>
          </a:ln>
        </p:spPr>
      </p:pic>
      <p:sp>
        <p:nvSpPr>
          <p:cNvPr id="151" name="Line 23"/>
          <p:cNvSpPr/>
          <p:nvPr/>
        </p:nvSpPr>
        <p:spPr>
          <a:xfrm>
            <a:off x="17928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169236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>
            <a:off x="241128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4284720" y="2637000"/>
            <a:ext cx="0" cy="5760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6227640" y="299736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702000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622764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>
            <a:off x="702000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964720" y="3068640"/>
            <a:ext cx="1404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3059280" y="206064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3419640" y="17733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1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B83D-1850-438F-B11B-BF9CEE1D48C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Politiek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e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basis van IDEOLOGIE: ontstaan door dezelfde ideologiën/stro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E-ISSUEPARTIJEN: gericht op 1 aspect in de samenleving. (Pv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ESTPARTIJEN: ontstaan uit onvrede met bestaande politiek. (L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DEMOCRATISCHE parijen: zoals fascisitische partijen. Komen niet vaak voor in parlem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A89D-683F-40C4-904C-ACE87D3116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Politiek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uncties van par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gratiefunctie: het partijen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ormatiefunctie: informeren over standp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ticipatiefunctie: burgers stimuleren actief aan politiek te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lectiefunctie: mensen die in de politiek willen, kijken bij welke partij ze willen 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B4C8-E179-42D6-AB78-542A5EA0C1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4: Verkiezing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lijsttrekker"/>
          <p:cNvPicPr/>
          <p:nvPr/>
        </p:nvPicPr>
        <p:blipFill>
          <a:blip r:embed="rId1"/>
          <a:srcRect l="12929" t="0" r="11185" b="0"/>
          <a:stretch/>
        </p:blipFill>
        <p:spPr>
          <a:xfrm>
            <a:off x="108000" y="1773360"/>
            <a:ext cx="3816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EF3F-2F91-4D68-9F8C-F4625E792F4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ozen kunnen worden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van de Tweede Kame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ndere volksvertegen-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rdigende lichamen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iesbaar 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ers van 18 jaa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 met Nederlands paspoor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bben het recht om te 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4: Verkiez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kieskompas"/>
          <p:cNvPicPr/>
          <p:nvPr/>
        </p:nvPicPr>
        <p:blipFill>
          <a:blip r:embed="rId1"/>
          <a:stretch/>
        </p:blipFill>
        <p:spPr>
          <a:xfrm>
            <a:off x="5148360" y="2249640"/>
            <a:ext cx="38876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F9F5-CD01-41C8-BEB0-7484879BAA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195640" y="162864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79280" y="1268280"/>
            <a:ext cx="583272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Lijsttrekker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hoogst geplaatste persoon op de kandidatenlijst van een politieke partij bij verkiezingen.  De belangrijkste persoon van de partij in de verkiezingsstrij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Zwevende kiezers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ep kiezers die bij verkiezingen niet steeds op dezelfde politieke partij stem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eursstemmen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 op een persoon (niet op een partij) waardoor die misschien wel in de tweedekamer komt, ondanks dat die laag op de lijst staat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95640" y="274680"/>
            <a:ext cx="50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4: verkiezing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" descr="stomwijzer_1"/>
          <p:cNvPicPr/>
          <p:nvPr/>
        </p:nvPicPr>
        <p:blipFill>
          <a:blip r:embed="rId1"/>
          <a:stretch/>
        </p:blipFill>
        <p:spPr>
          <a:xfrm>
            <a:off x="6227640" y="1484280"/>
            <a:ext cx="2667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268E-C335-4A94-B0CF-E8BA931A2B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3883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Evenredige vertegenwoordiging: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 zetels worden gelijk verdeld op baisis van alle geldig uitgebrachte stemm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 geldi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/1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= 50.000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979640" y="189000"/>
            <a:ext cx="504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4: Verkiezing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28472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211640" cy="2497320"/>
          </a:xfrm>
          <a:prstGeom prst="rect">
            <a:avLst/>
          </a:prstGeom>
          <a:ln w="0">
            <a:noFill/>
          </a:ln>
        </p:spPr>
      </p:pic>
      <p:sp>
        <p:nvSpPr>
          <p:cNvPr id="186" name="Line 6"/>
          <p:cNvSpPr/>
          <p:nvPr/>
        </p:nvSpPr>
        <p:spPr>
          <a:xfrm flipV="1">
            <a:off x="4859280" y="5229000"/>
            <a:ext cx="289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F5B8-A8FC-4A72-BC3B-3322577BA2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bbe0e3"/>
                </a:solidFill>
                <a:latin typeface="Arial"/>
              </a:rPr>
              <a:t>Machtsmiddelen: </a:t>
            </a: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Om macht te kunnen hebben, bestaan er machtmidd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Functie/beroep (politie als hij een bekeuring ge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Kennis/vaardigheden (dokter weet welke medicijnen je nodig h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Aanzien (de paus vraagt gelovigen iets wel of niet te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Overtuigingskracht (politici zijn vaak getraind om mensen te overtu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Geld (de overheid beslist wat ze doen met die miljarden euro’s die z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Aantal (de klas weigert massaal een proefwerk te ma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Geweld (een rechter veroordeeld de moordenaar tot levensl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C18D-069A-4061-AC42-B140BB4B916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340000" y="249228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835280" y="587700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rst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547640" y="1628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em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492360" y="4221000"/>
            <a:ext cx="201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n-Gener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6012000" y="3429000"/>
            <a:ext cx="10792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916360" y="335772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ngi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7093080" y="4149720"/>
            <a:ext cx="180000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svertegenwoordig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556000" y="508464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6588000" y="2060640"/>
            <a:ext cx="23050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tssecrtariss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258920" y="3716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r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5364000" y="5084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raa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4932360" y="1628640"/>
            <a:ext cx="1152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i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7451640" y="2997360"/>
            <a:ext cx="86364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7524720" y="6021360"/>
            <a:ext cx="57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468360" y="2637000"/>
            <a:ext cx="1368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4932360" y="2708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. 1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5292720" y="609300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395280" y="4581360"/>
            <a:ext cx="194472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1B77-8B3D-4D4E-B883-8AEC88F988D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"/>
          <p:cNvGrpSpPr/>
          <p:nvPr/>
        </p:nvGrpSpPr>
        <p:grpSpPr>
          <a:xfrm>
            <a:off x="971640" y="1268280"/>
            <a:ext cx="6948360" cy="2239920"/>
            <a:chOff x="971640" y="1268280"/>
            <a:chExt cx="6948360" cy="2239920"/>
          </a:xfrm>
        </p:grpSpPr>
        <p:sp>
          <p:nvSpPr>
            <p:cNvPr id="209" name="Text Box 3"/>
            <p:cNvSpPr/>
            <p:nvPr/>
          </p:nvSpPr>
          <p:spPr>
            <a:xfrm>
              <a:off x="1979640" y="1915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eed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4"/>
            <p:cNvSpPr/>
            <p:nvPr/>
          </p:nvSpPr>
          <p:spPr>
            <a:xfrm>
              <a:off x="4284720" y="191592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ers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5"/>
            <p:cNvSpPr/>
            <p:nvPr/>
          </p:nvSpPr>
          <p:spPr>
            <a:xfrm>
              <a:off x="971640" y="1268280"/>
              <a:ext cx="6948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Parlement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(ookwel:</a:t>
              </a: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aten-Generaal of Volksvertegenwoordiging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6"/>
            <p:cNvSpPr/>
            <p:nvPr/>
          </p:nvSpPr>
          <p:spPr>
            <a:xfrm>
              <a:off x="1979640" y="2563560"/>
              <a:ext cx="792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5508720" y="2563560"/>
              <a:ext cx="576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8"/>
            <p:cNvSpPr/>
            <p:nvPr/>
          </p:nvSpPr>
          <p:spPr>
            <a:xfrm>
              <a:off x="197964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428472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0"/>
            <p:cNvSpPr/>
            <p:nvPr/>
          </p:nvSpPr>
          <p:spPr>
            <a:xfrm>
              <a:off x="241128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1"/>
            <p:cNvSpPr/>
            <p:nvPr/>
          </p:nvSpPr>
          <p:spPr>
            <a:xfrm>
              <a:off x="594036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2"/>
            <p:cNvSpPr/>
            <p:nvPr/>
          </p:nvSpPr>
          <p:spPr>
            <a:xfrm>
              <a:off x="3708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>
              <a:off x="4716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 flipH="1">
              <a:off x="3563640" y="169992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4500360" y="1699920"/>
              <a:ext cx="216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6"/>
          <p:cNvGrpSpPr/>
          <p:nvPr/>
        </p:nvGrpSpPr>
        <p:grpSpPr>
          <a:xfrm>
            <a:off x="1116000" y="4076640"/>
            <a:ext cx="6516720" cy="2581560"/>
            <a:chOff x="1116000" y="4076640"/>
            <a:chExt cx="6516720" cy="2581560"/>
          </a:xfrm>
        </p:grpSpPr>
        <p:sp>
          <p:nvSpPr>
            <p:cNvPr id="223" name="Text Box 17"/>
            <p:cNvSpPr/>
            <p:nvPr/>
          </p:nvSpPr>
          <p:spPr>
            <a:xfrm>
              <a:off x="5076720" y="4076640"/>
              <a:ext cx="1079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binet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8"/>
            <p:cNvSpPr/>
            <p:nvPr/>
          </p:nvSpPr>
          <p:spPr>
            <a:xfrm>
              <a:off x="5148360" y="4797360"/>
              <a:ext cx="2484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Staatssecretariss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9"/>
            <p:cNvSpPr/>
            <p:nvPr/>
          </p:nvSpPr>
          <p:spPr>
            <a:xfrm>
              <a:off x="1189080" y="4797360"/>
              <a:ext cx="13669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0"/>
            <p:cNvSpPr/>
            <p:nvPr/>
          </p:nvSpPr>
          <p:spPr>
            <a:xfrm>
              <a:off x="3132000" y="4797360"/>
              <a:ext cx="1295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s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1"/>
            <p:cNvSpPr/>
            <p:nvPr/>
          </p:nvSpPr>
          <p:spPr>
            <a:xfrm>
              <a:off x="1116000" y="4076640"/>
              <a:ext cx="144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ering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2"/>
            <p:cNvSpPr/>
            <p:nvPr/>
          </p:nvSpPr>
          <p:spPr>
            <a:xfrm>
              <a:off x="2916360" y="407664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raa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3"/>
            <p:cNvSpPr/>
            <p:nvPr/>
          </p:nvSpPr>
          <p:spPr>
            <a:xfrm>
              <a:off x="3348000" y="58057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mier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ider kabinet (minister president)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4"/>
            <p:cNvSpPr/>
            <p:nvPr/>
          </p:nvSpPr>
          <p:spPr>
            <a:xfrm>
              <a:off x="3348000" y="62899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ies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specialiseerde beleidsterreinen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5"/>
            <p:cNvSpPr/>
            <p:nvPr/>
          </p:nvSpPr>
          <p:spPr>
            <a:xfrm>
              <a:off x="4213080" y="5300640"/>
              <a:ext cx="1224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g. 1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>
              <a:off x="241308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>
              <a:off x="2413080" y="4508640"/>
              <a:ext cx="718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>
              <a:off x="529272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 flipH="1">
              <a:off x="4500720" y="4508640"/>
              <a:ext cx="79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>
              <a:off x="378144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1"/>
            <p:cNvSpPr/>
            <p:nvPr/>
          </p:nvSpPr>
          <p:spPr>
            <a:xfrm>
              <a:off x="4429080" y="501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2"/>
            <p:cNvSpPr/>
            <p:nvPr/>
          </p:nvSpPr>
          <p:spPr>
            <a:xfrm flipH="1">
              <a:off x="5005080" y="50133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3"/>
            <p:cNvSpPr/>
            <p:nvPr/>
          </p:nvSpPr>
          <p:spPr>
            <a:xfrm>
              <a:off x="4573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4"/>
            <p:cNvSpPr/>
            <p:nvPr/>
          </p:nvSpPr>
          <p:spPr>
            <a:xfrm>
              <a:off x="5005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5"/>
            <p:cNvSpPr/>
            <p:nvPr/>
          </p:nvSpPr>
          <p:spPr>
            <a:xfrm>
              <a:off x="3132000" y="522936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6"/>
            <p:cNvSpPr/>
            <p:nvPr/>
          </p:nvSpPr>
          <p:spPr>
            <a:xfrm>
              <a:off x="3132000" y="5948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7"/>
            <p:cNvSpPr/>
            <p:nvPr/>
          </p:nvSpPr>
          <p:spPr>
            <a:xfrm>
              <a:off x="3132000" y="645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Line 38"/>
          <p:cNvSpPr/>
          <p:nvPr/>
        </p:nvSpPr>
        <p:spPr>
          <a:xfrm>
            <a:off x="826920" y="3789360"/>
            <a:ext cx="709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0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BCF2-98A8-4BE9-9A49-919BCADC12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schema politiek systeem antwoorden"/>
          <p:cNvPicPr/>
          <p:nvPr/>
        </p:nvPicPr>
        <p:blipFill>
          <a:blip r:embed="rId1"/>
          <a:srcRect l="0" t="0" r="0" b="14868"/>
          <a:stretch/>
        </p:blipFill>
        <p:spPr>
          <a:xfrm>
            <a:off x="2340000" y="1341360"/>
            <a:ext cx="5310000" cy="55166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4340-2C57-4B02-A4B3-540C0F542F7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weedekamer verkiezingen </a:t>
            </a: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dan de kabinets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atie van ministers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amen globaal eens zijn over het toekomstig 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 de meerderheid van de zetels hebben (de helft + 1 = 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A720-35A3-445A-8036-EB61BC00A1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oe gaat de kabinetsformati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adering  m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  Konin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ce-president Raad van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zitters 1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ractievoorz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ze onderzoekt welke partijen misschien samen ku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t partijen compromissen slu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samen met coalitiepartijen het regeerakkoord 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ekt geschikte ministers en staatssecretariss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meestal afkomstig van de grootste regeringspartij en wordt meestal minister presi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ministers en staatssecretar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5. Foto op het bor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0833-6E78-439C-BECB-FA9B117D63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195280" y="1268280"/>
            <a:ext cx="69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regerings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regering"/>
          <p:cNvPicPr/>
          <p:nvPr/>
        </p:nvPicPr>
        <p:blipFill>
          <a:blip r:embed="rId1"/>
          <a:stretch/>
        </p:blipFill>
        <p:spPr>
          <a:xfrm>
            <a:off x="2987640" y="4309920"/>
            <a:ext cx="5257800" cy="2548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logo vvd"/>
          <p:cNvPicPr/>
          <p:nvPr/>
        </p:nvPicPr>
        <p:blipFill>
          <a:blip r:embed="rId2"/>
          <a:stretch/>
        </p:blipFill>
        <p:spPr>
          <a:xfrm>
            <a:off x="5364000" y="3068640"/>
            <a:ext cx="700200" cy="865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logo cda"/>
          <p:cNvPicPr/>
          <p:nvPr/>
        </p:nvPicPr>
        <p:blipFill>
          <a:blip r:embed="rId3"/>
          <a:stretch/>
        </p:blipFill>
        <p:spPr>
          <a:xfrm>
            <a:off x="2411280" y="177336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logo CU"/>
          <p:cNvPicPr/>
          <p:nvPr/>
        </p:nvPicPr>
        <p:blipFill>
          <a:blip r:embed="rId4"/>
          <a:stretch/>
        </p:blipFill>
        <p:spPr>
          <a:xfrm>
            <a:off x="5724360" y="1773360"/>
            <a:ext cx="2303640" cy="637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logo d66"/>
          <p:cNvPicPr/>
          <p:nvPr/>
        </p:nvPicPr>
        <p:blipFill>
          <a:blip r:embed="rId5"/>
          <a:stretch/>
        </p:blipFill>
        <p:spPr>
          <a:xfrm>
            <a:off x="6227640" y="3068640"/>
            <a:ext cx="863640" cy="638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LOGO groen links"/>
          <p:cNvPicPr/>
          <p:nvPr/>
        </p:nvPicPr>
        <p:blipFill>
          <a:blip r:embed="rId6"/>
          <a:srcRect l="0" t="21404" r="0" b="0"/>
          <a:stretch/>
        </p:blipFill>
        <p:spPr>
          <a:xfrm>
            <a:off x="2411280" y="3716280"/>
            <a:ext cx="1441440" cy="52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LOGO pvda"/>
          <p:cNvPicPr/>
          <p:nvPr/>
        </p:nvPicPr>
        <p:blipFill>
          <a:blip r:embed="rId7"/>
          <a:stretch/>
        </p:blipFill>
        <p:spPr>
          <a:xfrm>
            <a:off x="4427640" y="1773360"/>
            <a:ext cx="662040" cy="792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logo pvv"/>
          <p:cNvPicPr/>
          <p:nvPr/>
        </p:nvPicPr>
        <p:blipFill>
          <a:blip r:embed="rId8"/>
          <a:srcRect l="0" t="17829" r="0" b="19982"/>
          <a:stretch/>
        </p:blipFill>
        <p:spPr>
          <a:xfrm>
            <a:off x="2340000" y="2997360"/>
            <a:ext cx="1835280" cy="606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logo sgp"/>
          <p:cNvPicPr/>
          <p:nvPr/>
        </p:nvPicPr>
        <p:blipFill>
          <a:blip r:embed="rId9"/>
          <a:srcRect l="16553" t="0" r="16723" b="11262"/>
          <a:stretch/>
        </p:blipFill>
        <p:spPr>
          <a:xfrm>
            <a:off x="8244000" y="3068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2" descr="LOGO sp"/>
          <p:cNvPicPr/>
          <p:nvPr/>
        </p:nvPicPr>
        <p:blipFill>
          <a:blip r:embed="rId10"/>
          <a:stretch/>
        </p:blipFill>
        <p:spPr>
          <a:xfrm>
            <a:off x="7236000" y="3068640"/>
            <a:ext cx="863280" cy="477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logo pvvd"/>
          <p:cNvPicPr/>
          <p:nvPr/>
        </p:nvPicPr>
        <p:blipFill>
          <a:blip r:embed="rId11"/>
          <a:stretch/>
        </p:blipFill>
        <p:spPr>
          <a:xfrm>
            <a:off x="4356000" y="3068640"/>
            <a:ext cx="825480" cy="9349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54E1-C79E-415B-BA55-BD6FEE97AE2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alitiereger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ring die uit meerdere partijen besta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rings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 én i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de meerderheid zel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regering + stelt ding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6505-C987-4E13-AE17-A7428AEDC50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8" descr="ministers anno 2008"/>
          <p:cNvPicPr/>
          <p:nvPr/>
        </p:nvPicPr>
        <p:blipFill>
          <a:blip r:embed="rId1"/>
          <a:stretch/>
        </p:blipFill>
        <p:spPr>
          <a:xfrm>
            <a:off x="250920" y="112536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D571-9A1A-40B5-8B68-723FE52E64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547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(nieuwe) regering noteert de belangrijkste plannen voor komen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jaar in e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erakko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regeerakkoord050207"/>
          <p:cNvPicPr/>
          <p:nvPr/>
        </p:nvPicPr>
        <p:blipFill>
          <a:blip r:embed="rId1"/>
          <a:stretch/>
        </p:blipFill>
        <p:spPr>
          <a:xfrm>
            <a:off x="2195640" y="3141720"/>
            <a:ext cx="4714920" cy="3429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7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E51D-60FD-4F47-9C0D-09FA5BAEDD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576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de koning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 handtekening onder alle w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t de troonrede 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t met de minister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genwoordigt ons land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pt ná de verkiezingen met het vormen van de nieuwe reg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schend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2006-09-20%20-%20Koningin%20Beatrix%20-%20troonrede%202006"/>
          <p:cNvPicPr/>
          <p:nvPr/>
        </p:nvPicPr>
        <p:blipFill>
          <a:blip r:embed="rId1"/>
          <a:srcRect l="8960" t="0" r="10939" b="5207"/>
          <a:stretch/>
        </p:blipFill>
        <p:spPr>
          <a:xfrm>
            <a:off x="5940360" y="1268280"/>
            <a:ext cx="2952720" cy="5029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De reg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04DC-AB49-4D89-97E7-D13AE2F403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bbe0e3"/>
                </a:solidFill>
                <a:uFillTx/>
                <a:latin typeface="Arial"/>
              </a:rPr>
              <a:t>Normen:</a:t>
            </a: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gedragsregels, v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erwachtingen over wat normaal is, manier van handelen waar mensen zich aan kunnen of moeten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bbe0e3"/>
                </a:solidFill>
                <a:uFillTx/>
                <a:latin typeface="Arial"/>
              </a:rPr>
              <a:t>Waarden</a:t>
            </a: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waarden zijn dingen en denkbeelden waar we waarde aan hechten. Aspecten die we belangrijk vinden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Waarde: eer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Norm: niet s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DC49-8787-4179-8280-B794AB2C6D4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-324360" y="1413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oor hun beleidsterrein (portefeu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merleden dienen mo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wantrouwen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fs"/>
          <p:cNvPicPr/>
          <p:nvPr/>
        </p:nvPicPr>
        <p:blipFill>
          <a:blip r:embed="rId1"/>
          <a:srcRect l="12929" t="0" r="9545" b="14848"/>
          <a:stretch/>
        </p:blipFill>
        <p:spPr>
          <a:xfrm>
            <a:off x="5219640" y="2781360"/>
            <a:ext cx="3672000" cy="25257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De reg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46F2-60CA-4D0A-8C60-A525548FCA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land waarin iedereen rechten heeft en waar deze rechten zijn vastgelegd in we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ze splitsing voorkomen we machtsmisbrui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24000" y="443700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059280" y="450864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6227640" y="4430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7"/>
          <p:cNvSpPr/>
          <p:nvPr/>
        </p:nvSpPr>
        <p:spPr>
          <a:xfrm flipH="1">
            <a:off x="1692000" y="357336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6443640" y="3573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611280" y="3573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501A-A370-4387-B48D-4F482C0B15E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65_montesquieu"/>
          <p:cNvPicPr/>
          <p:nvPr/>
        </p:nvPicPr>
        <p:blipFill>
          <a:blip r:embed="rId1"/>
          <a:stretch/>
        </p:blipFill>
        <p:spPr>
          <a:xfrm>
            <a:off x="395280" y="1268280"/>
            <a:ext cx="86043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3A01-9407-46CC-8291-36DE6D8141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stembiljet"/>
          <p:cNvPicPr/>
          <p:nvPr/>
        </p:nvPicPr>
        <p:blipFill>
          <a:blip r:embed="rId1"/>
          <a:stretch/>
        </p:blipFill>
        <p:spPr>
          <a:xfrm>
            <a:off x="1908000" y="3429000"/>
            <a:ext cx="4535640" cy="15112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324000" y="1268280"/>
            <a:ext cx="8569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ste beleidsterreinen (programma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omen op voor het algemeen bela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250920" y="5013360"/>
            <a:ext cx="889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ressiegroep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nke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e beleidsterrei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zich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erkiesb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eert de politiek te beïnvlo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1FA2-F60C-4651-88C5-392AEE93AB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het Parl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etgev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temrecht bij wetsontwer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udgetre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rijksbegroting wel of niet goedk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iti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wetsontwerp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mendem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 meerderheid veranderingen aanbrengen in wetsvoorstelle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vragen in een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roler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ragenrech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elke dinsdag vragen stellen a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otie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voorbeeld een motie van wantrouwen aannemen of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 belangrijk onderwerp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ralementaire Enquê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uden, onderzoekscommissie vormen, onder ede laten getu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j0124651.wmf (126222 bytes)"/>
          <p:cNvPicPr/>
          <p:nvPr/>
        </p:nvPicPr>
        <p:blipFill>
          <a:blip r:embed="rId1"/>
          <a:stretch/>
        </p:blipFill>
        <p:spPr>
          <a:xfrm>
            <a:off x="6516720" y="620640"/>
            <a:ext cx="2305080" cy="159408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FC91-3CE3-44DD-BE5C-63031859A3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-324360" y="1268280"/>
            <a:ext cx="97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: debateren. Daarna geeft voltallige Tweede Kamer het oordeel over he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derheid Tweede Kamer voo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(bijna altijd; “j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Wet komt in de Staatsco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7" descr="staatscourant"/>
          <p:cNvPicPr/>
          <p:nvPr/>
        </p:nvPicPr>
        <p:blipFill>
          <a:blip r:embed="rId1"/>
          <a:stretch/>
        </p:blipFill>
        <p:spPr>
          <a:xfrm>
            <a:off x="4219560" y="5661000"/>
            <a:ext cx="4924440" cy="9334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7A57-7B51-4D3A-A628-75864A0A67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decentraliseerde eenheid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jk beslit grote lijnen, gedetailleerde invull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aan lagere overheden overgela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1042920" y="2637000"/>
            <a:ext cx="3240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een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r niet alles centraal gere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fstem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lokale zeggenscha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4716360" y="2708280"/>
            <a:ext cx="34927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Na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kale bevoegdheden zijn beperk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é veel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verscheiden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CB08-A676-4EFA-B8AB-B98AD715D5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meenter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liggen dichter bij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emmingspl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baar ver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ne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ort en onderwijsvoorzie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ca vergun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73A3-7338-478A-A725-B817C9205F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college van B&amp;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llege van Burgemeester en Wethou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 het beleid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en benoemd door de gemeentera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ra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mt beslui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 het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kozen door de bevol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burgemees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oorzitter van de gemeenteraad en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benoemd door de reg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25FF-57AC-45F9-94D1-71DC8DE9C47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5"/>
          <p:cNvGrpSpPr/>
          <p:nvPr/>
        </p:nvGrpSpPr>
        <p:grpSpPr>
          <a:xfrm>
            <a:off x="179280" y="1773360"/>
            <a:ext cx="8675640" cy="3288240"/>
            <a:chOff x="179280" y="1773360"/>
            <a:chExt cx="8675640" cy="3288240"/>
          </a:xfrm>
        </p:grpSpPr>
        <p:sp>
          <p:nvSpPr>
            <p:cNvPr id="327" name="Text Box 4"/>
            <p:cNvSpPr/>
            <p:nvPr/>
          </p:nvSpPr>
          <p:spPr>
            <a:xfrm>
              <a:off x="2195280" y="3141720"/>
              <a:ext cx="2160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Burgemeest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5"/>
            <p:cNvSpPr/>
            <p:nvPr/>
          </p:nvSpPr>
          <p:spPr>
            <a:xfrm>
              <a:off x="212220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meenteraad (9 tot 45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6"/>
            <p:cNvSpPr/>
            <p:nvPr/>
          </p:nvSpPr>
          <p:spPr>
            <a:xfrm>
              <a:off x="457020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Wethouders (2-9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284292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B en W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17928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>
              <a:off x="349092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0"/>
            <p:cNvSpPr/>
            <p:nvPr/>
          </p:nvSpPr>
          <p:spPr>
            <a:xfrm>
              <a:off x="727056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1"/>
            <p:cNvSpPr/>
            <p:nvPr/>
          </p:nvSpPr>
          <p:spPr>
            <a:xfrm>
              <a:off x="727056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2"/>
            <p:cNvSpPr/>
            <p:nvPr/>
          </p:nvSpPr>
          <p:spPr>
            <a:xfrm>
              <a:off x="356220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3"/>
            <p:cNvSpPr/>
            <p:nvPr/>
          </p:nvSpPr>
          <p:spPr>
            <a:xfrm>
              <a:off x="565128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4"/>
            <p:cNvSpPr/>
            <p:nvPr/>
          </p:nvSpPr>
          <p:spPr>
            <a:xfrm>
              <a:off x="572292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5"/>
            <p:cNvSpPr/>
            <p:nvPr/>
          </p:nvSpPr>
          <p:spPr>
            <a:xfrm>
              <a:off x="176184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6"/>
            <p:cNvSpPr/>
            <p:nvPr/>
          </p:nvSpPr>
          <p:spPr>
            <a:xfrm flipH="1">
              <a:off x="709092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4"/>
            <p:cNvSpPr/>
            <p:nvPr/>
          </p:nvSpPr>
          <p:spPr>
            <a:xfrm flipV="1">
              <a:off x="5506920" y="443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0"/>
            <p:cNvSpPr/>
            <p:nvPr/>
          </p:nvSpPr>
          <p:spPr>
            <a:xfrm>
              <a:off x="2050920" y="4724280"/>
              <a:ext cx="680400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ekozen door de bevolk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0683-B1E4-46A1-9A99-3B7FF0824F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Propaganda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: doelbewust eenzijdige informatie geven, om meningen te beinvlo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Manipulatie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met opzet feiten weglaten of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Indoctrinatie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voortdurend opdringen van bepaalde meningen (met behulp van zeer intensieve psychologische middeltjes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E7D4-A851-46A3-8C1B-BAA0EF6A52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vinc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ken liggen b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telijke o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li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geme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water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FB7A-CEDA-46AF-AF76-6E7E2A73A2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dental Provinciale Staten hangt af van aantal inwoners van de provinc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Provinciale Staten kiezen de leden van d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deputeerde Sta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agelijks bes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CF48-FF83-4DBF-9689-5F3750F69D2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351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 flipV="1">
            <a:off x="284328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 flipV="1">
            <a:off x="4284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4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5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6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7"/>
          <p:cNvSpPr/>
          <p:nvPr/>
        </p:nvSpPr>
        <p:spPr>
          <a:xfrm>
            <a:off x="3564000" y="5589720"/>
            <a:ext cx="36003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iegelingscollege: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le grote partijen in G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9B9B-0F5D-4533-9597-4F30FBA204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378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2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3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4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5"/>
          <p:cNvSpPr/>
          <p:nvPr/>
        </p:nvSpPr>
        <p:spPr>
          <a:xfrm>
            <a:off x="3564000" y="5589720"/>
            <a:ext cx="50403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heidscollege: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mmige fracties in GS (krijgt politieke kleur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93A2-F00D-45BD-BAC0-4966AC0A41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23640" y="160020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: Europese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munteenheid (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concurrentie in 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l ecnomische be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5" descr="europe%20flag"/>
          <p:cNvPicPr/>
          <p:nvPr/>
        </p:nvPicPr>
        <p:blipFill>
          <a:blip r:embed="rId1"/>
          <a:stretch/>
        </p:blipFill>
        <p:spPr>
          <a:xfrm>
            <a:off x="4500720" y="2205000"/>
            <a:ext cx="43210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3201-48C7-4EA8-9AE2-7F0AF25150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27280" y="155736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U: Europese Unie: na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nationale soevereiniteit: De Nederlandse regering kan niet alles zelf besl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democratisch 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se burger hebben minder invloed op besluiten van de EU (dan van onze nationale reg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werkgelegen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EU%20vlag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7860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EFC1-7845-4A98-BCED-5AB0986F7D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drie instellingen die samen het bestuur van de Europese Unie vorm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se Commi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6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B9DF-2FB0-41FC-8191-8CE9F79E6C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ropese Commissie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 het 'dagelijks bestuur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initiatief tot voorstellen voor wetgeving en maatregelen op Europees niv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zorgt voor uitvoering van de w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C0E8-45B4-4F60-A1BD-452C579824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voor dat wetten democratisch tot stand k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viseert of beslist over de wetsvoorstell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ist over de toetreding van nieuwe lan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 over de Europese Commiss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EU%20vlag"/>
          <p:cNvPicPr/>
          <p:nvPr/>
        </p:nvPicPr>
        <p:blipFill>
          <a:blip r:embed="rId1"/>
          <a:stretch/>
        </p:blipFill>
        <p:spPr>
          <a:xfrm>
            <a:off x="7126200" y="541188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71CF-85AF-4371-A046-F988F8BE633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inisters van de afzonderlijke lidstaten nemen de uiteindelijke beslissing over de wetgeving in de Un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eggen met regeringsleiders (euro-to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uisteren naar voorstellen van de Commissie en het advies van het Europees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EU%20vlag"/>
          <p:cNvPicPr/>
          <p:nvPr/>
        </p:nvPicPr>
        <p:blipFill>
          <a:blip r:embed="rId1"/>
          <a:stretch/>
        </p:blipFill>
        <p:spPr>
          <a:xfrm>
            <a:off x="6804000" y="515772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251B-45FD-45BA-B918-651C41B0B6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586728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Stereotypering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Beeld van een bepaalde bevolkingsgroep dat met de werkelijkheid weinig of niets te maken heeft.</a:t>
            </a:r>
            <a:br>
              <a:rPr sz="2000"/>
            </a:b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VB: Afrikanen in rieten rokjes met botjes in hun neus en dikke 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Nederlanders op klo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Vooroordeel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Een vooroordeel is een mening over iemand of een groep mensen die niet op feiten is gebasee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VB: 'alle duitsers hebben bierbuiken, 'Belgen zijn dom', 'Nederlanders zijn krenterig' of 'dikke mensen zijn gezellig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Discriminatie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Als mensen op basis van deze vooroordelen worden achtergesteld, is er sprake van discriminat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0809"/>
          <p:cNvPicPr/>
          <p:nvPr/>
        </p:nvPicPr>
        <p:blipFill>
          <a:blip r:embed="rId1"/>
          <a:stretch/>
        </p:blipFill>
        <p:spPr>
          <a:xfrm>
            <a:off x="7451640" y="1052640"/>
            <a:ext cx="1438200" cy="266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121581"/>
          <p:cNvPicPr/>
          <p:nvPr/>
        </p:nvPicPr>
        <p:blipFill>
          <a:blip r:embed="rId2"/>
          <a:srcRect l="9962" t="2883" r="10174" b="4043"/>
          <a:stretch/>
        </p:blipFill>
        <p:spPr>
          <a:xfrm>
            <a:off x="6300720" y="3933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6D6B-B254-4487-AFE4-BA0B2B2CB33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eden van de E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74" descr=""/>
          <p:cNvPicPr/>
          <p:nvPr/>
        </p:nvPicPr>
        <p:blipFill>
          <a:blip r:embed="rId1"/>
          <a:srcRect l="16032" t="25589" r="21208" b="36162"/>
          <a:stretch/>
        </p:blipFill>
        <p:spPr>
          <a:xfrm>
            <a:off x="0" y="2060640"/>
            <a:ext cx="8820000" cy="40323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2C45-99A0-4B69-A3C1-A6A302ACE6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EU%20vlag"/>
          <p:cNvPicPr/>
          <p:nvPr/>
        </p:nvPicPr>
        <p:blipFill>
          <a:blip r:embed="rId1"/>
          <a:stretch/>
        </p:blipFill>
        <p:spPr>
          <a:xfrm>
            <a:off x="6877080" y="5229360"/>
            <a:ext cx="2017800" cy="1446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"/>
          <p:cNvPicPr/>
          <p:nvPr/>
        </p:nvPicPr>
        <p:blipFill>
          <a:blip r:embed="rId2"/>
          <a:srcRect l="15301" t="22439" r="24154" b="7683"/>
          <a:stretch/>
        </p:blipFill>
        <p:spPr>
          <a:xfrm>
            <a:off x="1187280" y="1413000"/>
            <a:ext cx="6048720" cy="52354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A8A6-4F6C-4AB8-9FDE-BFA940E103D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enigde Naties (V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 alle landen van de wereld zijn er lid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el: komende generaties behoeden voor 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ternationale vrede en veiligheid te 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bij natuurrampen, oorlog, hongersnood en arm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pect bevorderen van mensen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g V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6" descr="Vlag van de Verenigde Naties"/>
          <p:cNvPicPr/>
          <p:nvPr/>
        </p:nvPicPr>
        <p:blipFill>
          <a:blip r:embed="rId1"/>
          <a:stretch/>
        </p:blipFill>
        <p:spPr>
          <a:xfrm>
            <a:off x="6667560" y="521028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1DA8-52E5-4826-8511-8EF035A127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stuur van de Verenigde Naties (V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zes bestuursorganen die de werkzaamheden van de organisatie aansturen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Algemene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conomische en Sociale 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Internationaal Gerechtsh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Secretariaat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raterus-gener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Trustschapsraad (tegenwoordig inactie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Veiligheids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6667560" y="335772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CE0F-ADBD-4A07-90DA-2C4F1D1DF6E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september tot december bespreken ze de problemen in de wer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 komt er een resolutie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is een soort niet bindende wetg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unnen voorstellen om een land te boyc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edestroepen: ze kunnen militairen sturen naar een gebied. (zoals de Nederlandse Blauwhel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1476360" y="494172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10828987"/>
          <p:cNvPicPr/>
          <p:nvPr/>
        </p:nvPicPr>
        <p:blipFill>
          <a:blip r:embed="rId2"/>
          <a:stretch/>
        </p:blipFill>
        <p:spPr>
          <a:xfrm>
            <a:off x="5724360" y="4941720"/>
            <a:ext cx="2381400" cy="16574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64CE-EC65-41A1-8285-DACF3670725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5" descr="sw_einde"/>
          <p:cNvPicPr/>
          <p:nvPr/>
        </p:nvPicPr>
        <p:blipFill>
          <a:blip r:embed="rId1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jdelijke aanduiding voor dianumm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A103-1112-4829-BD99-91EE58DD40E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28760" y="642960"/>
          <a:ext cx="8334360" cy="5962680"/>
        </p:xfrm>
        <a:graphic>
          <a:graphicData uri="http://schemas.openxmlformats.org/drawingml/2006/table">
            <a:tbl>
              <a:tblPr/>
              <a:tblGrid>
                <a:gridCol w="1836720"/>
                <a:gridCol w="630000"/>
                <a:gridCol w="3043440"/>
                <a:gridCol w="630000"/>
                <a:gridCol w="2194200"/>
              </a:tblGrid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N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VANG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EF/SUBJECTIEF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eiten/Meningen [Meerdere kanten]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ROUWBARE BRONN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BS, Wikipedia, edu-sites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IPUL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EVE WAARNEM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erdraai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send voor jezelf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NDA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enzijd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IEKA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CTR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rvaring, Waard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wingend/Langdur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RIM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eotyper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oroordel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2661-157D-46DF-874C-6D6AFCB653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Hoofdstuk 3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arlementaire democr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9640" y="6237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oets eind oktober 2009                  Pagina 68 t/m 108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65_montesquieu"/>
          <p:cNvPicPr/>
          <p:nvPr/>
        </p:nvPicPr>
        <p:blipFill>
          <a:blip r:embed="rId1"/>
          <a:stretch/>
        </p:blipFill>
        <p:spPr>
          <a:xfrm>
            <a:off x="1692360" y="2708280"/>
            <a:ext cx="5933880" cy="329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question_mark_3d"/>
          <p:cNvPicPr/>
          <p:nvPr/>
        </p:nvPicPr>
        <p:blipFill>
          <a:blip r:embed="rId2"/>
          <a:stretch/>
        </p:blipFill>
        <p:spPr>
          <a:xfrm rot="1550400">
            <a:off x="4140360" y="2060640"/>
            <a:ext cx="26762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bi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tengenera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9A4B-69F9-4181-9DB5-CAF5BDF29E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09-09-24T12:05:12Z</dcterms:modified>
  <cp:revision>62</cp:revision>
  <dc:subject/>
  <dc:title>Dia 1</dc:title>
</cp:coreProperties>
</file>