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607-D4B1-4483-A8FA-88BCFF4E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CF0-D657-46D1-A22A-EB471117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AA6-59E8-41C9-BF69-7266BCE8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D13-3FD9-4FA3-BA92-80AE55DE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C42-966D-4877-879C-8B160BC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5B6-1166-400D-BD36-E6EFB038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8BB-905F-4B47-A2C1-1B94207E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5A0-2187-44EC-BE51-3D126714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227-6700-48CD-89EC-5037B4F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054-6CD5-4631-9F5A-FEFF77F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447-B6C2-4FB2-BF38-04966926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455-4007-424A-BF6F-0B26BD3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9A0-322C-4347-A765-29C5F38AB3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26D0-3F4B-4BEB-88DE-FFA981861D9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CAA-28EA-451C-B86D-44DEE9AD50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41C1-F9C0-45E0-A1CE-BC71B22115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70754" b="15652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1549440" y="-24300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§ 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ED0E-DD67-4F6D-8419-307561470F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981000"/>
            <a:ext cx="8280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pening: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nlastenlegging: 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nderzoek: 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. Persoonlijke omstandigh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udge"/>
          <p:cNvPicPr/>
          <p:nvPr/>
        </p:nvPicPr>
        <p:blipFill>
          <a:blip r:embed="rId2"/>
          <a:stretch/>
        </p:blipFill>
        <p:spPr>
          <a:xfrm>
            <a:off x="7286760" y="62064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731A-A748-402B-A6EF-394F2C6684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170028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Requisitoir: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Pleidooi: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Laatste woord: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, onschuld benadrukken, schade door straf uitleg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Vonnis: De rechter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7628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ail"/>
          <p:cNvPicPr/>
          <p:nvPr/>
        </p:nvPicPr>
        <p:blipFill>
          <a:blip r:embed="rId3"/>
          <a:stretch/>
        </p:blipFill>
        <p:spPr>
          <a:xfrm>
            <a:off x="0" y="54936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BA15-1A26-432C-9CBE-03901B4089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B0C2-B357-4378-8BCE-BA07A93173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9D92-709A-4689-A79C-713E517873B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69228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1989000"/>
            <a:ext cx="84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Vrijheidsstraf (zoals gevangenisstraf/hechtenis}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3141720"/>
            <a:ext cx="78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, straatverbod, geen bevoegdheid meer, etc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429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ontneming wederrechtelijk voordeel, schadevergoed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police"/>
          <p:cNvPicPr/>
          <p:nvPr/>
        </p:nvPicPr>
        <p:blipFill>
          <a:blip r:embed="rId1"/>
          <a:stretch/>
        </p:blipFill>
        <p:spPr>
          <a:xfrm>
            <a:off x="7524720" y="1484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5FDD-A0DD-4A0D-9248-4CF45993AA0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afrecht voor minderjari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198900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en &gt; 12 jaar &lt; 18 jaar.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68360" y="34290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rechter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jeugdgevangenis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4221000"/>
            <a:ext cx="79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Bij stoorniss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behandelcentra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olice"/>
          <p:cNvPicPr/>
          <p:nvPr/>
        </p:nvPicPr>
        <p:blipFill>
          <a:blip r:embed="rId1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468360" y="270828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ALT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het alternatief: taakstraf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51:52Z</dcterms:modified>
  <cp:revision>156</cp:revision>
  <dc:subject/>
  <dc:title>Dia 1</dc:title>
</cp:coreProperties>
</file>