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33.jpeg" ContentType="image/jpeg"/>
  <Override PartName="/ppt/media/image45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11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8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19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98E-017F-4FDD-A4B3-B5675EB7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B2A-8BD2-4CD1-B69E-C92C13DB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2BA-31E9-4275-ADFF-5DF0CF23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5E5-88BD-4E56-8C62-3FA42577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D4F-FA9A-4D27-9DE8-E44D2000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4C5-DE6E-4030-8DD3-3EF9997C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E56-3B13-4125-912A-CE739376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2D3-A936-40EB-822D-0712CCFF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A97-F0F9-4274-87EF-8791FCCA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0D5-07B7-4373-9CEF-04896DAD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634-DA24-4105-B50A-39679209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5B9-BB67-405E-A659-5B438559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00C9-97F3-41C7-AC21-D64B5BEE20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32.jpeg"/><Relationship Id="rId7" Type="http://schemas.openxmlformats.org/officeDocument/2006/relationships/image" Target="../media/image20.pn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BE8C-521F-4A20-A738-205AAA7D66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H 1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1CB1-53E8-43FA-8CE4-F181183262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ACB0-8833-49DF-936D-BD762646AF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755640" y="11592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95E9-CCB1-466F-ABEA-F58D590F82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FAF0-74FE-4B29-BD5C-B920E67114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30C8-D655-48FC-B8FC-9EAE5E0F70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gelmatige verkiezingen (geheime stem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alleen een onafhankelijke rechter mag publicaties of uitzendingen verbi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enscheid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triaspoli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18900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Wat is politiek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FA35-2BB2-4286-B919-41D0B6E9CF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53280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Politieke strom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16360" y="1268280"/>
            <a:ext cx="403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707240" cy="1095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276720" y="5661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0655-5BBD-4AAD-B345-8F62EE5D5A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3F8B-593A-4C0D-B1B2-B2BBE4F789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7640" y="274680"/>
            <a:ext cx="7417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3BE8-1C50-4938-9B7E-65D27B5F2B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B7AA-F989-44BB-B4B4-34DDF13EE2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E181-9F40-49A8-9C6A-EB55F590A7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124D-257C-45A0-9BE7-1BF04FAEB2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E83A-6283-4EC8-998D-D3BCF57876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436480" y="162864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56000" y="1536840"/>
            <a:ext cx="6048360" cy="5321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19D7-58F1-498C-A61F-E3BF3B462D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2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FBDA-C26A-4B17-93C6-64CA2EF2CB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151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6FA4-3A80-4C08-8763-BAC73DF726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5238-CEAC-4F3B-8F13-E8DF0036BF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3: Politiek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D8C3-2D99-4BD7-AFF5-525274CF6B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D319-015F-4DC2-893A-BE92CBAE83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Verkiez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7310-D1D4-4B15-9785-077A24A336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5640" y="27468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ABF5-ABC4-4E3E-BEE3-7EF2F85046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979640" y="189000"/>
            <a:ext cx="50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4: Verkiezing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186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0A6B-9AD6-4B7F-B956-30425584B6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bbe0e3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bbe0e3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8395-B2E1-48F4-84A3-DE122F19AF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8B98-7184-4791-99E9-81C7C368EA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209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223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0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AD5D-5A0F-4382-ACE5-556E241084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39528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2490-FC8A-4E7D-83A2-D105E94B1B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169D-7332-43A6-BA0E-3D7B0336D5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A4DD-C822-452C-BB5E-3D51D9A8DB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regering"/>
          <p:cNvPicPr/>
          <p:nvPr/>
        </p:nvPicPr>
        <p:blipFill>
          <a:blip r:embed="rId1"/>
          <a:stretch/>
        </p:blipFill>
        <p:spPr>
          <a:xfrm>
            <a:off x="2987640" y="4309920"/>
            <a:ext cx="5257800" cy="2548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logo vvd"/>
          <p:cNvPicPr/>
          <p:nvPr/>
        </p:nvPicPr>
        <p:blipFill>
          <a:blip r:embed="rId2"/>
          <a:stretch/>
        </p:blipFill>
        <p:spPr>
          <a:xfrm>
            <a:off x="5364000" y="3068640"/>
            <a:ext cx="700200" cy="865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logo cda"/>
          <p:cNvPicPr/>
          <p:nvPr/>
        </p:nvPicPr>
        <p:blipFill>
          <a:blip r:embed="rId3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logo CU"/>
          <p:cNvPicPr/>
          <p:nvPr/>
        </p:nvPicPr>
        <p:blipFill>
          <a:blip r:embed="rId4"/>
          <a:stretch/>
        </p:blipFill>
        <p:spPr>
          <a:xfrm>
            <a:off x="5724360" y="1773360"/>
            <a:ext cx="2303640" cy="637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logo d66"/>
          <p:cNvPicPr/>
          <p:nvPr/>
        </p:nvPicPr>
        <p:blipFill>
          <a:blip r:embed="rId5"/>
          <a:stretch/>
        </p:blipFill>
        <p:spPr>
          <a:xfrm>
            <a:off x="6227640" y="306864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LOGO groen links"/>
          <p:cNvPicPr/>
          <p:nvPr/>
        </p:nvPicPr>
        <p:blipFill>
          <a:blip r:embed="rId6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LOGO pvda"/>
          <p:cNvPicPr/>
          <p:nvPr/>
        </p:nvPicPr>
        <p:blipFill>
          <a:blip r:embed="rId7"/>
          <a:stretch/>
        </p:blipFill>
        <p:spPr>
          <a:xfrm>
            <a:off x="4427640" y="1773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logo pvv"/>
          <p:cNvPicPr/>
          <p:nvPr/>
        </p:nvPicPr>
        <p:blipFill>
          <a:blip r:embed="rId8"/>
          <a:srcRect l="0" t="17829" r="0" b="19982"/>
          <a:stretch/>
        </p:blipFill>
        <p:spPr>
          <a:xfrm>
            <a:off x="2340000" y="299736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logo sgp"/>
          <p:cNvPicPr/>
          <p:nvPr/>
        </p:nvPicPr>
        <p:blipFill>
          <a:blip r:embed="rId9"/>
          <a:srcRect l="16553" t="0" r="16723" b="11262"/>
          <a:stretch/>
        </p:blipFill>
        <p:spPr>
          <a:xfrm>
            <a:off x="8244000" y="30686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LOGO sp"/>
          <p:cNvPicPr/>
          <p:nvPr/>
        </p:nvPicPr>
        <p:blipFill>
          <a:blip r:embed="rId10"/>
          <a:stretch/>
        </p:blipFill>
        <p:spPr>
          <a:xfrm>
            <a:off x="7236000" y="306864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logo pvvd"/>
          <p:cNvPicPr/>
          <p:nvPr/>
        </p:nvPicPr>
        <p:blipFill>
          <a:blip r:embed="rId11"/>
          <a:stretch/>
        </p:blipFill>
        <p:spPr>
          <a:xfrm>
            <a:off x="4356000" y="306864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de regering / §6:Het Parl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EFC6-7F02-45FB-ADF7-7ABF852F29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DCC2-ED63-4A53-99FE-35F668F29B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ministers anno 2008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6C6A-7995-419E-9BB6-F1551DB218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egeerakkoord050207"/>
          <p:cNvPicPr/>
          <p:nvPr/>
        </p:nvPicPr>
        <p:blipFill>
          <a:blip r:embed="rId1"/>
          <a:stretch/>
        </p:blipFill>
        <p:spPr>
          <a:xfrm>
            <a:off x="2195640" y="3141720"/>
            <a:ext cx="4714920" cy="3429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7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5: De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3082-5C23-4D02-8F04-5BA713F7A9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5633-1294-4939-8958-8AE55A8F7D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bbe0e3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bbe0e3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bbe0e3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waarden zijn dingen en denkbeelden waar we waarde aan hechten. Aspecten die we belangrijk vinden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D703-B998-42B0-B046-1EDD7459C6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De re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4292-9EEE-4D13-AE00-CB2DA748F5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962D-799D-4FAC-A3AA-FC7CDC51B3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AF6E-56CD-43FC-B1BA-34706D463C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F3C4-992A-4046-B2DB-6BB166E5EA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vragen in een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a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DE19-9C4E-4C7D-B0EB-068ED1E4EF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1B15-4816-4C96-9495-FCCC3E22B2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C811-606A-49F8-81A9-47557AB9FC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87CD-6BDA-4A16-8F3A-7694795810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84A5-7910-447F-A38D-8F647C7BCB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327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4762-0DA8-43CD-8FC7-B3717D953D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bbe0e3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bbe0e3"/>
                </a:solidFill>
                <a:latin typeface="Arial"/>
              </a:rPr>
              <a:t> voortdurend opdringen van bepaalde meningen (met behulp van zeer intensieve psychologische middeltjes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EAAF-81B0-42CB-AD13-2CA2611406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F543-F2C4-4BBE-BD1F-735CB70EEB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AD14-2FBC-4728-9FC9-79D8A5C15A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51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3564000" y="5589720"/>
            <a:ext cx="360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iegeling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grote partijen in G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7822-1ECD-4C6C-977D-54C0580E2C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378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2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3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4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5"/>
          <p:cNvSpPr/>
          <p:nvPr/>
        </p:nvSpPr>
        <p:spPr>
          <a:xfrm>
            <a:off x="3564000" y="5589720"/>
            <a:ext cx="50403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heidscollege: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mmige fracties in GS (krijgt politieke kleur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354-0C14-4070-AE19-31177E0C6F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AA5E-9F93-47D6-99DA-7578247F44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CE3C-B0F4-4DD1-9704-34DA378183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23EC-8907-414F-A5FA-9B9B218094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0F0B-026D-4DF5-94A1-57BB151FBB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B958-69DD-4CC0-ADBC-4F33D3F2E6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C901-7C1B-43BC-B7AC-D6580BAE71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bbe0e3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bbe0e3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bbe0e3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bbe0e3"/>
                </a:solidFill>
                <a:uFillTx/>
                <a:latin typeface="Arial"/>
              </a:rPr>
              <a:t>H1: wat is maatschappijleer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F901-7257-46EA-895A-4A12EA1892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B351-0D4C-4A6D-B153-9C283114E1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3185-E7E8-47A8-A066-BC74515B26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D036-E14E-4670-B16D-68A2E60D51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BB59-0534-4E5E-9075-609635D893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International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44D1-8CFC-400C-B409-DC750A93AB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AC56-8DB4-41C2-A3A6-994597A69E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5462-F8FF-4C49-AF61-ABAA7F2E66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oofdstuk 3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623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eind oktober 2009                  Pagina 68 t/m 108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bi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tengenera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43B9-361D-4827-825C-1777523D7C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09-09-24T12:05:12Z</dcterms:modified>
  <cp:revision>62</cp:revision>
  <dc:subject/>
  <dc:title>Dia 1</dc:title>
</cp:coreProperties>
</file>