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99D-8779-4C61-B72A-7F6464DE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F87-35C1-4194-A4D6-06D06C0A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3D9-E36F-41F2-80B1-7A1D035D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F5C-1715-4611-AE1D-940FBFEB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C51-6D1E-49DE-BE4E-2FA612D6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949-8E5E-48D3-B662-F2D03EBF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B03-C481-432F-98F4-266D77D3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B4D-BA3F-4B69-877B-8B4CF015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247-8D9E-48CF-A56B-40CCD2E9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6E8-0D0D-4978-BAD8-09200CE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87C-F791-45DE-A8F5-BEC92EA7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5D4-5D65-4F1A-9067-AB0B5010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47A3-8881-4AF4-A776-422ADE73C8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B048-B3ED-4892-9F05-287EAC8FAC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  </a:t>
            </a:r>
            <a:r>
              <a:rPr b="1" lang="nl-NL" sz="3000" spc="-1" strike="noStrike">
                <a:solidFill>
                  <a:srgbClr val="19194d"/>
                </a:solidFill>
                <a:latin typeface="Arial"/>
              </a:rPr>
              <a:t>Sociale verzekeringen. </a:t>
            </a: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 De sociale verzekeringen zijn verplicht en er zijn 2 soorten de werknemers verzekering en de volks verzekering. </a:t>
            </a: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212A-BC9D-437D-A1BD-A47DC3BD02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ij"/>
          <p:cNvPicPr/>
          <p:nvPr/>
        </p:nvPicPr>
        <p:blipFill>
          <a:blip r:embed="rId1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Werknemersverzekeringen.  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Is voor mensen met loondienst. De premie die je moet betalen , hangt af van je loon en wordt ook van je salaris afgetrok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Volksverzekeringen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: gelden voor iedereen!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9D19-D4C3-4617-BF6F-9DB68D56F7A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ontslag"/>
          <p:cNvPicPr/>
          <p:nvPr/>
        </p:nvPicPr>
        <p:blipFill>
          <a:blip r:embed="rId1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6237-3917-41FC-8C36-6F60D98B8E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w -&gt; werklooshei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ulbz -&gt; wet uitkering loondoorbetaling bij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Zw -&gt; Ziekte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ia -&gt; wet werk en inkomen naar arbeids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Wel als je minsten 26 uur van de 36 gewerkt h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3 jaar &amp; 2 maanden gebruik maken van deze w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ontslagen wordt door je baas, krijg je van de overheid een WW (werkeloosheidswet). De eerste twee maanden 75% van je laatst verdiende loon en daarna 7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zelf ontslag neemt krijg je geen W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hthoek 6" descr=""/>
          <p:cNvPicPr/>
          <p:nvPr/>
        </p:nvPicPr>
        <p:blipFill>
          <a:blip r:embed="rId1"/>
          <a:stretch/>
        </p:blipFill>
        <p:spPr>
          <a:xfrm>
            <a:off x="1401840" y="255600"/>
            <a:ext cx="63831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rkgever die gedurende 2 jaar loon betaald aan werkg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Bepaalde situaties niet, die behoren bij ziektew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a twee jaar kom je bij de WIA. Je krijgt dan 70% van je laatst verdiende l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hthoek 6" descr=""/>
          <p:cNvPicPr/>
          <p:nvPr/>
        </p:nvPicPr>
        <p:blipFill>
          <a:blip r:embed="rId1"/>
          <a:stretch/>
        </p:blipFill>
        <p:spPr>
          <a:xfrm>
            <a:off x="2919240" y="384120"/>
            <a:ext cx="3895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412640"/>
            <a:ext cx="78343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iet iedereen heeft recht op een doorbetaalde WULBZ </a:t>
            </a:r>
            <a:r>
              <a:rPr b="0" lang="nl-NL" sz="3200" spc="-1" strike="noStrike">
                <a:solidFill>
                  <a:srgbClr val="19194d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 Dan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ls je een WW hebt krijg je een lagere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Geen recht op WULBZ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tijdelijk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zwangere werknee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usici arti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uitzendkr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ensen met een WW uit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krijgen vaak lagere ZW uitk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hthoek 7" descr=""/>
          <p:cNvPicPr/>
          <p:nvPr/>
        </p:nvPicPr>
        <p:blipFill>
          <a:blip r:embed="rId1"/>
          <a:stretch/>
        </p:blipFill>
        <p:spPr>
          <a:xfrm>
            <a:off x="2279520" y="255600"/>
            <a:ext cx="5048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C3B2-7334-411D-931B-22F5B832FB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191592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t inkomen naar arbeidsverle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rbeidsongeschik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Langer dan 2 jaar zi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oor je niet bij WULB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eb je uitkering van W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Kan deels worden toegewezen (voorbeeld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hthoek 6" descr=""/>
          <p:cNvPicPr/>
          <p:nvPr/>
        </p:nvPicPr>
        <p:blipFill>
          <a:blip r:embed="rId1"/>
          <a:stretch/>
        </p:blipFill>
        <p:spPr>
          <a:xfrm>
            <a:off x="3114720" y="401760"/>
            <a:ext cx="29876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51FE-9E84-4EA7-9A38-29D8147921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5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7B53-806B-481A-B548-4F1283D97E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75DD-9A37-4FA2-8A52-448D94F3A5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ED98-3EC2-4D8C-9C0B-B360162172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rcRect l="3543" t="34699" r="61612" b="19529"/>
          <a:stretch/>
        </p:blipFill>
        <p:spPr>
          <a:xfrm>
            <a:off x="1763640" y="476280"/>
            <a:ext cx="5688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EA66-D4C3-492C-A3F3-8E0EC438E5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24"/>
          <p:cNvCxnSpPr>
            <a:stCxn id="132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25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26"/>
          <p:cNvCxnSpPr>
            <a:endCxn id="134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7"/>
          <p:cNvCxnSpPr>
            <a:stCxn id="135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8"/>
          <p:cNvCxnSpPr>
            <a:stCxn id="137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30"/>
          <p:cNvCxnSpPr>
            <a:stCxn id="131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31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AutoShape 32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AutoShape 33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34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AutoShape 35"/>
          <p:cNvCxnSpPr>
            <a:stCxn id="129" idx="0"/>
            <a:endCxn id="132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36"/>
          <p:cNvCxnSpPr>
            <a:stCxn id="129" idx="1"/>
            <a:endCxn id="131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37"/>
          <p:cNvCxnSpPr>
            <a:stCxn id="130" idx="0"/>
            <a:endCxn id="133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38"/>
          <p:cNvCxnSpPr>
            <a:stCxn id="128" idx="0"/>
            <a:endCxn id="129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39"/>
          <p:cNvCxnSpPr>
            <a:stCxn id="128" idx="1"/>
            <a:endCxn id="130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DBAC-F079-499E-9F64-22123CD91A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dyn004_original_300_300_gif_3393_dff762f4410a90ec9f3116881b3b4adb"/>
          <p:cNvPicPr/>
          <p:nvPr/>
        </p:nvPicPr>
        <p:blipFill>
          <a:blip r:embed="rId1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75EF-BD07-4E0A-9FD6-EE5C6488D0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A134-2DB3-4E35-AC4B-A86F2B78BD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n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rijf 9 begrippen op uit de lij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k beschrijf het be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orstrepen als je begrip is gewe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s weg: BINGO! = prij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099"/>
          <p:cNvPicPr/>
          <p:nvPr/>
        </p:nvPicPr>
        <p:blipFill>
          <a:blip r:embed="rId1"/>
          <a:stretch/>
        </p:blipFill>
        <p:spPr>
          <a:xfrm>
            <a:off x="6516720" y="3936960"/>
            <a:ext cx="2071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BD66-FB4C-4654-A392-5162B5E326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hthoek 4" descr=""/>
          <p:cNvPicPr/>
          <p:nvPr/>
        </p:nvPicPr>
        <p:blipFill>
          <a:blip r:embed="rId1"/>
          <a:stretch/>
        </p:blipFill>
        <p:spPr>
          <a:xfrm>
            <a:off x="1444680" y="165240"/>
            <a:ext cx="5400720" cy="1974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www.cov-oostvlaanderen.be/images/zijn%20er%20nog%20vragen.jpg"/>
          <p:cNvPicPr/>
          <p:nvPr/>
        </p:nvPicPr>
        <p:blipFill>
          <a:blip r:embed="rId2"/>
          <a:stretch/>
        </p:blipFill>
        <p:spPr>
          <a:xfrm>
            <a:off x="1928880" y="2214720"/>
            <a:ext cx="45338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D66-C18E-41E9-80D5-B27D676E27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F6D4-A3B8-468A-9034-7D758F72CD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133720" y="1523880"/>
            <a:ext cx="6858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evereiniteit in eigen kring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rotestants-christelij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atschappelijke groepen bi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eigen kring moeten voor elkaar zorgen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verheid niet mee bemoei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bsidariteitsbeginse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atholie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inanciering armenzorg door overh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wel geaccepteer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zodra burgers zelf initiatieven toond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overheid terugtrekk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DBDC-D06E-4D53-830E-12C954BD81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§4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F0F0-DB18-421D-9F2D-6FCC522500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1148-092D-4F43-BED9-8F0B42E07C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6709-D7CD-4749-B5BD-10FA835212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3-03-08T12:14:44Z</dcterms:modified>
  <cp:revision>63</cp:revision>
  <dc:subject/>
  <dc:title>Dia 1</dc:title>
</cp:coreProperties>
</file>