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6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E6DE-A010-4B03-B3EF-04C8CC6437E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9925-901B-4DA7-B96D-81B5C5676DF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4811-9CC6-4FF9-ADA0-BE254090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EC0C-EDB4-44CC-A81E-8FFCDE5C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C82F-6ADA-4A77-915C-3ED8D4B4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512B-9F02-49CE-BD42-E2E6BC11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81C-C368-4FFA-A988-669B0BDA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FE34-23A5-4D58-A448-41DAC3E5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E48E-48B3-4043-AF8C-C9DC3DB8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EFA3-7398-44A0-B2E4-0BC0078B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0E29-4EE2-451C-96C1-C7B97758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690-71D4-4CB1-BB40-4447CE47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2625-DEDC-4F20-A230-93E698B2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AA5-7D1C-451D-9FF2-2C709854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A7D0-37AF-4FC5-97BC-FECB96F02BD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4: Strafrecht: de opspo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90792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Wetboek van strafrecht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:(materieel strafrech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e belangrijkste wetten in Nederland staan hier in (buiten de grondwet da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Wat de strafbare feiten zijn en welke straffen ervoor kunnen uitgesproken wo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Strafbare feiten omschrev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Zoals: moord, diefstal, oplichting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Wetboek van strafvordering: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(formeel strafrech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bepaalt hoe strafbare feiten vervolgd wo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behandelt de hele procedure van aanhouding t/m de strafoplegging door de rech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eze twee wetboeken vormen de basis van het Nederlandse strafrech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3CEF-D374-46AC-B435-0EEB29E5793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653E-25FE-4BDD-9D14-665644DF11E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63640" y="220500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Taken van de officier van justiti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en uitvoeren van opgelegde vonniss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orgen dat veroordeelden hun straf uitzit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iding geven aan opsporingsonderzoek/ opsporingstaa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volgen van strafbare fei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e rechter brengen van verda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klagen van verdacht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jail"/>
          <p:cNvPicPr/>
          <p:nvPr/>
        </p:nvPicPr>
        <p:blipFill>
          <a:blip r:embed="rId3"/>
          <a:stretch/>
        </p:blipFill>
        <p:spPr>
          <a:xfrm>
            <a:off x="0" y="1052640"/>
            <a:ext cx="148608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rcRect l="17982" t="12065" r="17265" b="4859"/>
          <a:stretch/>
        </p:blipFill>
        <p:spPr>
          <a:xfrm>
            <a:off x="324000" y="476280"/>
            <a:ext cx="8424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4: Strafrecht: De opsp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chtshandh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andhaven van de rechts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vb: staand houden als je zonder licht rijd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anspreken bij wildp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brekers arrest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chts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lke verdachte heeft re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Redelijk vermoeden van sch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iet antwoorden op v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B1D2-4596-45A1-B91B-DC295F16A4D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4 straftecht: De opsporing</a:t>
            </a: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Strafbaar gedrag: 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at je wetregels overtreed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Criminaliteit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: alle misdrijven die in de wet sta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misdrijf: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overtre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Vernieling, diefstal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- rijden zonder licht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inbraak, verkrachting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oor rood rij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Strafblad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- geen strafbl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Gevangenis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-hechte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Medeplichtig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-niet medeplich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( Zwaardere straf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-minder zware stra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(Crimineel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-overtreder/ of nie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5D7F-64E8-433E-BA1B-1445B117B0D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stopPolitie"/>
          <p:cNvPicPr/>
          <p:nvPr/>
        </p:nvPicPr>
        <p:blipFill>
          <a:blip r:embed="rId1"/>
          <a:stretch/>
        </p:blipFill>
        <p:spPr>
          <a:xfrm>
            <a:off x="7559640" y="1214280"/>
            <a:ext cx="158436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0404-3E00-4CE2-97E5-CA2BE0E2B2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-181080" y="1125360"/>
            <a:ext cx="8496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ieter is nu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rdacht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politie denkt dat je iets strafbaars hebt gedaan. Een redelijk vermoeden van schul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De procedur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tap 1: de politie verzamelt informa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politie kan een aantal  dwangmiddelen gebruiken om een zaak op te loss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55640" y="3789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taande houd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ten stilstaan, id vragen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82692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rrest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moet mee naar het politiebureau voor verhoor. (je kan een paar dagen worden vastgehouden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900000" y="558972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In beslage nam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ewijsmateriaal innem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politie"/>
          <p:cNvPicPr/>
          <p:nvPr/>
        </p:nvPicPr>
        <p:blipFill>
          <a:blip r:embed="rId1"/>
          <a:stretch/>
        </p:blipFill>
        <p:spPr>
          <a:xfrm>
            <a:off x="7596360" y="1628640"/>
            <a:ext cx="1349280" cy="1690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"/>
          <p:cNvSpPr/>
          <p:nvPr/>
        </p:nvSpPr>
        <p:spPr>
          <a:xfrm>
            <a:off x="755640" y="4221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Fouill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kleding en lichaam wordt onderzoch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900000" y="602136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asthoud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…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5445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Let op: de tijd tussen 00.00 middernacht en 09.00 uur ‘s ochtends wordt hierbij niet meegerekend. In de nachtelijke uren mag je overigens wel door de politie worden verho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E036-0275-4B22-9422-786EEE36FB8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rcRect l="30002" t="11412" r="2498" b="26629"/>
          <a:stretch/>
        </p:blipFill>
        <p:spPr>
          <a:xfrm>
            <a:off x="285840" y="1643040"/>
            <a:ext cx="8629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BB87-7496-4DC8-8892-018903272DA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-181080" y="1125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wangmiddelen met toestemming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95280" y="3068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Opvragen gegevens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telefoontabs, creditcard gebruik, etc alleen met toestemming van OVJ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395280" y="551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Infiltrati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et toestemming van rechter-commissaris infiltreren in misdaad organisaties. (uitlokken mag niet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24000" y="162864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uis doorzoek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zoeken naar bewijsmateriaal. Huiszoekingsbevel nodig: een machtiging tot binnentreding van rechter-commissar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politie"/>
          <p:cNvPicPr/>
          <p:nvPr/>
        </p:nvPicPr>
        <p:blipFill>
          <a:blip r:embed="rId1"/>
          <a:stretch/>
        </p:blipFill>
        <p:spPr>
          <a:xfrm>
            <a:off x="7596360" y="1628640"/>
            <a:ext cx="1349280" cy="1690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"/>
          <p:cNvSpPr/>
          <p:nvPr/>
        </p:nvSpPr>
        <p:spPr>
          <a:xfrm>
            <a:off x="395280" y="4221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In voorarrest houd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na de aanhouding langer vasthouden. Toestemming OvJ en rechter-commissar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B01A-1AF4-4B2F-B4DC-180B8AFD010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rcRect l="29543" t="32465" r="29119" b="36049"/>
          <a:stretch/>
        </p:blipFill>
        <p:spPr>
          <a:xfrm>
            <a:off x="684360" y="1268280"/>
            <a:ext cx="3600360" cy="2057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police.gif police image by scottametz"/>
          <p:cNvPicPr/>
          <p:nvPr/>
        </p:nvPicPr>
        <p:blipFill>
          <a:blip r:embed="rId2"/>
          <a:stretch/>
        </p:blipFill>
        <p:spPr>
          <a:xfrm>
            <a:off x="5219640" y="1268280"/>
            <a:ext cx="2737080" cy="2052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395280" y="3379680"/>
            <a:ext cx="842472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Stap 2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: politie geeft het proces verbaal aan de Officier van Justitie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Deze gaat de zaak verder onderzoeken in het opsporingsonderzoek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Hij heeft 3 keuzes, maar besluit dat Pieter voor de rechter moet komen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Stap 3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: Enkele weken voor de rechtszitting krijgt Pieter een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dagvaarding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. Dat is de oproep om voor de rechter te verschijnen. Pieter moet niet voor de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politierechter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komen (die is alleen bij lichte misdrijven) maar bij de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meervoudige kamer.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Deze bestaat uit 3 rechters en is bedoeld voor zware misdrijven zoals moord en mishandeling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De rechter beslist wat er met Pieter gebeurd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DB23-AF3C-4803-8176-8F48852CE1D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1916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3 keuzes:</a:t>
            </a:r>
            <a:r>
              <a:rPr b="0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9640" y="4581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rvolg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moet WEL  naar de rechter. De rechter zal beslissen of je schuldig of onschuldig ben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9640" y="3860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chikking/transacti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hoeft niet naar de rechter. Je kan een boete betalen of iets dergelijks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042920" y="5373720"/>
            <a:ext cx="748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Vrijspraak: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als de rechter bij vervolging beslist dat je onschuldig ben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Schuldig: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als de rechter bij vervolging beslist dat er genoeg bewijs tegen je is, ben je schuldig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9"/>
          <p:cNvGraphicFramePr/>
          <p:nvPr/>
        </p:nvGraphicFramePr>
        <p:xfrm>
          <a:off x="6286680" y="1285920"/>
          <a:ext cx="2577960" cy="142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6680" y="1285920"/>
                    <a:ext cx="25779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11"/>
          <p:cNvSpPr/>
          <p:nvPr/>
        </p:nvSpPr>
        <p:spPr>
          <a:xfrm>
            <a:off x="611280" y="2708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epon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vJ onderneemt geen stappen.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hoeft niet naar de rechter. Vaak door onvoldoende bewijs, of als je al ‘genoeg gestraft’ ben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D809-CED4-4784-8FDC-4C3CDEC970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12"/>
          <p:cNvGraphicFramePr/>
          <p:nvPr/>
        </p:nvGraphicFramePr>
        <p:xfrm>
          <a:off x="179280" y="1989000"/>
          <a:ext cx="8815320" cy="390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881532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Beheerder</cp:lastModifiedBy>
  <dcterms:modified xsi:type="dcterms:W3CDTF">2013-04-15T19:43:35Z</dcterms:modified>
  <cp:revision>160</cp:revision>
  <dc:subject/>
  <dc:title>Dia 1</dc:title>
</cp:coreProperties>
</file>