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1765-ABB3-47AC-B004-FE73E01DF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7EC3-923C-416D-985F-395F8956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4D17-2948-40FD-90E3-F37CD167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4599-7CF9-4601-9550-845EEE07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F808-A155-4960-BB6C-92716A1B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1E49-5482-4DA9-97C9-55FBFA2C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12F9-C188-45E8-8DCF-E0207B3D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E87F-E941-41BD-8963-C96F0240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1B6-C787-4FE5-A03E-AE3DBCB2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B39A-0438-4519-82DA-04D412D2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C655-C453-4E87-A9EC-BC72C75A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5B50-6981-41F7-BB35-8252274E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D07E-D86E-480E-AE82-94BBA604A6F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aylorssolicitors.com/home.htm" TargetMode="External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4C36-70BD-40C5-ACC6-1011712BF27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549440" y="-243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280" y="40428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rechtbank"/>
          <p:cNvPicPr/>
          <p:nvPr/>
        </p:nvPicPr>
        <p:blipFill>
          <a:blip r:embed="rId1"/>
          <a:srcRect l="0" t="0" r="0" b="32627"/>
          <a:stretch/>
        </p:blipFill>
        <p:spPr>
          <a:xfrm>
            <a:off x="1979640" y="1916280"/>
            <a:ext cx="4802040" cy="4941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3"/>
          <p:cNvSpPr/>
          <p:nvPr/>
        </p:nvSpPr>
        <p:spPr>
          <a:xfrm>
            <a:off x="250920" y="2205000"/>
            <a:ext cx="172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Officier van justitie: </a:t>
            </a:r>
            <a:br>
              <a:rPr sz="1600"/>
            </a:b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wil bewijzen dat de verdachte schuldig 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6877080" y="4653000"/>
            <a:ext cx="1728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Advocaat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verdedigt de verdachte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6877080" y="3284640"/>
            <a:ext cx="22669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Verdachte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de persoon die verdacht wordt van een misdrijf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6877080" y="1916280"/>
            <a:ext cx="1728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Griffier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Noteert alles wat er gezegd wordt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2771640" y="981000"/>
            <a:ext cx="396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Rechter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Beslist of de verdachte schuldig is en bepaalt de straf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2627280" y="141300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 flipH="1">
            <a:off x="665928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0"/>
          <p:cNvSpPr/>
          <p:nvPr/>
        </p:nvSpPr>
        <p:spPr>
          <a:xfrm flipH="1">
            <a:off x="5292360" y="3284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1"/>
          <p:cNvSpPr/>
          <p:nvPr/>
        </p:nvSpPr>
        <p:spPr>
          <a:xfrm flipH="1" flipV="1">
            <a:off x="6443640" y="422100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140328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9AF3-1B86-4534-8EA5-6A27E212A69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RECHTSPRAAK"/>
          <p:cNvPicPr/>
          <p:nvPr/>
        </p:nvPicPr>
        <p:blipFill>
          <a:blip r:embed="rId1"/>
          <a:stretch/>
        </p:blipFill>
        <p:spPr>
          <a:xfrm>
            <a:off x="1908000" y="2276640"/>
            <a:ext cx="5010480" cy="3809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82F0-8FCF-44A4-A7B5-95F4C2A931B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0" t="0" r="70754" b="15652"/>
          <a:stretch/>
        </p:blipFill>
        <p:spPr>
          <a:xfrm>
            <a:off x="2857680" y="1143000"/>
            <a:ext cx="4357440" cy="5780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-1549440" y="-243000"/>
            <a:ext cx="855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§ 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7C68-EBF2-4362-9190-D0B0D5B38C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50920" y="981000"/>
            <a:ext cx="828036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ieter weet precies wat er gaat gebeur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pening: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rechter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controleert all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persoonlijke gegevens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. (naam, geboortedatum, adre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Tenlastenlegging: OvJ leest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anklacht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voor. Daarin staat waarvan Pieter verdacht wordt en wanneer het is gebeur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nderzoek: De rechter, de OvJ en de advocaat gaan Pieter nu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ragen stellen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. Bvb of hij wel eens eerder met de politie te maken heeft gehad. Persoonlijke omstandighe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Een vriend is opgeroepen als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getuige.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Hij moet eerlijk vertellen wat er is gebeurd. Getuiges mogen niet lieg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judge"/>
          <p:cNvPicPr/>
          <p:nvPr/>
        </p:nvPicPr>
        <p:blipFill>
          <a:blip r:embed="rId2"/>
          <a:stretch/>
        </p:blipFill>
        <p:spPr>
          <a:xfrm>
            <a:off x="7286760" y="620640"/>
            <a:ext cx="185724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7BD4-486B-4EDF-9FEE-2E2E9DBE9FB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0400" y="-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50920" y="1700280"/>
            <a:ext cx="8280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5. Requisitoir: De OvJ legt uit waarom hij vindt dat Pieter 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huldig is en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eist een straf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6. Pleidooi: De advocaat neemt het dan op voor Pieter en vraagt om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trafverminde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7. Laatste woord: Pieter mag als verdachte zelf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et laatste woord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hebben en spijt betuigen, onschuld benadrukken, schade door straf uitleg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8. Vonnis: De rechter veroordeelt Pieter tot 2 maanden voorwaardelijke gevangenisstraf en 120 uur taakstraf.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oorwaardelijk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betekent dat Pieter voorlopig niet de gevangenis in hoeft, tenzij hij weer zoiets stoms doe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Enter Taylors Solicitors web p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40720" y="476280"/>
            <a:ext cx="1609560" cy="1609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jail"/>
          <p:cNvPicPr/>
          <p:nvPr/>
        </p:nvPicPr>
        <p:blipFill>
          <a:blip r:embed="rId3"/>
          <a:stretch/>
        </p:blipFill>
        <p:spPr>
          <a:xfrm>
            <a:off x="0" y="549360"/>
            <a:ext cx="148608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51AC-F9F4-4043-970A-ABC53A31A6E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04BA-9FC7-4105-8132-78516FE1350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judge"/>
          <p:cNvPicPr/>
          <p:nvPr/>
        </p:nvPicPr>
        <p:blipFill>
          <a:blip r:embed="rId1"/>
          <a:stretch/>
        </p:blipFill>
        <p:spPr>
          <a:xfrm>
            <a:off x="3429000" y="1428840"/>
            <a:ext cx="2730600" cy="2367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285840" y="3857760"/>
            <a:ext cx="4352760" cy="2581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5500800" y="3857760"/>
            <a:ext cx="34002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B6A9-29EF-4BA1-8ABF-021A61CF8A8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0" y="692280"/>
            <a:ext cx="806436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Soorten straffen: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68360" y="1989000"/>
            <a:ext cx="84945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Hoofdstraffen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: Vrijheidsstraf (zoals gevangenisstraf/hechtenis}, geldboete, taakstraf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468360" y="3141720"/>
            <a:ext cx="7848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Bijkomendestraf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: zoals rijbewijs inleveren, straatverbod, geen bevoegdheid meer, etc.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95280" y="4292640"/>
            <a:ext cx="79930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- Maatregelen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TBS (ter Beschikking stelling aan de staat), agressietraining, ontneming wederrechtelijk voordeel, schadevergoeding, etc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police"/>
          <p:cNvPicPr/>
          <p:nvPr/>
        </p:nvPicPr>
        <p:blipFill>
          <a:blip r:embed="rId1"/>
          <a:stretch/>
        </p:blipFill>
        <p:spPr>
          <a:xfrm>
            <a:off x="7524720" y="1484280"/>
            <a:ext cx="1333440" cy="1333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2"/>
          <p:cNvSpPr/>
          <p:nvPr/>
        </p:nvSpPr>
        <p:spPr>
          <a:xfrm>
            <a:off x="611280" y="5516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Pieter krijgt van de rechter 2 maanden voorwaardelijk en een taakstraf als hoofdstraf en de maatregel dat hij agressietraining moet vol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7FD2-640C-45A4-8407-C6099ED5AD4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1341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trafrecht voor minderjari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468360" y="1989000"/>
            <a:ext cx="8494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Kinderen &gt; 12 jaar &lt; 18 jaar. 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68360" y="342900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kinderrechter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jeugdgevangenis.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95280" y="4221000"/>
            <a:ext cx="7993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- Bij stoornissen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behandelcentra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4" descr="police"/>
          <p:cNvPicPr/>
          <p:nvPr/>
        </p:nvPicPr>
        <p:blipFill>
          <a:blip r:embed="rId1"/>
          <a:stretch/>
        </p:blipFill>
        <p:spPr>
          <a:xfrm>
            <a:off x="6516720" y="1700280"/>
            <a:ext cx="1333440" cy="1333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468360" y="2708280"/>
            <a:ext cx="8494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HALT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het alternatief: taakstraf 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Beheerder</cp:lastModifiedBy>
  <dcterms:modified xsi:type="dcterms:W3CDTF">2013-04-15T19:51:52Z</dcterms:modified>
  <cp:revision>156</cp:revision>
  <dc:subject/>
  <dc:title>Dia 1</dc:title>
</cp:coreProperties>
</file>