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793-61C6-40A2-A567-55BAE15C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116-B47C-497A-B541-008A80FB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9DA-CBA6-40BA-9D56-9846FDF8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9F1-7E86-4CC5-AB68-2D8FB2AB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72B-B8FF-4DC3-8AF5-5475625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6DC-0D37-4D27-9A69-597B92C2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D43-AD26-4F44-A587-003952F4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BDC-5BDF-4A8E-BBB4-FD00EB9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763-F26A-4956-95D0-D220B799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196-71DD-4058-ACE6-628EAF0A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26D-9C6F-4876-834D-0124CDB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86D-9D8E-4910-8897-2E7AD6C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AAC-3FC5-4D01-80CE-BE1F4F20E4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188C-9470-457D-8030-878F0423A3B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602-B884-4021-BD1C-A060303131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67B-D8ED-4170-948A-BB9883AC05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70754" b="15652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1549440" y="-243000"/>
            <a:ext cx="85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§ 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E93-0D32-490B-A79F-7D545C5E66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0920" y="981000"/>
            <a:ext cx="82803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pening: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nlastenlegging: 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nderzoek: 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. Persoonlijke omstandigh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judge"/>
          <p:cNvPicPr/>
          <p:nvPr/>
        </p:nvPicPr>
        <p:blipFill>
          <a:blip r:embed="rId2"/>
          <a:stretch/>
        </p:blipFill>
        <p:spPr>
          <a:xfrm>
            <a:off x="7286760" y="62064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E082-D9BA-4125-9272-1520E7E3DE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170028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Requisitoir: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Pleidooi: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Laatste woord: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, onschuld benadrukken, schade door straf uitleg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Vonnis: De rechter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47628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ail"/>
          <p:cNvPicPr/>
          <p:nvPr/>
        </p:nvPicPr>
        <p:blipFill>
          <a:blip r:embed="rId3"/>
          <a:stretch/>
        </p:blipFill>
        <p:spPr>
          <a:xfrm>
            <a:off x="0" y="54936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DA7D-AA0A-4DCA-9DFB-9678C54DE5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5F9-B2BC-44E2-8BF0-801D9AAA7E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F5BB-86B8-40F0-9904-CBF12B09E8F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69228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68360" y="1989000"/>
            <a:ext cx="84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Vrijheidsstraf (zoals gevangenisstraf/hechtenis}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68360" y="3141720"/>
            <a:ext cx="784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, straatverbod, geen bevoegdheid meer, etc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95280" y="429264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ontneming wederrechtelijk voordeel, schadevergoed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police"/>
          <p:cNvPicPr/>
          <p:nvPr/>
        </p:nvPicPr>
        <p:blipFill>
          <a:blip r:embed="rId1"/>
          <a:stretch/>
        </p:blipFill>
        <p:spPr>
          <a:xfrm>
            <a:off x="7524720" y="1484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9FA7-FFFC-4128-80E8-232473F090D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</a:t>
            </a:r>
            <a:r>
              <a:rPr b="0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5: Strafrecht: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41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afrecht voor minderjari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8360" y="198900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en &gt; 12 jaar &lt; 18 jaar.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68360" y="342900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kinderrechter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jeugdgevangenis.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4221000"/>
            <a:ext cx="7993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Bij stoorniss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behandelcentra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police"/>
          <p:cNvPicPr/>
          <p:nvPr/>
        </p:nvPicPr>
        <p:blipFill>
          <a:blip r:embed="rId1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468360" y="2708280"/>
            <a:ext cx="849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ALT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het alternatief: taakstraf 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51:52Z</dcterms:modified>
  <cp:revision>156</cp:revision>
  <dc:subject/>
  <dc:title>Dia 1</dc:title>
</cp:coreProperties>
</file>