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789-2810-4394-BE3E-C12EFA7D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3F2-06F9-435A-A256-E2A5AA10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39A-C90C-4EBE-BA99-AE4CFA42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F2A-DF4D-4F51-BF80-0DA899A8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AF7-0ACA-434E-8441-63599917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094-1FDF-46D9-8565-DD6E0D96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FFD-B5DC-438E-8EB2-957666F6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03B-AC58-487F-91B5-446BC64D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0F8-AF9D-4ED0-9C63-21D8FFF6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4F3E-158D-42CE-AB72-44EA1B4B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30B-76FB-491E-914C-D7B87565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8A0-183C-45F9-B6D4-6E17F834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7AD5-4FE8-430A-AB57-49C1F9DE10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fZcl-UQE0&amp;feature=related" TargetMode="External"/><Relationship Id="rId2" Type="http://schemas.openxmlformats.org/officeDocument/2006/relationships/hyperlink" Target="http://www.youtube.com/watch?v=2bfZcl-UQE0&amp;feature=related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9202-4DB1-4003-BC81-66D7AFFA04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5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  </a:t>
            </a:r>
            <a:r>
              <a:rPr b="1" lang="nl-NL" sz="3000" spc="-1" strike="noStrike">
                <a:solidFill>
                  <a:srgbClr val="19194d"/>
                </a:solidFill>
                <a:latin typeface="Arial"/>
              </a:rPr>
              <a:t>Sociale verzekeringen. </a:t>
            </a:r>
            <a:r>
              <a:rPr b="0" lang="nl-NL" sz="3000" spc="-1" strike="noStrike">
                <a:solidFill>
                  <a:srgbClr val="19194d"/>
                </a:solidFill>
                <a:latin typeface="Arial"/>
              </a:rPr>
              <a:t> De sociale verzekeringen zijn verplicht en er zijn 2 soorten de werknemers verzekering en de volks verzekering. </a:t>
            </a: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479A-2E74-4938-A090-9E280EC487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sociale zekerheid gere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ij"/>
          <p:cNvPicPr/>
          <p:nvPr/>
        </p:nvPicPr>
        <p:blipFill>
          <a:blip r:embed="rId1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ULBZ: Als je ziek wordt. 2 jaar lang 70% van je loon krij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Werknemersverzekeringen.  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Is voor mensen met loondienst. De premie die je moet betalen , hangt af van je loon en wordt ook van je salaris afgetrokk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19194d"/>
                </a:solidFill>
                <a:latin typeface="Arial"/>
              </a:rPr>
              <a:t>Volksverzekeringen</a:t>
            </a:r>
            <a:r>
              <a:rPr b="0" lang="nl-NL" sz="3600" spc="-1" strike="noStrike">
                <a:solidFill>
                  <a:srgbClr val="19194d"/>
                </a:solidFill>
                <a:latin typeface="Arial"/>
              </a:rPr>
              <a:t>: gelden voor iedereen!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                      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2bfZcl-UQE0&amp;feature=related</a:t>
            </a:r>
            <a:r>
              <a:rPr b="0" lang="nl-NL" sz="1200" spc="-1" strike="noStrike">
                <a:solidFill>
                  <a:srgbClr val="1919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B701-008E-45EE-857B-7B0E682765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8207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ontslag"/>
          <p:cNvPicPr/>
          <p:nvPr/>
        </p:nvPicPr>
        <p:blipFill>
          <a:blip r:embed="rId1"/>
          <a:stretch/>
        </p:blipFill>
        <p:spPr>
          <a:xfrm>
            <a:off x="6019920" y="2971800"/>
            <a:ext cx="2790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1CCC-4929-4017-824B-FDC43A80C8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w -&gt; werklooshei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ulbz -&gt; wet uitkering loondoorbetaling bij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Zw -&gt; Ziekte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ia -&gt; wet werk en inkomen naar arbeids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hthoek 9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5553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Wel als je minsten 26 uur van de 36 gewerkt he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3 jaar &amp; 2 maanden gebruik maken van deze w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ontslagen wordt door je baas, krijg je van de overheid een WW (werkeloosheidswet). De eerste twee maanden 75% van je laatst verdiende loon en daarna 7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Als je zelf ontslag neemt krijg je geen W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hthoek 6" descr=""/>
          <p:cNvPicPr/>
          <p:nvPr/>
        </p:nvPicPr>
        <p:blipFill>
          <a:blip r:embed="rId1"/>
          <a:stretch/>
        </p:blipFill>
        <p:spPr>
          <a:xfrm>
            <a:off x="1401840" y="255600"/>
            <a:ext cx="63831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rkgever die gedurende 2 jaar loon betaald aan werkg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Bepaalde situaties niet, die behoren bij ziektew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a twee jaar kom je bij de WIA. Je krijgt dan 70% van je laatst verdiende l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hthoek 6" descr=""/>
          <p:cNvPicPr/>
          <p:nvPr/>
        </p:nvPicPr>
        <p:blipFill>
          <a:blip r:embed="rId1"/>
          <a:stretch/>
        </p:blipFill>
        <p:spPr>
          <a:xfrm>
            <a:off x="2919240" y="384120"/>
            <a:ext cx="3895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412640"/>
            <a:ext cx="78343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Niet iedereen heeft recht op een doorbetaalde WULBZ </a:t>
            </a:r>
            <a:r>
              <a:rPr b="0" lang="nl-NL" sz="3200" spc="-1" strike="noStrike">
                <a:solidFill>
                  <a:srgbClr val="19194d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 Dan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ls je een WW hebt krijg je een lagere Z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Geen recht op WULBZ 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tijdelijk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zwangere werkneem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usici arti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uitzendkr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- mensen met een WW uit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19194d"/>
                </a:solidFill>
                <a:latin typeface="Arial"/>
              </a:rPr>
              <a:t>krijgen vaak lagere ZW uitk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Rechthoek 7" descr=""/>
          <p:cNvPicPr/>
          <p:nvPr/>
        </p:nvPicPr>
        <p:blipFill>
          <a:blip r:embed="rId1"/>
          <a:stretch/>
        </p:blipFill>
        <p:spPr>
          <a:xfrm>
            <a:off x="2279520" y="255600"/>
            <a:ext cx="50482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17CF-8E69-46E0-9CFA-1C33B50775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191592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Wet inkomen naar arbeidsverle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Arbeidsongeschik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Langer dan 2 jaar zi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oor je niet bij WULB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Heb je uitkering van W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19194d"/>
                </a:solidFill>
                <a:latin typeface="Arial"/>
              </a:rPr>
              <a:t>Kan deels worden toegewezen (voorbeeld 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hthoek 6" descr=""/>
          <p:cNvPicPr/>
          <p:nvPr/>
        </p:nvPicPr>
        <p:blipFill>
          <a:blip r:embed="rId1"/>
          <a:stretch/>
        </p:blipFill>
        <p:spPr>
          <a:xfrm>
            <a:off x="3114720" y="401760"/>
            <a:ext cx="298764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D9E7-F47E-4EB6-BEF3-7ED1DB9105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2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5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1BD1-30ED-47A8-BB20-1F627DACFB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EB78-6636-4788-82B2-8A835911BB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A1BE-E506-4AA6-B5C9-0F6784158D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rcRect l="3543" t="34699" r="61612" b="19529"/>
          <a:stretch/>
        </p:blipFill>
        <p:spPr>
          <a:xfrm>
            <a:off x="1763640" y="476280"/>
            <a:ext cx="56880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965C-3D3C-4164-8A7A-A14EDF7873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sociale zekerheid gereg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876240" y="1295280"/>
            <a:ext cx="7391520" cy="1295640"/>
          </a:xfrm>
          <a:prstGeom prst="downArrowCallout">
            <a:avLst>
              <a:gd name="adj1" fmla="val 48760"/>
              <a:gd name="adj2" fmla="val 143600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724280" y="2743200"/>
            <a:ext cx="4419720" cy="857160"/>
          </a:xfrm>
          <a:prstGeom prst="downArrowCallout">
            <a:avLst>
              <a:gd name="adj1" fmla="val 44071"/>
              <a:gd name="adj2" fmla="val 12978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3124080" y="4038480"/>
            <a:ext cx="2895840" cy="1173240"/>
          </a:xfrm>
          <a:prstGeom prst="downArrowCallout">
            <a:avLst>
              <a:gd name="adj1" fmla="val 21096"/>
              <a:gd name="adj2" fmla="val 62129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0" y="4038480"/>
            <a:ext cx="2895480" cy="1173240"/>
          </a:xfrm>
          <a:prstGeom prst="downArrowCallout">
            <a:avLst>
              <a:gd name="adj1" fmla="val 21094"/>
              <a:gd name="adj2" fmla="val 62121"/>
              <a:gd name="adj3" fmla="val 14583"/>
              <a:gd name="adj4" fmla="val 66667"/>
            </a:avLst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6172200" y="4038480"/>
            <a:ext cx="2743200" cy="76212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52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2438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4267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1295280" y="5867280"/>
            <a:ext cx="1067040" cy="60984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6553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5410080" y="5791320"/>
            <a:ext cx="1067040" cy="609480"/>
          </a:xfrm>
          <a:prstGeom prst="rect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24"/>
          <p:cNvCxnSpPr>
            <a:stCxn id="132" idx="0"/>
          </p:cNvCxnSpPr>
          <p:nvPr/>
        </p:nvCxnSpPr>
        <p:spPr>
          <a:xfrm>
            <a:off x="1447560" y="52113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25"/>
          <p:cNvCxnSpPr/>
          <p:nvPr/>
        </p:nvCxnSpPr>
        <p:spPr>
          <a:xfrm>
            <a:off x="685800" y="556236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26"/>
          <p:cNvCxnSpPr>
            <a:endCxn id="134" idx="0"/>
          </p:cNvCxnSpPr>
          <p:nvPr/>
        </p:nvCxnSpPr>
        <p:spPr>
          <a:xfrm>
            <a:off x="685440" y="5562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7"/>
          <p:cNvCxnSpPr>
            <a:stCxn id="135" idx="0"/>
          </p:cNvCxnSpPr>
          <p:nvPr/>
        </p:nvCxnSpPr>
        <p:spPr>
          <a:xfrm flipV="1">
            <a:off x="2971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8"/>
          <p:cNvCxnSpPr>
            <a:stCxn id="137" idx="0"/>
          </p:cNvCxnSpPr>
          <p:nvPr/>
        </p:nvCxnSpPr>
        <p:spPr>
          <a:xfrm flipV="1">
            <a:off x="1828440" y="5562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30"/>
          <p:cNvCxnSpPr>
            <a:stCxn id="131" idx="0"/>
          </p:cNvCxnSpPr>
          <p:nvPr/>
        </p:nvCxnSpPr>
        <p:spPr>
          <a:xfrm>
            <a:off x="4571640" y="5211360"/>
            <a:ext cx="2307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AutoShape 31"/>
          <p:cNvCxnSpPr/>
          <p:nvPr/>
        </p:nvCxnSpPr>
        <p:spPr>
          <a:xfrm>
            <a:off x="4800600" y="548604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AutoShape 32"/>
          <p:cNvCxnSpPr/>
          <p:nvPr/>
        </p:nvCxnSpPr>
        <p:spPr>
          <a:xfrm>
            <a:off x="4800240" y="54860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AutoShape 33"/>
          <p:cNvCxnSpPr/>
          <p:nvPr/>
        </p:nvCxnSpPr>
        <p:spPr>
          <a:xfrm flipV="1">
            <a:off x="7086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AutoShape 34"/>
          <p:cNvCxnSpPr/>
          <p:nvPr/>
        </p:nvCxnSpPr>
        <p:spPr>
          <a:xfrm flipV="1">
            <a:off x="5943240" y="54856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AutoShape 35"/>
          <p:cNvCxnSpPr>
            <a:stCxn id="129" idx="0"/>
            <a:endCxn id="132" idx="1"/>
          </p:cNvCxnSpPr>
          <p:nvPr/>
        </p:nvCxnSpPr>
        <p:spPr>
          <a:xfrm flipH="1">
            <a:off x="1447560" y="3600000"/>
            <a:ext cx="7624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36"/>
          <p:cNvCxnSpPr>
            <a:stCxn id="129" idx="1"/>
            <a:endCxn id="131" idx="1"/>
          </p:cNvCxnSpPr>
          <p:nvPr/>
        </p:nvCxnSpPr>
        <p:spPr>
          <a:xfrm>
            <a:off x="2209680" y="3600000"/>
            <a:ext cx="236304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37"/>
          <p:cNvCxnSpPr>
            <a:stCxn id="130" idx="0"/>
            <a:endCxn id="133" idx="0"/>
          </p:cNvCxnSpPr>
          <p:nvPr/>
        </p:nvCxnSpPr>
        <p:spPr>
          <a:xfrm>
            <a:off x="6933960" y="3600000"/>
            <a:ext cx="61020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38"/>
          <p:cNvCxnSpPr>
            <a:stCxn id="128" idx="0"/>
            <a:endCxn id="129" idx="2"/>
          </p:cNvCxnSpPr>
          <p:nvPr/>
        </p:nvCxnSpPr>
        <p:spPr>
          <a:xfrm flipH="1">
            <a:off x="220932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39"/>
          <p:cNvCxnSpPr>
            <a:stCxn id="128" idx="1"/>
            <a:endCxn id="130" idx="1"/>
          </p:cNvCxnSpPr>
          <p:nvPr/>
        </p:nvCxnSpPr>
        <p:spPr>
          <a:xfrm>
            <a:off x="4572000" y="2590560"/>
            <a:ext cx="2363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F535-F36A-4CA2-93EF-B00E1C6384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895320"/>
            <a:ext cx="85345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gsstaat = te duur!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eer beroep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p sociale zekerheid dan verwacht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aren 60: in 1e instantie voor gezinn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eind 60:Vrouwen op arbeidsmarkt; ook recht op 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isbruik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standsgerechtigden die samenwoond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 snel afgekeurd, wao-uitker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wartwerken om premies te ontlop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liecrisis (1973)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werkloosheid steeg --&gt; aantal uitkeringen stee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premies stegen, kosten werkgevers hoo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dyn004_original_300_300_gif_3393_dff762f4410a90ec9f3116881b3b4adb"/>
          <p:cNvPicPr/>
          <p:nvPr/>
        </p:nvPicPr>
        <p:blipFill>
          <a:blip r:embed="rId1"/>
          <a:stretch/>
        </p:blipFill>
        <p:spPr>
          <a:xfrm>
            <a:off x="6705720" y="29718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D55A-2ED2-4213-AA01-D78EFBB68C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aanbodzijde: minder arbeidskr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beidstijdverkoting (ATV) 40, 38 naar 36 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rijwillig vervroegde uittreding (V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atregelen vraagzijde: meer werkgelegen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soneel goedkoper: belasting en premies om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sidies ondernemers voor person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jecten starten en infrastructuur : arbeidsplaatsen cree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heid neemt producten af van bedrijfs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 banen: laageschoolde en werklozen aan tijdelijke baan hel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77A2-4AA0-4ECE-821E-7C0C396453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 (Werkloosheidswet) afhankelijk van hoe lang iemand heeft 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ende arbeid: werkloze moeten aangeboden baan eerder aan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O wordt WIA: strenger gekeurd, deels arbeids ongeschikt =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stand: leeftijd van 18 naar 21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haalsplicht: vb gemeente moet beijstand vrouw bij ex-man verh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strenger: vb computer sociale dienst en belastingdienst vergel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90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ziening bezuinigd: eigen bijdrage verhoogd, minder zorg personee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6: Verzorgingsstaat onder druk: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ng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rijf 9 begrippen op uit de lij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k beschrijf het beg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orstrepen als je begrip is gewe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s weg: BINGO! = prij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099"/>
          <p:cNvPicPr/>
          <p:nvPr/>
        </p:nvPicPr>
        <p:blipFill>
          <a:blip r:embed="rId1"/>
          <a:stretch/>
        </p:blipFill>
        <p:spPr>
          <a:xfrm>
            <a:off x="6516720" y="3936960"/>
            <a:ext cx="2071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8A4B-1A40-4091-BE4A-E5395905F4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hthoek 4" descr=""/>
          <p:cNvPicPr/>
          <p:nvPr/>
        </p:nvPicPr>
        <p:blipFill>
          <a:blip r:embed="rId1"/>
          <a:stretch/>
        </p:blipFill>
        <p:spPr>
          <a:xfrm>
            <a:off x="1444680" y="165240"/>
            <a:ext cx="5400720" cy="1974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www.cov-oostvlaanderen.be/images/zijn%20er%20nog%20vragen.jpg"/>
          <p:cNvPicPr/>
          <p:nvPr/>
        </p:nvPicPr>
        <p:blipFill>
          <a:blip r:embed="rId2"/>
          <a:stretch/>
        </p:blipFill>
        <p:spPr>
          <a:xfrm>
            <a:off x="1928880" y="2214720"/>
            <a:ext cx="45338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D453-639F-4FDE-B828-27F1996641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597E-96AE-456A-A181-DA661F874D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133720" y="1523880"/>
            <a:ext cx="68580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evereiniteit in eigen kring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rotestants-christelij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atschappelijke groepen bi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eigen kring moeten voor elkaar zorgen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verheid niet mee bemoei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bsidariteitsbeginse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atholieke opvatt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inanciering armenzorg door overh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wel geaccepteer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zodra burgers zelf initiatieven toond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overheid terugtrekk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492F-AF3B-400D-B90A-5458F575CA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§4: van nachtwakersstaat tot verzorgingsst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mocratische drieho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taa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over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n en 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Civil society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a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urgermaatschappij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conom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kenisvolle structu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132000" y="2781360"/>
            <a:ext cx="2743200" cy="2514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1700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al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912000" y="45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4221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hristen democratis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38EF-B04B-45C0-868E-CE6972865F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lan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gelijkhei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totale vrijhei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en weg, belangrijke 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ier initiat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schappelijke harmo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a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gengaan sociale ong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je ondernemingsgewijze pro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B8D8-DED5-4510-8FB5-51AE5178C1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65B3-547F-4F32-854D-ECDEE2411A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13-03-08T12:14:44Z</dcterms:modified>
  <cp:revision>63</cp:revision>
  <dc:subject/>
  <dc:title>Dia 1</dc:title>
</cp:coreProperties>
</file>