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612F-C362-4DDF-B934-2B1C61ADC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9ACE-C11B-495A-96CE-E06DD50E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F7C5-2C2D-4E29-82B1-E0AAC3EC7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8351-F285-40CF-9EC2-272E086F6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22B4-3F2B-4A03-933C-3EE4FE24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A597-C263-4E82-8D9F-5BFA8A4A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4D7B-A2CF-4408-919A-54D07A7E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1DAA-BCCB-4F5D-A414-AB52B3D1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34F9-B8AB-4BDE-8F9D-34C41DF3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AFF3-9DAB-4D4F-A1BC-5D70909A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E6FC-CE30-4782-807C-4B0E4084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4C46-700D-44C0-B664-B6C5D073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61CB-EA56-47C8-9BF7-B288789B2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. 5: Politieke opvattingen over de verzorging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1197000"/>
            <a:ext cx="835164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1: Problemen van de verzorging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: Opvattingen over sociaal – economische kwes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3: Partijen over de toekomst van de verzorging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atregelen VV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rugdringen van de overheiduitga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ivatiseren van delen van overheidsinstel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regu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mkrimping van het omvangrijke ambtenarenappar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3: Partijen over de toekomst van de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v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ugdringing van de overheidsuitg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isering van delen van overheidsinstell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egul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krimping van het  ambtenarenappar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ar oo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minderen van sociale ongelijk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haven solidariteit met zwakkeren in de samenle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zorgingsstaat is verworvenheid en mag niet zomaar worden afgebr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atregelen Pv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n actief overheidsbeleid om economische groei te stimul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n actief overheidbeleid om sociale ongelijkheid terug te dr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ntralis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cratisering (van de arbeidsverhouding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3: Partijen over de toekomst van de verzorging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hristendemocrat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reken liever over een verzorgingsmaatschappij of zorgzame samenle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evereiniteit in eigen kring/ subsidiariteit (blz 1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rticulier initiatief en onderlinge hu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verheid dient een aanvullende rol te vervullen in de verzorgingsmaatschapp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 C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heidsbemoeienis terugdr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heiduitgaven terugdr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voorwaarden scheppen voor het dragen van persoonlijke verantwoordelijk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1: Problemen van de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Economische problemen: financ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ële onbetaalbaar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Politiek- bestuurlijke problemen: bestuurlijke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beheersbaar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Sociaal- culturele problemen: veranderend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dragspatr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: opvattingen over sociaaleconomische kwes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bekijken de politiek- ideologische visies van vier stromingen op een tweetal kwesti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aleconomische vraagstukken, zoals werkgelegen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rol van de overheid op sociaaleconomisch geb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kijken naa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Liberale vi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Sociaaldemocratische vi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Christendemocratische vi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Ecologische vi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berale vi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teconomie: vraag en aanbod, deregul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ije ondernemingsgewijze product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uimte voor particulier initiat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tie: zowel in productie als op de arbeidsmar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ugdringing van de rol van de over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aldemocratische vi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eiding van kennis, macht en ink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n zekere mate van overheids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eve groei: rekening houden met het mili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cratis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oorstander van een gemengde economie, waarbij zowel de overheid als de markt een belangrijke rol spe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istendemocratische vi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preide verantwoordelijk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ntmeestersch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rechtig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lidariteit/ naastenlief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ch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 zijn aanmerkelijke verschillen tussen de diverse christelijke partijen in de Nederlandse politiek: cu, cda en sg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logische vi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e van het geno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einschalig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ingloopecono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heid, burgers en bedrijfsleven dienen te kiezen voor een duurzame econo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beel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enlinks, Partij voor de Dier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enlinks wordt ook tot de socialistische stroming gerek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3: Partijen over de toekomst van de verzorging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V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zorgingsstaat is doorgescho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veel overheidsinmenging/ Bureaucr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weinig particulier initiatief door teveel overheidsbemoeie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veel mensen afhankelijk van de verzorgingsst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n’leert niet snel genoeg weer op eigen benen te st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3T10:54:08Z</dcterms:created>
  <dc:creator>Daniel Fluitsma</dc:creator>
  <dc:description/>
  <dc:language>en-US</dc:language>
  <cp:lastModifiedBy>Daniel Fluitsma</cp:lastModifiedBy>
  <dcterms:modified xsi:type="dcterms:W3CDTF">2010-06-13T11:46:57Z</dcterms:modified>
  <cp:revision>10</cp:revision>
  <dc:subject/>
  <dc:title>Par. 5: Politieke opvattingen over de verzorgingsstaat</dc:title>
</cp:coreProperties>
</file>