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94F-7BA8-43AB-B0FC-FB5765B9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F5D-0FEE-4753-9007-CD68B298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747-DE4C-41EB-AD93-0A7F95BC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F9E-DE9B-4DDA-8F14-ECEAB37D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E18-1445-4B4E-ABF1-65618EE4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73F-4FBE-4D5B-8C6E-A378733C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20B-C842-4DE1-A338-B2B8CEFB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DE2-D5B3-4832-B7FD-81EF97EB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B10-8E15-4E5F-82E3-65D67A93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2468-DBFE-46BC-BC97-49DAA8EF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CAD8-8FE0-4C51-B431-27A1054D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D06-9C51-4E29-9C85-43EA56E6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AFAF-811C-4D7D-B18E-21C33F206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oe is de landelijke politieke besluitvorming in Nederland geregeld en wat is daarbij de rol van Regering en Parlement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8458" t="24413" r="22493" b="35246"/>
          <a:stretch/>
        </p:blipFill>
        <p:spPr>
          <a:xfrm>
            <a:off x="179280" y="3938760"/>
            <a:ext cx="8785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elen om te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stellen van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en van interpellatie over belangrijk onderwer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quête houden, onderzoekscommissie vormen, onder ede laten getuigen. (openba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es in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e van want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e van afke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or hun beleidsterr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merleden dienen motie van wantrouwen in 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raagt verplicht advies aan Raad van State (onafhankelijk adviescolle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arna geeft voltallige Tweede Kamer het oordeel over het wetsontwer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eerderheid Tweede Kamer voo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praktijk bijna altijd; “ja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alisme versus Mon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268280"/>
          <a:ext cx="91440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14868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teries/ Departe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 bestaan op dit moment 13 ministeries in Nederland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 ministerie va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gemene Zak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tenlandse Zak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sti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nenlandse Zaken en Koninkrijksrela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derwijs, Cultuur en Wetenscha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ië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ens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kshuisvesting, Ruimtelijke Ordening en 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ieubeheer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keer en Watersta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nomische Zaken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bouw, Natuur en Voedselkwalit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iale Zaken en Werkgelegenheid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ksgezondheid, Welzijn en 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abinetsform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?Staat niet in grondwet = gewoontere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ormd uit de partijen die samen de meerderheid (76 zetels minstens) hebben in de Tweede Kam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eur onderzoekt welke regering mogelijk i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eur vormt nieuwe kabinet, verdeelt ministerpos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eur wordt de nieuwe pre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920" y="1268280"/>
            <a:ext cx="87138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idige regeringspart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2060640"/>
          <a:ext cx="896472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89647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rcRect l="0" t="17829" r="0" b="19982"/>
          <a:stretch/>
        </p:blipFill>
        <p:spPr>
          <a:xfrm>
            <a:off x="250920" y="3284640"/>
            <a:ext cx="183492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§4: Regering en Parl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n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va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tg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rechten voor wetge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srecht (goedkeu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ndement = bij meerderheid veranderingen aanbrengen in wetsvoor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ef = wetsontwerp indi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42:24Z</dcterms:created>
  <dc:creator>Daniel Fluitsma</dc:creator>
  <dc:description/>
  <dc:language>en-US</dc:language>
  <cp:lastModifiedBy>Daniel Fluitsma</cp:lastModifiedBy>
  <dcterms:modified xsi:type="dcterms:W3CDTF">2010-02-22T21:07:49Z</dcterms:modified>
  <cp:revision>7</cp:revision>
  <dc:subject/>
  <dc:title>§4: Regering en Parlement:</dc:title>
</cp:coreProperties>
</file>