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89A-C67A-4FAD-B91B-4E800A73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F0E8-D2D9-4338-AC90-6C8252E4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F511-C8CB-4D7B-A20C-584BE871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9B7-67AC-4545-9C45-FE8A87D1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0AB-F1A8-43E9-9741-4E084B40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495D-5ACD-42D4-A87A-AB9D34D8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8E0B-969F-4535-958F-EFF95CC8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C9EB-2097-4F80-8F0F-E587D876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6DC8-102D-408A-A38B-E4A02B1C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D86A-A401-479B-A59C-27FE6127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070-36A9-4B22-8C3A-E1382AF3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1E91-73C2-41DB-8CF7-4016BBB0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3B9F-05A2-463C-B8DB-708429B5F65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Hoofdstuk 3: Parlementaire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Hoofdvraag H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 worden in de Nederlandse parlementaire democratie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e besluiten genom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TweedeKamer_tcm120-151939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fokke_en_sukke_democratie"/>
          <p:cNvPicPr/>
          <p:nvPr/>
        </p:nvPicPr>
        <p:blipFill>
          <a:blip r:embed="rId1"/>
          <a:stretch/>
        </p:blipFill>
        <p:spPr>
          <a:xfrm>
            <a:off x="0" y="0"/>
            <a:ext cx="914400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5 Kenmerken democratie in de grond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alleen een onafhankelijke rechter mag publicaties of uitzendingen verbie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achtenschei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(wetgevende- uitvoerende- en rechterlijke mac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179280" y="1268280"/>
          <a:ext cx="4972320" cy="515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4972320" cy="515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Poster van de Nederlandsche Bond voor Vrouwenkiesrecht"/>
          <p:cNvPicPr/>
          <p:nvPr/>
        </p:nvPicPr>
        <p:blipFill>
          <a:blip r:embed="rId3"/>
          <a:stretch/>
        </p:blipFill>
        <p:spPr>
          <a:xfrm>
            <a:off x="5219640" y="1700280"/>
            <a:ext cx="3924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3"/>
          <p:cNvGraphicFramePr/>
          <p:nvPr/>
        </p:nvGraphicFramePr>
        <p:xfrm>
          <a:off x="0" y="981000"/>
          <a:ext cx="914400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0" y="981000"/>
          <a:ext cx="914400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rijheid van meningsuitingu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boodschap"/>
          <p:cNvPicPr/>
          <p:nvPr/>
        </p:nvPicPr>
        <p:blipFill>
          <a:blip r:embed="rId1"/>
          <a:stretch/>
        </p:blipFill>
        <p:spPr>
          <a:xfrm>
            <a:off x="4643280" y="1628640"/>
            <a:ext cx="4500720" cy="522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vrijheid van meningsuiting"/>
          <p:cNvPicPr/>
          <p:nvPr/>
        </p:nvPicPr>
        <p:blipFill>
          <a:blip r:embed="rId2"/>
          <a:stretch/>
        </p:blipFill>
        <p:spPr>
          <a:xfrm>
            <a:off x="0" y="1628640"/>
            <a:ext cx="4494240" cy="216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9" descr="1200243009"/>
          <p:cNvPicPr/>
          <p:nvPr/>
        </p:nvPicPr>
        <p:blipFill>
          <a:blip r:embed="rId3"/>
          <a:stretch/>
        </p:blipFill>
        <p:spPr>
          <a:xfrm>
            <a:off x="468360" y="3538440"/>
            <a:ext cx="40323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52971-a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231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inperking"/>
          <p:cNvPicPr/>
          <p:nvPr/>
        </p:nvPicPr>
        <p:blipFill>
          <a:blip r:embed="rId2"/>
          <a:stretch/>
        </p:blipFill>
        <p:spPr>
          <a:xfrm>
            <a:off x="5003640" y="1628640"/>
            <a:ext cx="3743640" cy="4969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Demonstratie NVU in Harderwijk 2002 by Tonie."/>
          <p:cNvPicPr/>
          <p:nvPr/>
        </p:nvPicPr>
        <p:blipFill>
          <a:blip r:embed="rId3"/>
          <a:stretch/>
        </p:blipFill>
        <p:spPr>
          <a:xfrm>
            <a:off x="468360" y="4005360"/>
            <a:ext cx="40323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er van de machtenscheiding/ Machtenl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457200" y="1700280"/>
          <a:ext cx="40384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0280"/>
                    <a:ext cx="40384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5"/>
          <p:cNvGraphicFramePr/>
          <p:nvPr/>
        </p:nvGraphicFramePr>
        <p:xfrm>
          <a:off x="4648320" y="1557360"/>
          <a:ext cx="4038480" cy="489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557360"/>
                    <a:ext cx="40384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meerderheidsbesluit is niet automatisch democratie, eers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lijkhei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le burgers hebben gelijke rechten. Er mag niet worden gediscrimineerd.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rijhei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burgers moeten hun eigen leven kunnen inricht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7 sociale voorwaarden voor democrati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unstige sociaaleconomische ontwikke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ate van sociaaleconomische gelijkhe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prake van democratische politieke cultuur (toleranti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renigd in organisaties op grond van ideeën en bela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ilitairen geen invloed op politi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aat goed functioneert (niet corrup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hevige conflicten zijn tussen etnische groe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recte democra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kunnen rechtstreeks meepra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n besliss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en bij weinig inwo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s via referendum: volksste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directe democra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ia een volksvertegenwoordig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rgers stemmen op vertegen-woordigers d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un belangen behartigen in de politieke besluitvorm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Democratie"/>
          <p:cNvPicPr/>
          <p:nvPr/>
        </p:nvPicPr>
        <p:blipFill>
          <a:blip r:embed="rId1"/>
          <a:stretch/>
        </p:blipFill>
        <p:spPr>
          <a:xfrm>
            <a:off x="5580000" y="4005360"/>
            <a:ext cx="3095640" cy="2490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foksuk-referendum"/>
          <p:cNvPicPr/>
          <p:nvPr/>
        </p:nvPicPr>
        <p:blipFill>
          <a:blip r:embed="rId2"/>
          <a:stretch/>
        </p:blipFill>
        <p:spPr>
          <a:xfrm>
            <a:off x="4716360" y="1700280"/>
            <a:ext cx="3851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arlementair 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olking kiest het parlement rechtstr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atshoofd is koning(in) of door parlement gekozen pres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atshoofd eerder symbolisch en representa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esidentieel stels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olking kiest het parlement én een presi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esident heeft grote bevoegd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ctatu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genovergestelde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urgers maar onderd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t in handen van 1 persoon, familie, partij, militairen, kleine gro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oit een recht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chters niet onafhan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dia: zelfcens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rst veel ang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www.nlverkiezingen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ctatuur van Lib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ictatuur in Libie, demonstraties voor vrijheid en democr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player.omroep.nl/?aflID=121706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0 tot 4 minu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www.eenvandaag.nl/buitenland/37288/onrust_libi_neemt_grote_vormen_a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ctatuur van egyp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://www.eenvandaag.nl/buitenland/37238/egypte_in_blijdsch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www.eenvandaag.nl/buitenland/37242/gestorven_voor_een_nieuw_egyp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ttp://www.eenvandaag.nl/buitenland/37230/leger_egypte_eist_r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de kern is “Democrati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Een politiek stelsel dat het mogelijk maakt om op basis van meerderheidsbesluiten op vreedzame wijze conflicten op te lossen en afspraken te maken over de inrichting van de samenleving.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lz. 62 tekstboe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2 Basiselementen voor democrati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18+ inwoners kunnen d.m.v. algemeen kiesrecht invloed uitoefenen op de besluit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grondrechten is gewaarborgd om in vrijheid invloed te kunnen uitoefen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r is enkel sprake van democratie als er ook een rechtsstaat 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n een democratie worden verschillen en conflicten tussen mens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niet ontkend of onderdrukt, maar erkend en gereguleer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”.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lz 62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n een democratie kunnen mensen in vrijheid hun ide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ën, die vaa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nhangen met hun belangen, naar voren bren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.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lz 6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chthebbers kunnen na de verkiezingen hun positie kwijtra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ar ze worden niet gevangen gezet en kunnen bij de volgende verkiezingen opnieuw hun kansen beproeven- weer voor tijdelij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”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lz 10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democrat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e structuur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houdingen tussen organisaties en groepen in de politiek en de regels van besluitvorm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e cultuur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manier waarop mensen met elkaar omgaan in de politie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e actoren: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n, groepen en organisaties die actief meedoen in de politi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elvraag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t is een (parlementaire democratie en op welke waarden is die gebaseer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nl-NL" sz="26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eeuw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volkssoevereiniteit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principe waarbij alle macht voortkomt uit de wil van het vol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848: grondwet va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horbec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eindelijke macht ligt niet meer enkel bij de koning maar bij het parl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: Democr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hter in 1848 kon enkel de 11% rijkste mannen stem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industrialisatie 19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euw ontstonden beweging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door is er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ge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17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 m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19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 vr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0:14:31Z</dcterms:created>
  <dc:creator>Daniel Fluitsma</dc:creator>
  <dc:description/>
  <dc:language>en-US</dc:language>
  <cp:lastModifiedBy>ftm</cp:lastModifiedBy>
  <dcterms:modified xsi:type="dcterms:W3CDTF">2011-02-22T09:03:07Z</dcterms:modified>
  <cp:revision>13</cp:revision>
  <dc:subject/>
  <dc:title>Hoofdstuk 3: Parlementaire democratie</dc:title>
</cp:coreProperties>
</file>