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.wmf" ContentType="image/x-wmf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5F0-FC4C-47A8-BB48-F29C62E0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5E6-46F9-4010-B998-7C588D2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B9D-8B63-4E8E-89C6-32E3B526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3A1-DDD7-459A-B7E1-D9D892A0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108-DF5A-47FB-A734-A7B3628C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581-3B6D-4087-8B63-E2E83B4A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40F-4946-471D-AD55-4A5A470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395-9ACC-4134-ABD9-7C060B1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0F4-9921-4A3E-956C-0404C99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9B5-2596-4619-B8D0-0600BD2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0FE-6C07-4AEB-B470-82668FF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0A2-64B5-4178-9D4B-6484DC7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F49E-F40B-4372-96F2-17F9F4A3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562720"/>
            <a:ext cx="71625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 186 tot en met 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ET: § 1,3,(5),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F0D-ED69-41BC-B2C0-EA846200F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8920" y="1523880"/>
            <a:ext cx="842472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cepteren bedrijven die produceren en eigen prijs bepa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ssentiele goederendiensten in overheidshand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lektriciteits- en gasnetwer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628040" cy="144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76720" y="53341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Sociaal-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FF2-7E66-40D6-B164-DE07102EAD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§3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3EC-23FC-428C-AECF-CA43AC8142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89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§ 3.2 Nederland als nachtwaker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 niet kunnen voor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kerk en van ‘giften’ van r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666960" cy="34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AA7-696E-4E0E-AF37-212D17223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136836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40720" y="371628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1012680" cy="1063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1012680" cy="106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3.2 Nederland als nachtwaker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7488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rondlegger liber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smechanis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perkt aanbod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ge prijs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nt hoge win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s concurren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jzen dal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us minder    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jz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teressant              stijgen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voor produ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ie stop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 er evenwicht ont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rijemarktecono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66960" y="20574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09880"/>
            <a:ext cx="457200" cy="106704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36576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3573360"/>
            <a:ext cx="1600200" cy="12956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900000" y="4076640"/>
            <a:ext cx="827280" cy="76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0" y="4292640"/>
            <a:ext cx="828720" cy="763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97964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700360" y="3573360"/>
            <a:ext cx="698400" cy="114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rcRect l="0" t="0" r="0" b="56039"/>
          <a:stretch/>
        </p:blipFill>
        <p:spPr>
          <a:xfrm>
            <a:off x="1835280" y="2133720"/>
            <a:ext cx="1347480" cy="97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724360" y="14130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rcRect l="13236" t="0" r="6622" b="0"/>
          <a:stretch/>
        </p:blipFill>
        <p:spPr>
          <a:xfrm>
            <a:off x="3492360" y="5157720"/>
            <a:ext cx="1035360" cy="12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885-A5A9-4FCF-85B4-DDB171E0E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165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zorgingsstaat ontstond begin 20e eeuw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roducten, meer werknemers aanbod, lagere lo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werden uitgebuit: lonen, werktijden, kinderarb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 (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 WOII,1945 samenwerking uit noodzaak en bereid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maatschappelijke 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invloed van de arbeidsers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ber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rmoede dus criminalitei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is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sterkere rechtsposit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betere leef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onfession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zwakkere beter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19920" y="3930480"/>
          <a:ext cx="3124080" cy="28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930480"/>
                    <a:ext cx="312408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0B8-9CFC-457A-8B54-7538410A2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9320" y="11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89: ontstaan arbeidsinspectie 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kinderwetje van Van Houten (1874) effect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01: ongevallenwet (begin verzorgingssta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19: arbeidswet beperkt tot 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983: sociale rechtsstaat, arbeid werd grond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Gemengde martk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8A3-1635-4C0F-953B-2E0F5535D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523880"/>
            <a:ext cx="8991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orlogse opbouwf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ig geld en veel opnieuw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eide loonpolit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e lo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werkgevers maar regering bes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e werknemers moest versterkt --&gt; socia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s en nemers bij betrekken --&gt; confession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3.3: het ontstaan vd verzorginsst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95C-455F-4BC3-8585-55FA07C63D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182-2488-4E55-B644-43BEDC430F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ciaaldemoc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andinavische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cur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xibele arbeidsmarkt --&gt; makkelijk ontslagen, makkelijke nieuwe baan, vaak wiss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ke sociale zekerheid --&gt; hoge uitkeringen, goede verlofreg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ur systeem: hoge collectieve 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Gl, SP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atje scandinavie enzo uitdelphi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3EE-D230-496C-A687-B14874B578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rporatis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inentale / rijnlands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engde econimsche 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k ingeperkt door collectieve sector\harnonieuze samenwerking overheid / social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gangspunt: gezin met kind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jen in NL: CDA, deel P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17E-1206-4D62-A3D6-AED74855FE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1: de betekenis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276640"/>
            <a:ext cx="8064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/menselijke bezigheden die je doet, betaald of onbetaa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290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-Met een bepaa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gebruik van iemand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capacit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vent. Met behulp va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, computers 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nnen een maatschappelijk geregel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ehoe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t het doel het leveren van een product of een 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423-4D1D-469B-A950-F76F4A05A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n verzorgingssta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b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elsaksi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fredzaamheid, particulier initiatief en vrijheid cent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uitgebreide sociale zek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ondernemingsklimaat:loonvorming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: gezondheidszog, onderwi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en kort en la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jen in NL: V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ter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ieuwe lidstaat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30A-FFB1-471F-A222-5A34FC6301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§ 5.3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ciale Zekerheid</a:t>
            </a:r>
            <a:r>
              <a:rPr b="1" lang="nl-NL" sz="5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774-A606-4AE6-A85E-D11972A9A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30F-19F0-4A8A-8219-E55858974D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A11-2960-4E4D-98F1-C4FB7A47D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521-CC6D-4D5E-ABA7-FCB2865B40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E78-CFBF-4A55-BA8F-58D7D8D513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A33-16E2-4699-865A-05D52772E1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67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endCxn id="169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0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" name="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64" idx="0"/>
            <a:endCxn id="167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4" idx="1"/>
            <a:endCxn id="166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5" idx="0"/>
            <a:endCxn id="168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3" idx="0"/>
            <a:endCxn id="164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3" idx="1"/>
            <a:endCxn id="165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962-769A-405D-89CC-A99910865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E57-4B57-4572-A6FD-8633C3F849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1AA-788E-42E5-BB5E-7AD25FF0C5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1628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60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RAMIDE VAN MA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700200"/>
            <a:ext cx="684216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D8A-2902-4020-8831-021776BB25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9FE-C4E1-4246-83E2-CB69368652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§ 6.2: maatre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E60-EDB6-4D6F-827E-DCC8B671D1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lsel stimuleerde mensen niet uit de uitkering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ijvende afhankelijkheid van de 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groting markwerk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e-integratie, uitkeringen door verschillende instanties. Deze instanties krijgen geld, naar mate het aantal mensen dat zij weer aan het werk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terken van eigen verantwoordelijkhe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ingevoerd: werkgever moet plan schrijven voor ziekteverzu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Uitbreiding loondoorbetalingsplicht bij ziekt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WULBZ): 2 jaar 70% doorbetalen door werkg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t Poortwachter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meer dan 6 weken ziek: werkgever maakt plan met werknemer voor re-integratiespro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drijf veel arbeidsongeschikte werknemer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gere pre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§ 6.3: marktwerking en eigen verantwoord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057-D2C7-4867-B543-C3EDC61999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eve gevol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idsuitgaven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stingen konden worden verlaa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mensen met een 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dig arbeidsongeschikt is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e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kte verzuim geda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65A-D92A-49DD-A155-A65C325E03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eve gevol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ere koopkracht, door bezuiniging op uitkeringen:vo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mo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n met enkel A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 sollicitaties wordt gelet op gezond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gopgeleide asielzoekers moeten baan accepteren van veel lager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herkeuringen, vielen veel uitkeringen weg, die krijgen een veel lage bijstan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weinig personeel in de zorg bej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1:positieve en negatieve gev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CE0-5725-4F72-9D28-E4EFBD8997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internationalisering van de e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e landen producten voor lager bedrag aan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 prijs westen door goede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wordt kennis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Groeiende invloed van d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kenhuizen en verzekeraars mogen met elkaar concur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wil hele ‘gezonheidmarkt’ p[enbr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lagere prijzen….maar ook meer kwalitei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563-7B29-4AD5-90AA-5D83B4501B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rzorgingsstaat zal weer moeten veranderen in de toekomst door omgevingsfactor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. Ontgroening en 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en worden oud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zinnen zijn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t leidt tot meer mensen m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tkering financierings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ndslag voor aow-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gere kosten bejaardenz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4. Toenemende diversiteit en individualis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erland is een plurifor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gaat uit van de individu (man, vrouw, Turk, Limburger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en en verzekeringen voor iedereen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praktijk niet; vb stufi, vrouwen minder gewerkt minder pensioen. Dit zou dus moeten veranderen, om iedereen gelijkmatig te laten profiteren van de verzorgings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7: De toekomst van de verzorgingsstaa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§ 7.2: nieuw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276640"/>
            <a:ext cx="4724280" cy="192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8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20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uder dan 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22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ittrede arbeidsmark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5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55-60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duur mann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69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1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evensduur vrouwe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71 jaa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4 j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820-05A1-4DC4-90CB-C05DDD792E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658-4416-41F6-BB4C-2CD57C5BB1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701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1773360"/>
            <a:ext cx="8675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beidseth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betekenis di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beid voor mensen heeft.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door sociaal culturele omstandighed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gemene normen en waarden)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ociaaleconomische situatie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ijkere samenleving kan werk makkelijk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onbelangrijk’ vinden dan arme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233800" cy="22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106-1A34-4432-BDBF-41673CA5A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209680"/>
            <a:ext cx="658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us/waardering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304920" y="1752480"/>
            <a:ext cx="2592360" cy="4762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303-6111-458A-83E3-3B7D57BB6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209" r="0" b="365"/>
          <a:stretch/>
        </p:blipFill>
        <p:spPr>
          <a:xfrm>
            <a:off x="228600" y="18288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82880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stratificatie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verdeling van de samenleving in maatschappelijke klassen waartussen een verhouding van sociale ongelijkheid best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ongelijkh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cht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jkdom e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privilege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791-D598-4BDB-8D26-C5D1D83D91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1: waarom werken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.2: Arbeid en sociale 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058840"/>
            <a:ext cx="84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f dalen op de maatschappelijke ladder 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971800" cy="243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819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495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098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191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638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( kansarme raken juist verder achter: 1983 recht op arbeid sociaal grondrecht: overheid moet actief inspannen 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oveel mogelijk mensen aan baan te hel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3D1-098C-439A-9FD6-4AB52394B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Christelijke norm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nemers en werkgevers gezamelijk in harmonie economie vorm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kkeren in verdr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in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0" y="1066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hristen-democratische/ confessionel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57340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74680"/>
            <a:ext cx="8915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rcRect l="7530" t="0" r="0" b="0"/>
          <a:stretch/>
        </p:blipFill>
        <p:spPr>
          <a:xfrm>
            <a:off x="5867280" y="18288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236-9806-4BC3-A1D9-CC6AE3C847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5360" y="1922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ontwikkeling van het individu staat voor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idsbemoeienis moet minimaal zij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ughoudend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416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liber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3: van nachtswakersstaat tot verzorgingsstaat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§ 3.1 politieke vi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697-7A83-4B23-861B-E65AE15A5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</cp:lastModifiedBy>
  <dcterms:modified xsi:type="dcterms:W3CDTF">2009-05-07T08:58:44Z</dcterms:modified>
  <cp:revision>77</cp:revision>
  <dc:subject/>
  <dc:title>Dia 1</dc:title>
</cp:coreProperties>
</file>