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70F-EA7D-4FD4-B863-C88D182A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02F-CD08-49F8-931C-68A60CDB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F5C-5B40-4D4B-B34C-B6E80230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00A-D65E-49B1-9730-20713E0B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CAF-95FB-4C2C-A934-598CC24A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6A6-3246-47E4-8551-400B356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547-78A1-4167-877E-030C96F1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452-516B-48B8-B2FA-9DAE039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0D3-0C83-42AF-A38F-F0E8A4E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306-F426-42C2-BFB9-D13CED5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CF6-7A55-442B-AD8E-818BDB5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026-2188-41FB-8685-0D8EEF7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9C6E-80C4-4EBF-85E7-F0DCFD568B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overheid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e eigendom is niet toegesta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liticologen kennen de volgende kenmerken toe aan populistische polit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keer van het partijestablishment/ gevestigde partij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volk staat op een voetstuk en naar haar ‘wil’ wordt constant gereferee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rismatisch leidersch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ordt een beroep gedaan op eenheid en vaderlandslief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pu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is eerder een ‘stijl’ dan een ideolog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ische stijl en retoriek kan op alle posities binnen het politieke landschap worden ingez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ten zeggen uit naam van de bevolking te spreken, hun wil te kennen en deze (zoals de bedoeling is van een democratie) te willen verwezenlijk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pulisme verwijst constant aan de economische en social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de "gewone man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estigde politieke partijen hebben soms de neiging nieuwkomers als populistisch te bestempelen. Gewoonlijk zijn die gevestigde partijen echter ook begonnen als gevolg van stemmen uit "het volk"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elvraag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zijn de belangrijkste politieke opvattingen en welke partijen horen bij die opvatti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deolog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attingen over hoe de maatschappij functioneert, in de toekomst moet functioneren en wat de rol van de overheid daarbij moet zij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dezelfde ideologie vormen een politieke stro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deologie → politieke part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ft ideeën over alle belangrijkste beleidsterreinen (program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nen een ideologie ontstaan en verdwijnen politieke partij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deneren vanuit het principe van gelijk (waardig)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nder teveel overheidsbemoeienis/ beperkte rol voor de st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nks- Rechts dimensi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ciaal- economisch/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me /      Sociaal- 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‘Midde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ndemo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Rec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beral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cis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ks en Rechts</a:t>
            </a:r>
            <a:br>
              <a:rPr sz="1400"/>
            </a:b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Spotjes van politieke partijen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P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Y5mXyLBHGZ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V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K8otL4bILf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teleblik.nl/media/5406123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VD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1dpNvgDbQc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vdA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2mQWLSSgYVM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L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LhcyLQ9Y4Yg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66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http://www.d66.nl/d66nl/video/20100615/d66_tv_spot_2010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eerlijk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lev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at uit van een sterk overheidsingrijpen om sociale en maatschappelijke problemen op te lossen en kenmerkt zich door een sterke antipathie (afkeer) versus een (te) vrije mark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 en de ontwikkeling van het individu staat voor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individu is verantwoordelijk voor het inrichten van zijn le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economisch gebied is vrijheid ook belangrij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sbemoeienis moet hierbij minimaal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 en partij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eke M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gebaseerd op progressie (vooruitga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erander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traditie. Het begrip "conservatisme" is afgeleid van het Latijns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dat "beschermen, in ongeschonden toestand bewaren" betek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26:20Z</dcterms:created>
  <dc:creator>Daniel Fluitsma</dc:creator>
  <dc:description/>
  <dc:language>en-US</dc:language>
  <cp:lastModifiedBy>ftm</cp:lastModifiedBy>
  <dcterms:modified xsi:type="dcterms:W3CDTF">2011-02-22T11:06:33Z</dcterms:modified>
  <cp:revision>12</cp:revision>
  <dc:subject/>
  <dc:title>§2: politieke stromingen en partijen:</dc:title>
</cp:coreProperties>
</file>