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B3D-D22E-40AF-A05E-A6382DF6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804-FF62-40D8-922A-7F1E3690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733-162F-434B-A48D-C22B4DB8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AEA-D24A-47BF-84B3-8C00F656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E3D-0B42-49AD-9521-BFF041A3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98C-2B32-47EB-94E4-D9366E5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C2A-69D8-49D6-8C73-3D977649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C48-8534-4EAE-A6D7-6C174B35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729-519F-4480-A3E1-1710CDAC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B38-7ECD-4EAC-A2FB-CEED4B78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0DA-73F9-403E-808C-E46C034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F57-A35C-4B37-B068-A2DCBD19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8A8B-4C3E-4EA0-9A55-423CF5256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413000"/>
            <a:ext cx="8713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e worden verkiezingen gehouden en wat zijn de belangrijkste kiesstelsel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lgemeente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kozen kunnen worden als lid van de Tweede Kamer en de andere volksvertegen-woordigende lich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van 18 jaar en ouder mogen hun stem uitbre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e mogen in Nederland kiez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ens de grondwet mag iedere Nederlander kiezen en gekozen worden. Het begrip 'Nederlander' wordt uitgelegd als 'Nederlandse staatsburger'. Kiesrecht is dus gebonden aan staatsburgerschap, in tegenstelling tot veel andere grondrechte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ch mogen niet alle Nederlandse staatsburgers stemmen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bij wet zijn uitgezonderd de Nederlanders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op de dag van stemming jonger dan 18 jaa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 van het kiesrecht zijn ontzet bij een rechterlijke uitspr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ers die niet in Nederland wonen hebben wel stemrecht voor de Europese en Tweede Kamerverkiezi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esrecht voor ‘niet - Nederlander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gemeenteraads- en deelraadverkiezingen komt onder voorwaarden aan niet-Nederlanders het actief en passief kiesrecht toe. Niet-Nederlanders die op de dag van de kandidaatstelling ten minste vijf jaar onafgebroken legaal in Nederland verblijven, hebben onder dezelfde voorwaarden als Nederlanders kiesrecht voor de gemeenteraadsverkiez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iet-Nederlanders die onderdaan zijn van een lidstaat van de Europese Unie hebben onder dezelfde voorwaarden als Nederlanders kiesrecht voor de gemeenteraadsverkiezi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inds 2009 mogen Nederlanders gevestigd op de Nederlandse Antillen of Aruba stemmen voor het Europees parlement. Zij moeten zich wel laten registe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redige vertegenwoordi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t hele land dezelfde kieslij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 stemmen tellen even zw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aantal zetels is evenredig a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% ste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4038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3959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 geldi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.000.000/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66.667 stem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404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4356000" y="4868640"/>
            <a:ext cx="935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Verkiezingen en kiesstelsels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ctenstel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verdeeld in distr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er district kiest één afgevaardigde in het par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oor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1 ronde (alleen als absolute meerderheid ha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ondes (de beste 2 gaan door, in d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n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31:15Z</dcterms:created>
  <dc:creator>Daniel Fluitsma</dc:creator>
  <dc:description/>
  <dc:language>en-US</dc:language>
  <cp:lastModifiedBy>Daniel Fluitsma</cp:lastModifiedBy>
  <dcterms:modified xsi:type="dcterms:W3CDTF">2010-02-22T21:50:06Z</dcterms:modified>
  <cp:revision>3</cp:revision>
  <dc:subject/>
  <dc:title>§3: Verkiezingen en kiesstelsels:</dc:title>
</cp:coreProperties>
</file>