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E05-060D-4FF4-9466-B28312BB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BE5-6841-42EF-AC96-465640BB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EF8-4FB1-44CF-89C7-190E6616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C24-3076-45F4-BDB9-561194C9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4E9-3619-426F-999D-FB305E4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755-470C-4BDC-928C-CFDD5B2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31D-83FC-4A07-A44F-02F5442E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CE1-E89C-4F65-816D-39F3119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2D7-3D79-4194-9602-F1388183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C2F-904E-40C0-A605-D514CCB6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7DB-A362-4E38-85B4-1644847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74F-0EAB-4D88-BE8F-83472649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E090-022C-4379-85F5-1388B003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. 5: Politieke opvattingen over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3516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 – 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V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dringen van de overheid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vatiseren van delen van overheidsinste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krimping van het omvangrijke ambtenarenappar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ugdringing van de overheidsuitg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isering van delen van overheidsinstel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krimping van het  ambtenarenappa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 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nderen van sociale ongelijk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aven solidariteit met zwakkeren in 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zorgingsstaat is verworvenheid en mag niet zomaar worden afgebr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Pv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sbeleid om economische groei te stimu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beleid om sociale ongelijkheid terug te 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 (van de arbeidsverhoudi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ristendemocr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reken liever over een verzorgingsmaatschappij of zorgza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evereiniteit in eigen kring/ subsidiariteit (blz 1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 initiatief en onderlinge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 dient een aanvullende rol te vervullen in de verzorgings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C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sbemoeienis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uitgaven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voorwaarden scheppen voor het dragen van persoonlijk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Economische problemen: finan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le onbetaal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Politiek- bestuurlijke problemen: bestuurlijk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beheers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ociaal- culturele problemen: veranderen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dragspa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bekijken de politiek- ideologische visies van vier stromingen op een tweetal kwes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aleconomische vraagstukken, zoals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ol van de overheid op sociaaleconomisch geb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kijken na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beral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ciaal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risten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colog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teconomie: vraag en aanbod, deregul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e ondernemingsgewijze produc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uimte voor particulier initi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ie: zowel in productie als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ugdringing van de rol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al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iding van kennis, macht en ink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zekere mate van overheids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eve groei: rekening houden met het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oorstander van een gemengde economie, waarbij zowel de overheid als de markt een belangrijke rol sp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en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reid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ntmeester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echt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lidariteit/ naastenlief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h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aanmerkelijke verschillen tussen de diverse christelijke partijen in de Nederlandse politiek: cu, cda en sg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 van het gen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cha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ngloop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, burgers en bedrijfsleven dienen te kiezen voor een duurzam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, Partij voor de Die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 wordt ook tot de socialistische stroming ger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V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zorgingsstaat is doorgesch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overheidsinmenging/ Bureau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particulier initiatief door teveel overheidsbemoei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mensen afhankelijk van de verzorgings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’leert niet snel genoeg weer op eigen benen te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0:54:08Z</dcterms:created>
  <dc:creator>Daniel Fluitsma</dc:creator>
  <dc:description/>
  <dc:language>en-US</dc:language>
  <cp:lastModifiedBy>Daniel Fluitsma</cp:lastModifiedBy>
  <dcterms:modified xsi:type="dcterms:W3CDTF">2010-06-13T11:46:57Z</dcterms:modified>
  <cp:revision>10</cp:revision>
  <dc:subject/>
  <dc:title>Par. 5: Politieke opvattingen over de verzorgingsstaat</dc:title>
</cp:coreProperties>
</file>