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679-9DEF-4267-954C-6A4A0D00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DBD-C229-4B4F-B936-0B609A03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CF0-F75A-4E40-AE19-EEB47258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9ED-0BF4-4359-BC4A-AF444667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BBF-5BAE-44C1-9BEB-A91CD4BB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EB4-990C-471F-A42E-801872A7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F76-55A2-4589-84C2-EDF691C1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2B3-3375-4174-A576-549DFA84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CF5-54BF-4760-B09D-99C8F6DB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4C4-BB87-4F7F-9835-5B8BA89B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F36-D310-4743-93DC-7BD1EA40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852-DEB9-42B3-A034-80118331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49EC-3F06-4574-9EE0-EB8FCC7F4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e is de landelijke politieke besluitvorming in Nederland geregeld en wat is daarbij de rol van Regering en Parlement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8458" t="24413" r="22493" b="35246"/>
          <a:stretch/>
        </p:blipFill>
        <p:spPr>
          <a:xfrm>
            <a:off x="179280" y="3938760"/>
            <a:ext cx="8785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elen om te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stellen van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en van interpellatie over belangrijk onderwer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quête houden, onderzoekscommissie vormen, onder ede laten getuigen. (openba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es in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e van want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e van afke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or hun beleidsterr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merleden dienen motie van wantrouwen in 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raagt verplicht advies aan Raad van State (onafhankelijk adviescolle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arna geeft voltallige Tweede Kamer het oordeel over het wetsontwer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eerderheid Tweede Kamer voo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praktijk bijna altijd; “ja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alisme versus Mon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268280"/>
          <a:ext cx="91440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14868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teries/ Departe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 bestaan op dit moment 13 ministeries in Nederland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 ministerie va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gemene Zak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tenlandse Zak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sti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nenlandse Zaken en Koninkrijksrela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derwijs, Cultuur en Wetenscha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ië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ens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kshuisvesting, Ruimtelijke Ordening en 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ieubeheer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keer en Watersta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sche Zaken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bouw, Natuur en Voedselkwalit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iale Zaken en Werkgelegenheid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ksgezondheid, Welzijn en 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abinetsform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?Staat niet in grondwet = gewoontere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ormd uit de partijen die samen de meerderheid (76 zetels minstens) hebben in de Tweede Kam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eur onderzoekt welke regering mogelijk i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eur vormt nieuwe kabinet, verdeelt ministerpos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eur wordt de nieuwe pre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920" y="1268280"/>
            <a:ext cx="87138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idige regeringspart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2060640"/>
          <a:ext cx="896472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89647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rcRect l="0" t="17829" r="0" b="19982"/>
          <a:stretch/>
        </p:blipFill>
        <p:spPr>
          <a:xfrm>
            <a:off x="250920" y="3284640"/>
            <a:ext cx="183492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n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va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tg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rechten voor wetge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srecht (goedkeu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ndement = bij meerderheid veranderingen aanbrengen in wetsvoor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ef = wetsontwerp indi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42:24Z</dcterms:created>
  <dc:creator>Daniel Fluitsma</dc:creator>
  <dc:description/>
  <dc:language>en-US</dc:language>
  <cp:lastModifiedBy>Daniel Fluitsma</cp:lastModifiedBy>
  <dcterms:modified xsi:type="dcterms:W3CDTF">2010-02-22T21:07:49Z</dcterms:modified>
  <cp:revision>7</cp:revision>
  <dc:subject/>
  <dc:title>§4: Regering en Parlement:</dc:title>
</cp:coreProperties>
</file>