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1.gif" ContentType="image/gi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32C-B725-42A8-A99E-C4F249E0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B9B-088E-418F-8876-19F9D29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CE4-D741-4119-87A5-3937D6E7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39C-BBF0-4A74-9966-71B45115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1C7-E9F2-4FA3-8823-E710E80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FBF-519E-4EB4-B5B5-EBC6DD98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505-61DE-4BF2-9034-9ABE737A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F1E-C701-49DA-99B9-3521989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F5B-E35B-48AD-8BFF-BCBFA2C1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F6E-154F-4881-A891-0B667F3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301-150C-4D03-96F6-E16FFB1B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0CF-EECC-4A66-BF91-BDD7CBA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D12-5FE4-4BA9-9211-9E3A57A67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562720"/>
            <a:ext cx="71625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gina 186 tot en met 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ET: § 1,3,(5),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D1E-2E36-4241-B58B-123692D21C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1523880"/>
            <a:ext cx="8424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cepteren bedrijven die produceren en eigen prijs bepa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ssentiele goederendiensten in overheidshand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lektriciteits- en gasnetwerk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628040" cy="144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76720" y="53341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Sociaal-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C8C-77E8-429A-BDA5-6AF1EB0FDD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§3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7CF-E8D5-4ECD-B44A-6C5DC17E75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§ 3.2 Nederland als nachtwaker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 niet kunnen voorz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kerk en van ‘giften’ van r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66696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DA4-CA77-4E93-A7BE-3C9EA971F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3500280"/>
            <a:ext cx="136836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40720" y="371628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24360" y="2133720"/>
            <a:ext cx="1012680" cy="106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3.2 Nederland als nachtwaker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7488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ndlegger liber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smechanis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perkt aanbod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ge prijs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nt hoge win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s concurren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jzen dal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us minder    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jz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teressant              stijgen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voor produ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die stop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 er evenwicht ont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ijemarktecono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66960" y="20574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809880"/>
            <a:ext cx="457200" cy="106704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36576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573360"/>
            <a:ext cx="1600200" cy="129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900000" y="4076640"/>
            <a:ext cx="8272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0" y="4292640"/>
            <a:ext cx="828720" cy="76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97964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70036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rcRect l="0" t="0" r="0" b="56039"/>
          <a:stretch/>
        </p:blipFill>
        <p:spPr>
          <a:xfrm>
            <a:off x="1835280" y="2133720"/>
            <a:ext cx="1347480" cy="97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724360" y="14130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rcRect l="13236" t="0" r="6622" b="0"/>
          <a:stretch/>
        </p:blipFill>
        <p:spPr>
          <a:xfrm>
            <a:off x="3492360" y="5157720"/>
            <a:ext cx="1035360" cy="12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65E-64D1-4FAF-B783-01776019C0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165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zorgingsstaat ontstond begin 20e eeuw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roducten, meer werknemers aanbod, lagere lo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werden uitgebuit: lonen, werktijden, kinderar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 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 WOII,1945 samenwerking uit noodzaak en bereid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maatschappelijke 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invloed van de arbeidsers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ber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rmoede dus criminalitei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is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sterkere rechtsposit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betere leef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onfession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zwakkere beter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19920" y="3930480"/>
          <a:ext cx="3124080" cy="28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930480"/>
                    <a:ext cx="312408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761-F3AD-439A-8CCE-EFB5D64313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9320" y="11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9: ontstaan arbeidsinspectie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kinderwetje van Van Houten (1874) effect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1: ongevallenwet (begin verzorgingssta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19: arbeidswet beperkt tot 8 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83: sociale rechtsstaat, arbeid werd grond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Gemengde martk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5D3-25A4-42F8-A57C-6056CB90EA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5238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orlogse opbouwf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ig geld en veel opnieuw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eide loonpoliti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e lo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werkgevers maar regering bes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e werknemers moest versterkt --&gt; socia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s en nemers bij betrekken --&gt; confession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3.3: het ontstaan vd verzorginsst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7FF-63AE-4103-A7B9-13EB3DEF50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0F2-27DE-4AAF-BF7A-4E5F0787F5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aldemoc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andinavische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cur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xibele arbeidsmarkt --&gt; makkelijk ontslagen, makkelijke nieuwe baan, vaak wiss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ke sociale zekerheid --&gt; hoge uitkeringen, goede verlofreg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ur systeem: hoge collectieve 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Gl, SP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atje scandinavie enzo uitdelphi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C42-E15D-4EAB-A7A8-666EE33A18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po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inentale / rijnlands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engde econimsche 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k ingeperkt door collectieve sector\harnonieuze samenwerking overheid / social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gangspunt: gezin met kind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CDA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20F-BBB3-4440-9521-4F4E6C0DF6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1: de betekenis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276640"/>
            <a:ext cx="806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/menselijke bezigheden die je doet, betaald of onbetaa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4290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-Met een bepaa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gebruik van iemand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capacit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vent. Met behulp va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, computers 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nnen een maatschappelijk gerege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ehoe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het doel het leveren van een product of een 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C0B-B200-4951-9B3C-5F3E83F810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ber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elsaksi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fredzaamheid, particulier initiatief en vrijheid cent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uitgebreide sociale zek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ondernemingsklimaat:loonvorming 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: gezondheidszog, onderwi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en kort en la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jen in NL: V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ter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ieuwe lidstaa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3DF-2BE2-43AD-AEC9-99291E06DE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3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ciale Zekerheid</a:t>
            </a:r>
            <a:r>
              <a:rPr b="1" lang="nl-NL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D32-AFFD-4C35-AF13-C50D95D9E9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779-F7F4-40E5-B2E5-16189492A9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08F-4B1A-4A9F-8CC1-257D7D42E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FA9-30BF-455D-8085-58F73DDF89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49F-314F-4E42-BA7C-2E0CE60DC4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395-5D01-4985-B212-68DBC39478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67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endCxn id="169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0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6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4" idx="0"/>
            <a:endCxn id="167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4" idx="1"/>
            <a:endCxn id="166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5" idx="0"/>
            <a:endCxn id="168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3" idx="0"/>
            <a:endCxn id="164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3" idx="1"/>
            <a:endCxn id="165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38B-F79C-47C1-BCE2-FE9024C810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5BE-7719-4132-912A-1030177095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082-A1CB-4602-A19D-061F0E87A4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1628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60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RAMIDE VAN 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700200"/>
            <a:ext cx="684216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4F4-5F93-4CBD-9807-03D15295D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09B-8902-4081-B4AD-5AFA2E785E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E89-B5B1-44CE-B784-6B0CDDA1F7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lsel stimuleerde mensen niet uit de uitkering te k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ijvende afhankelijkheid van de 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groting markwerk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e-integratie, uitkeringen door verschillende instanties. Deze instanties krijgen geld, naar mate het aantal mensen dat zij weer aan het werk krij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terken van eigen verantwoordelijkhe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ingevoerd: werkgever moet plan schrijven voor ziekteverzu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Uitbreiding loondoorbetalingsplicht bij ziekt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WULBZ): 2 jaar 70% doorbetalen door werkg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Poortwachter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eer dan 6 weken ziek: werkgever maakt plan met werknemer voor re-integratiespro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drijf veel arbeidsongeschikte werknemers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gere pre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§ 6.3: marktwerking en eigen verantwoord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29C-6F0E-4C0D-85F0-5353BA1189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eve gevol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idsuitgaven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stingen konden worden verlaa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mensen met een b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ledig arbeidsongeschikt is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e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 verzuim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B94-2A3F-4E12-895B-A713AF6524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eve gevol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ere koopkracht, door bezuiniging op uitkeringen:vo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staande mo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deren met enkel A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 sollicitaties wordt gelet op gezond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opgeleide asielzoekers moeten baan accepteren van veel lager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herkeuringen, vielen veel uitkeringen weg, die krijgen een veel lage bijstan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personeel in de zorg bej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9DC-B145-47A2-B8FA-282D8F69A3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internationalisering van de 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e landen producten voor lager bedrag aan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 prijs westen door goede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wordt kennis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Groeiende invloed van d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kenhuizen en verzekeraars mogen met elkaar concur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wil hele ‘gezonheidmarkt’ p[enbr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lagere prijzen….maar ook meer kwalite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20C-CF1F-45D3-805D-9CCA5D5563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3. Ontgroening en 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en worden ou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nnen zijn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meer mensen m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 financierings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ndslag voor aow-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re kosten bejaardenz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4. Toenemende diversiteit en individualis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is een plurifor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gaat uit van de individu (man, vrouw, Turk, Limburger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en en verzekeringen voor iedereen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praktijk niet; vb stufi, vrouwen minder gewerkt minder pensioen. Dit zou dus moeten veranderen, om iedereen gelijkmatig te laten profiteren van de verzorgings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276640"/>
            <a:ext cx="4724280" cy="192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8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20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der dan 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2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it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5-60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duur mann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9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1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sduur vrouw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71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4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C9D-94F3-41CB-9A91-90EDB981D4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EBD-3394-4C5B-A922-DBDEBB0812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701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280" y="177336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beidseth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betekenis di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beid voor mensen heeft.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door sociaal culturele omstandighed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gemene normen en waarden)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sociaaleconomische situatie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ijkere samenleving kan werk makkelijk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onbelangrijk’ vinden dan arm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499-CF82-49F9-8999-E4EF896D9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209680"/>
            <a:ext cx="65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us/waardering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304920" y="1752480"/>
            <a:ext cx="2592360" cy="4762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112-1079-4F24-BB41-F13B16039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209" r="0" b="365"/>
          <a:stretch/>
        </p:blipFill>
        <p:spPr>
          <a:xfrm>
            <a:off x="228600" y="18288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8288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stratificatie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verdeling van de samenleving in maatschappelijke klassen waartussen een verhouding van sociale ongelijkheid besta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ongelijkh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t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jkdom e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privilege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1ED-835F-4EEE-8C53-E0CEB2D96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058840"/>
            <a:ext cx="84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f dalen op de maatschappelijke ladder 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97180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819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495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098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1911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638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( kansarme raken juist verder achter: 1983 recht op arbeid sociaal grondrecht: overheid moet actief inspannen om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oveel mogelijk mensen aan baan te hel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6A8-2291-4084-A7D0-DEA59A77AB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Christelijke norm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nemers en werkgevers gezamelijk in harmonie economie vorm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kkeren in verdr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in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hristen-democratische/ confessionel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57340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74680"/>
            <a:ext cx="8915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rcRect l="7530" t="0" r="0" b="0"/>
          <a:stretch/>
        </p:blipFill>
        <p:spPr>
          <a:xfrm>
            <a:off x="5867280" y="1828800"/>
            <a:ext cx="327672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5A1-D0BD-4BEB-AF0A-7BEC9FA5C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5360" y="1922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ontwikkeling van het individu staat voor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idsbemoeienis moet minimaal zij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ughoudend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416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liber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E08-8CED-421C-816A-8DD7166B8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</cp:lastModifiedBy>
  <dcterms:modified xsi:type="dcterms:W3CDTF">2009-05-07T08:58:44Z</dcterms:modified>
  <cp:revision>77</cp:revision>
  <dc:subject/>
  <dc:title>Dia 1</dc:title>
</cp:coreProperties>
</file>