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F29-19DA-40E8-8097-5B8ACC76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1B7-B363-4878-AA5F-A68D2F9B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E5E-7278-4160-BE3D-097F92BA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1C9-BE15-403C-A2F8-4B44A52D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7E7-D5A2-479F-BC3A-AFD70391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558-B416-499A-8CDF-F29AE44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0EF-5FFA-4597-914D-D9BB10E1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A34-4BD9-4AEC-836A-9A425B5A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F4B-5DD9-45DC-B3C5-00E3C196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A2F-AE8C-49C1-9275-F25C98C9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457-CFA8-4487-B443-89333817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E33-14F8-41BF-B9C3-E9D7D4D5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FA74-7D4A-4AF1-83FF-4F8BD1FF43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overheid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e eigendom is niet toegesta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cologen kennen de volgende kenmerken toe aan populistische polit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keer van het partijestablishment/ gevestigde partij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volk staat op een voetstuk en naar haar ‘wil’ wordt constant gereferee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arismatisch leiderscha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ordt een beroep gedaan op eenheid en vaderlandslief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is eerder een ‘stijl’ dan een ideolog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ische stijl en retoriek kan op alle posities binnen het politieke landschap worden ingez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en zeggen uit naam van de bevolking te spreken, hun wil te kennen en deze (zoals de bedoeling is van een democratie) te willen verwezenlij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verwijst constant aan de economische en social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de "gewone man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estigde politieke partijen hebben soms de neiging nieuwkomers als populistisch te bestempelen. Gewoonlijk zijn die gevestigde partijen echter ook begonnen als gevolg van stemmen uit "het volk"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zijn de belangrijkste politieke opvattingen en welke partijen horen bij die opvatti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deolog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attingen over hoe de maatschappij functioneert, in de toekomst moet functioneren en wat de rol van de overheid daarbij moet zij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met dezelfde ideologie vormen een politieke stro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 → politieke part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ft ideeën over alle belangrijkste beleidsterreinen (program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nen een ideologie ontstaan en verdwijnen politieke partij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deneren vanuit het principe van gelijk (waardig)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nder teveel overheidsbemoeienis/ beperkte rol voor de st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nks- Rechts dimensi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aal- economisch/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me /      Sociaal- 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‘Midde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n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Rec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ber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c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ks en Rechts</a:t>
            </a:r>
            <a:br>
              <a:rPr sz="1400"/>
            </a:b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potjes van politieke partijen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P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Y5mXyLBHGZ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V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K8otL4bILf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teleblik.nl/media/540612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VD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1dpNvgDbQc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2mQWLSSgYV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L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LhcyLQ9Y4Y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66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d66.nl/d66nl/video/20100615/d66_tv_spot_201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eerlijk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lev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at uit van een sterk overheidsingrijpen om sociale en maatschappelijke problemen op te lossen en kenmerkt zich door een sterke antipathie (afkeer) versus een (te) vrije mark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en de ontwikkeling van het individu staat vooro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lev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economisch gebied is vrijheid ook belangrij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sbemoeienis moet hierbij minimaal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eke M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gebaseerd op progressie (vooruitga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erander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traditie. Het begrip "conservatisme" is afgeleid van het Latijns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dat "beschermen, in ongeschonden toestand bewaren" betek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26:20Z</dcterms:created>
  <dc:creator>Daniel Fluitsma</dc:creator>
  <dc:description/>
  <dc:language>en-US</dc:language>
  <cp:lastModifiedBy>ftm</cp:lastModifiedBy>
  <dcterms:modified xsi:type="dcterms:W3CDTF">2011-02-22T11:06:33Z</dcterms:modified>
  <cp:revision>12</cp:revision>
  <dc:subject/>
  <dc:title>§2: politieke stromingen en partijen:</dc:title>
</cp:coreProperties>
</file>