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ED1-AF55-4020-9AF5-E20D01BA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019-7980-4BEA-B70E-36834129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09CC-EA30-46F0-9DAC-A50298DC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EF98-4001-4729-A189-BC37B4B8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8510-4AB0-468F-8A8B-14D26706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E86-9969-4A46-8FC7-82BF5790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36B-1B4F-4AA6-BD95-9FADA266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9AC-006B-4035-96FC-B9BE059B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E6B-A3E8-464E-B4FE-3C6283C6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1D5-B4AE-40DB-B232-AA0CE05B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E65-5986-4E8D-99CE-B86CD43C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9849-4DC2-47BE-8CDB-93B27317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A104-6972-4035-B58B-3989DAE58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1413000"/>
            <a:ext cx="87138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elvraag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e worden verkiezingen gehouden en wat zijn de belangrijkste kiesstelsel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ja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lgemeenter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ja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kozen kunnen worden als lid van de Tweede Kamer en de andere volksvertegen-woordigende lich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ctief kiesrec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ers van 18 jaar en ouder mogen hun stem uitbre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e mogen in Nederland kiez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gens de grondwet mag iedere Nederlander kiezen en gekozen worden. Het begrip 'Nederlander' wordt uitgelegd als 'Nederlandse staatsburger'. Kiesrecht is dus gebonden aan staatsburgerschap, in tegenstelling tot veel andere grondrechten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ch mogen niet alle Nederlandse staatsburgers stemmen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bij wet zijn uitgezonderd de Nederlanders: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op de dag van stemming jonger dan 18 jaar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van het kiesrecht zijn ontzet bij een rechterlijke uitspra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erlanders die niet in Nederland wonen hebben wel stemrecht voor de Europese en Tweede Kamerverkiezin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esrecht voor ‘niet - Nederlanders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gemeenteraads- en deelraadverkiezingen komt onder voorwaarden aan niet-Nederlanders het actief en passief kiesrecht toe. Niet-Nederlanders die op de dag van de kandidaatstelling ten minste vijf jaar onafgebroken legaal in Nederland verblijven, hebben onder dezelfde voorwaarden als Nederlanders kiesrecht voor de gemeenteraadsverkiezi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et-Nederlanders die onderdaan zijn van een lidstaat van de Europese Unie hebben onder dezelfde voorwaarden als Nederlanders kiesrecht voor de gemeenteraadsverkiezi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inds 2009 mogen Nederlanders gevestigd op de Nederlandse Antillen of Aruba stemmen voor het Europees parlement. Zij moeten zich wel laten regist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redige vertegenwoordi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et hele land dezelfde kieslij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 stemmen tellen even zw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% aantal zetels is evenredig aa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% ste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2603520"/>
            <a:ext cx="40384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3959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Kiesde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- Aantal geldig uitgebrachte stemm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50 zet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0.000.000 geldi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gebrachte stem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is de kiesdel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0.000.000/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= 66.667 stem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1 zetel nodi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ze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4038480" cy="404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4356000" y="4868640"/>
            <a:ext cx="935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ctenstels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verdeeld in distri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der district kiest één afgevaardigde in het par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oort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1 ronde (alleen als absolute meerderheid ha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ondes (de beste 2 gaan door, in d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n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0:31:15Z</dcterms:created>
  <dc:creator>Daniel Fluitsma</dc:creator>
  <dc:description/>
  <dc:language>en-US</dc:language>
  <cp:lastModifiedBy>Daniel Fluitsma</cp:lastModifiedBy>
  <dcterms:modified xsi:type="dcterms:W3CDTF">2010-02-22T21:50:06Z</dcterms:modified>
  <cp:revision>3</cp:revision>
  <dc:subject/>
  <dc:title>§3: Verkiezingen en kiesstelsels:</dc:title>
</cp:coreProperties>
</file>