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631-D398-4B72-A7A3-973DCBA8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A5E-1CF3-4272-ABF5-6545B804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0F7-60E5-4AF1-82C7-5DA93BF5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394-C5C0-4B42-A6EF-C46DD0B9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80D-4156-4370-8365-C16C96BE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CD3-F975-4A00-9515-9A4897F3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B6D-7527-43EA-BFBF-EB89E67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A08-D966-4095-B947-10766059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7A7-FAA7-4C84-B209-EF1F035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3E8-0B05-4A29-AE85-0E74487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948-C2DE-4126-8EBA-C76F99C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6BC-43A5-47A7-981E-DA93B67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41E-3293-4207-A9A3-C4930E04F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. 5: Politieke opvattingen over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351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 – 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V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dringen van de overheid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vatiseren van delen van overheidsinste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krimping van het omvangrijke ambtenarenappar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dringing van de overheidsuitg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isering van delen van overheidsinstel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rimping van het  ambtenarenappa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nderen van sociale ongelijk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aven solidariteit met zwakkeren in 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zorgingsstaat is verworvenheid en mag niet zomaar worden afgebr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Pv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sbeleid om economische groei te stimu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beleid om sociale ongelijkheid terug te 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 (van de arbeidsverhoudi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tendemocr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reken liever over een verzorgingsmaatschappij of zorgza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evereiniteit in eigen kring/ subsidiariteit (blz 1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 initiatief en onderlinge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 dient een aanvullende rol te vervullen in de verzorgings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sbemoeienis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uitgaven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voorwaarden scheppen voor het dragen van persoonlijk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Economische problemen: finan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le onbetaal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Politiek- bestuurlijke problemen: bestuurlijk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beheers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ociaal- culturele problemen: veranderen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dragspa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kijken de politiek- ideologische visies van vier stromingen op een tweetal kwes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aleconomische vraagstukken, zoals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ol van de overheid op sociaaleconomisch geb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kijken na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beral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ciaal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risten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colog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economie: vraag en aanbod, deregul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e ondernemingsgewijze produc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imte voor particulier initi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ie: zowel in productie als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ugdringing van de rol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al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iding van kennis, macht en ink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zekere mate van overheids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eve groei: rekening houden met het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orstander van een gemengde economie, waarbij zowel de overheid als de markt een belangrijke rol sp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en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reid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ntmeester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echt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lidariteit/ naastenlief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h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aanmerkelijke verschillen tussen de diverse christelijke partijen in de Nederlandse politiek: cu, cda en sg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 van het gen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cha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ngloop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, burgers en bedrijfsleven dienen te kiezen voor een duurzam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, Partij voor de Die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 wordt ook tot de socialistische stroming ger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V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zorgingsstaat is doorgesch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overheidsinmenging/ Bureau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particulier initiatief door teveel overheidsbemoei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mensen afhankelijk van de verzorgings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’leert niet snel genoeg weer op eigen benen te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0:54:08Z</dcterms:created>
  <dc:creator>Daniel Fluitsma</dc:creator>
  <dc:description/>
  <dc:language>en-US</dc:language>
  <cp:lastModifiedBy>Daniel Fluitsma</cp:lastModifiedBy>
  <dcterms:modified xsi:type="dcterms:W3CDTF">2010-06-13T11:46:57Z</dcterms:modified>
  <cp:revision>10</cp:revision>
  <dc:subject/>
  <dc:title>Par. 5: Politieke opvattingen over de verzorgingsstaat</dc:title>
</cp:coreProperties>
</file>