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D86-5391-4D68-A70C-00AD5879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041-B9CE-4050-93A6-956290C1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823-A9F2-4905-ABE1-F8F689E4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F47-4EE3-4252-95E5-2B5AD02F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AC6-3672-407C-B579-C5504A4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858-691C-4E91-BB42-F45BD5D1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F72-D89D-47E2-92BF-4F08B9B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7CB-40CE-4DBA-A076-F64D35AE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18A-D6CB-4F60-9846-776A1B17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94B-5AD3-4404-A047-516EE0BC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84D-A110-449C-8DD2-4E2D948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BA0-446E-4086-B347-07E4121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5D9-9CEB-499C-A6F4-B50769DFF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e is de landelijke politieke besluitvorming in Nederland geregeld en wat is daarbij de rol van Regering en Parle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8458" t="24413" r="22493" b="35246"/>
          <a:stretch/>
        </p:blipFill>
        <p:spPr>
          <a:xfrm>
            <a:off x="179280" y="3938760"/>
            <a:ext cx="878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elen om te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stellen va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en van interpellatie over belangrijk onderwer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ête houden, onderzoekscommissie vormen, onder ede laten getuigen. (openb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s in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want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afke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or hun beleids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erleden dienen motie van wantrouwen in 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raagt verplicht advies aan Raad van State (onafhankelijk adviescolle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arna geeft voltallige Tweede Kamer het oordeel over he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erderheid Tweede Kamer vo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raktijk bijna altijd; “j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alisme versus Mo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4868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es/ Departe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 bestaan op dit moment 13 ministeries in Nederland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ministerie va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emene 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tenlandse 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nenlandse Zaken en Koninkrijksrel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derwijs, Cultuur en Wetensch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en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huisvesting, Ruimtelijke Ordening en 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eubeheer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keer en Watersta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sche Zake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bouw, Natuur en Voedselkw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e Zaken en Werkgelegenheid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gezondheid, Welzijn en 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binetsform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?Staat niet in grondwet = gewoontere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ormd uit de partijen die samen de meerderheid (76 zetels minstens) hebben in de Tweede Kam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eur onderzoekt welke regering mogelijk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vormt nieuwe kabinet, verdeelt ministerpos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wordt de nieuwe pr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idige regerings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060640"/>
          <a:ext cx="89647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rcRect l="0" t="17829" r="0" b="19982"/>
          <a:stretch/>
        </p:blipFill>
        <p:spPr>
          <a:xfrm>
            <a:off x="250920" y="3284640"/>
            <a:ext cx="18349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n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va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rechten voor wet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srecht (goedkeu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ment = bij meerderheid veranderingen aanbrengen in wetsvoor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ef = wetsontwerp ind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42:24Z</dcterms:created>
  <dc:creator>Daniel Fluitsma</dc:creator>
  <dc:description/>
  <dc:language>en-US</dc:language>
  <cp:lastModifiedBy>Daniel Fluitsma</cp:lastModifiedBy>
  <dcterms:modified xsi:type="dcterms:W3CDTF">2010-02-22T21:07:49Z</dcterms:modified>
  <cp:revision>7</cp:revision>
  <dc:subject/>
  <dc:title>§4: Regering en Parlement:</dc:title>
</cp:coreProperties>
</file>