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22944-1FDC-4E43-95B2-9B3890CDA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6FC38-7933-45C4-AEFC-047301A67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8BA66-28EE-4AFD-9732-02F647CF9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8833B-8BD4-463B-84DF-2A2E480FF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A7D89-3D7B-4F49-B0A8-598D409DE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BD490-B6EC-49E0-8E0E-F886FEA55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A75D4-232D-4ED8-95F0-710B16FFA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27C39-9C30-4989-A3C3-84A93E93F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B963C-6929-4631-8B2D-424924FEA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E7A49-9652-4561-9F63-7210B56CF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DD09D-E38C-4724-BF7A-6B3226481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E1D1E-82FF-48FE-9541-B47024349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F3768-355B-4594-BA68-2E76D1B110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§3: Verkiezingen en kiesstelsels: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8920" y="1413000"/>
            <a:ext cx="8713800" cy="42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elvraag: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6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Hoe worden verkiezingen gehouden en wat zijn de belangrijkste kiesstelsels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4076640"/>
            <a:ext cx="914400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§3: Verkiezingen en kiesstelsels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§3: Verkiezingen en kiesstelsels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ens per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 jaa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temmen voo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eede kam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inciale Sta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meentera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elgemeentera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ens per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 jaa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temmen voo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uropees Parl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§3: Verkiezingen en kiesstelsels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Passief kiesrecht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kozen kunnen worden als lid van de Tweede Kamer en de andere volksvertegen-woordigende licha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Actief kiesrech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ederlanders van 18 jaar en ouder mogen hun stem uitbren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ie mogen in Nederland kieze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lgens de grondwet mag iedere Nederlander kiezen en gekozen worden. Het begrip 'Nederlander' wordt uitgelegd als 'Nederlandse staatsburger'. Kiesrecht is dus gebonden aan staatsburgerschap, in tegenstelling tot veel andere grondrechten”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ch mogen niet alle Nederlandse staatsburgers stemmen.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ant bij wet zijn uitgezonderd de Nederlanders: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e op de dag van stemming jonger dan 18 jaar zij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e van het kiesrecht zijn ontzet bij een rechterlijke uitspraa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derlanders die niet in Nederland wonen hebben wel stemrecht voor de Europese en Tweede Kamerverkiezing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Kiesrecht voor ‘niet - Nederlanders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Bij gemeenteraads- en deelraadverkiezingen komt onder voorwaarden aan niet-Nederlanders het actief en passief kiesrecht toe. Niet-Nederlanders die op de dag van de kandidaatstelling ten minste vijf jaar onafgebroken legaal in Nederland verblijven, hebben onder dezelfde voorwaarden als Nederlanders kiesrecht voor de gemeenteraadsverkiezing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Niet-Nederlanders die onderdaan zijn van een lidstaat van de Europese Unie hebben onder dezelfde voorwaarden als Nederlanders kiesrecht voor de gemeenteraadsverkiezing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Sinds 2009 mogen Nederlanders gevestigd op de Nederlandse Antillen of Aruba stemmen voor het Europees parlement. Zij moeten zich wel laten register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§3: Verkiezingen en kiesstelsels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redige vertegenwoordi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het hele land dezelfde kieslij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e stemmen tellen even zwa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t % aantal zetels is evenredig aan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t % stem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648320" y="2603520"/>
            <a:ext cx="403848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§3: Verkiezingen en kiesstelsels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360" y="1599840"/>
            <a:ext cx="395928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000000"/>
                </a:solidFill>
                <a:latin typeface="Arial"/>
              </a:rPr>
              <a:t>Kiesdel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 u="sng">
                <a:solidFill>
                  <a:srgbClr val="000000"/>
                </a:solidFill>
                <a:uFillTx/>
                <a:latin typeface="Arial"/>
              </a:rPr>
              <a:t>- Aantal geldig uitgebrachte stemmen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150 zete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oorbeeld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10.000.000 geldi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uitgebrachte stemm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an is de kiesdeler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10.000.000/1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= 66.667 stemm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oor 1 zetel nodig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                                           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1 zet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105520" y="2133720"/>
            <a:ext cx="4038480" cy="404964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 flipV="1">
            <a:off x="4356000" y="4868640"/>
            <a:ext cx="935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§3: Verkiezingen en kiesstelsels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strictenstelse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d verdeeld in distric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eder district kiest één afgevaardigde in het parl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oorten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 1 ronde (alleen als absolute meerderheid had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rondes (de beste 2 gaan door, in d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ond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2T20:31:15Z</dcterms:created>
  <dc:creator>Daniel Fluitsma</dc:creator>
  <dc:description/>
  <dc:language>en-US</dc:language>
  <cp:lastModifiedBy>Daniel Fluitsma</cp:lastModifiedBy>
  <dcterms:modified xsi:type="dcterms:W3CDTF">2010-02-22T21:50:06Z</dcterms:modified>
  <cp:revision>3</cp:revision>
  <dc:subject/>
  <dc:title>§3: Verkiezingen en kiesstelsels:</dc:title>
</cp:coreProperties>
</file>