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7736A-41C0-47A1-B007-6441D7A37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14BBA-6AFF-4DFD-B6B1-762AFBCE4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4BDB4-FDA8-4F99-8C89-59AB0E09E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1588A-D314-4F28-A8DC-1E925ECB4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E9A56-5D5E-4905-BC38-58038C72A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77002-AF1F-4888-8763-AEA684ABE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D3CFF-B630-4DF0-BF66-7D31F1B77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E4CE2-37CB-4E48-AA7F-D04F23787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B0C3F-7D1A-42D2-AD14-544C9B0BD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C1543-DCC1-4F05-8012-5974E2383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98538-21D8-46BC-AEAD-F72CCD9DA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8DD31-37DC-4FDA-8DAF-E77ECA71C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66968-BDDC-405D-B531-E73042F94C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§3: Verkiezingen en kiesstelsels: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8920" y="1413000"/>
            <a:ext cx="8713800" cy="42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elvraag: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6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Hoe worden verkiezingen gehouden en wat zijn de belangrijkste kiesstelsels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4076640"/>
            <a:ext cx="914400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§3: Verkiezingen en kiesstelsels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§3: Verkiezingen en kiesstelsels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ens per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 jaa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temmen voo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eede kam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inciale Sta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meentera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elgemeentera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ens per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 jaa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temmen voo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uropees Parl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§3: Verkiezingen en kiesstelsels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Passief kiesrecht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kozen kunnen worden als lid van de Tweede Kamer en de andere volksvertegen-woordigende licha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Actief kiesrech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ederlanders van 18 jaar en ouder mogen hun stem uitbren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ie mogen in Nederland kieze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lgens de grondwet mag iedere Nederlander kiezen en gekozen worden. Het begrip 'Nederlander' wordt uitgelegd als 'Nederlandse staatsburger'. Kiesrecht is dus gebonden aan staatsburgerschap, in tegenstelling tot veel andere grondrechten”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ch mogen niet alle Nederlandse staatsburgers stemmen.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ant bij wet zijn uitgezonderd de Nederlanders: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e op de dag van stemming jonger dan 18 jaar zij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e van het kiesrecht zijn ontzet bij een rechterlijke uitspraa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derlanders die niet in Nederland wonen hebben wel stemrecht voor de Europese en Tweede Kamerverkiezing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Kiesrecht voor ‘niet - Nederlanders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Bij gemeenteraads- en deelraadverkiezingen komt onder voorwaarden aan niet-Nederlanders het actief en passief kiesrecht toe. Niet-Nederlanders die op de dag van de kandidaatstelling ten minste vijf jaar onafgebroken legaal in Nederland verblijven, hebben onder dezelfde voorwaarden als Nederlanders kiesrecht voor de gemeenteraadsverkiezing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Niet-Nederlanders die onderdaan zijn van een lidstaat van de Europese Unie hebben onder dezelfde voorwaarden als Nederlanders kiesrecht voor de gemeenteraadsverkiezing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Sinds 2009 mogen Nederlanders gevestigd op de Nederlandse Antillen of Aruba stemmen voor het Europees parlement. Zij moeten zich wel laten register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§3: Verkiezingen en kiesstelsels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redige vertegenwoordi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het hele land dezelfde kieslij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e stemmen tellen even zwa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t % aantal zetels is evenredig aan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t % stem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648320" y="2603520"/>
            <a:ext cx="403848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§3: Verkiezingen en kiesstelsels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360" y="1599840"/>
            <a:ext cx="395928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000000"/>
                </a:solidFill>
                <a:latin typeface="Arial"/>
              </a:rPr>
              <a:t>Kiesdel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 u="sng">
                <a:solidFill>
                  <a:srgbClr val="000000"/>
                </a:solidFill>
                <a:uFillTx/>
                <a:latin typeface="Arial"/>
              </a:rPr>
              <a:t>- Aantal geldig uitgebrachte stemmen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150 zete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oorbeeld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10.000.000 geldi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uitgebrachte stemm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an is de kiesdeler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10.000.000/1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= 66.667 stemm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oor 1 zetel nodig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                                           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1 zet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105520" y="2133720"/>
            <a:ext cx="4038480" cy="404964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 flipV="1">
            <a:off x="4356000" y="4868640"/>
            <a:ext cx="935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§3: Verkiezingen en kiesstelsels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strictenstelse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d verdeeld in distric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eder district kiest één afgevaardigde in het parl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oorten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 1 ronde (alleen als absolute meerderheid had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rondes (de beste 2 gaan door, in d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ond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2T20:31:15Z</dcterms:created>
  <dc:creator>Daniel Fluitsma</dc:creator>
  <dc:description/>
  <dc:language>en-US</dc:language>
  <cp:lastModifiedBy>Daniel Fluitsma</cp:lastModifiedBy>
  <dcterms:modified xsi:type="dcterms:W3CDTF">2010-02-22T21:50:06Z</dcterms:modified>
  <cp:revision>3</cp:revision>
  <dc:subject/>
  <dc:title>§3: Verkiezingen en kiesstelsels:</dc:title>
</cp:coreProperties>
</file>