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8C1-1D1E-4D89-A949-F6B2BFDB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E77-B66C-4C9D-8751-A78E4F5A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838-4175-4AE6-BCF1-CC29730F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834-F414-48C6-8EDE-362054B8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C76-80AE-47F4-9228-E24C032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CB4-A495-4B66-A75A-2D7E2F67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0B1-EF06-4918-A1EB-04CD92A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E03-BA6A-4866-B67F-EBA6EE0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F84-3F28-4328-9144-68624A64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C2F-45EA-4292-8CC4-73C71F9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4A8-AD72-4CAB-934A-8EFAB34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8CB-E76D-440E-8494-9A36711F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13C-C719-493E-95E8-CB002C9B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413000"/>
            <a:ext cx="8713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e worden verkiezingen gehouden en wat zijn de belangrijkste kiesstelsel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lgemeente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kozen kunnen worden als lid van de Tweede Kamer en de andere volksvertegen-woordigende lich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van 18 jaar en ouder mogen hun stem uit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e mogen in Nederland kie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ens de grondwet mag iedere Nederlander kiezen en gekozen worden. Het begrip 'Nederlander' wordt uitgelegd als 'Nederlandse staatsburger'. Kiesrecht is dus gebonden aan staatsburgerschap, in tegenstelling tot veel andere grondrechte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ch mogen niet alle Nederlandse staatsburgers stemme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bij wet zijn uitgezonderd de Nederlander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op de dag van stemming jonger dan 18 j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van het kiesrecht zijn ontzet bij een rechterlijke uitspr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ers die niet in Nederland wonen hebben wel stemrecht voor de Europese en Tweede Kamer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esrecht voor ‘niet - Nederlander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gemeenteraads- en deelraadverkiezingen komt onder voorwaarden aan niet-Nederlanders het actief en passief kiesrecht toe. Niet-Nederlanders die op de dag van de kandidaatstelling ten minste vijf jaar onafgebroken legaal in Nederland verblijven, hebben onder dezelfde voorwaarden als Nederlanders kiesrecht voor de gemeenteraadsverkiez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-Nederlanders die onderdaan zijn van een lidstaat van de Europese Unie hebben onder dezelfde voorwaarden als Nederlanders kiesrecht voor de gemeenteraadsverkiez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nds 2009 mogen Nederlanders gevestigd op de Nederlandse Antillen of Aruba stemmen voor het Europees parlement. Zij moeten zich wel laten regist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redige vertegenwoordi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t hele land dezelfde kieslij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 stemmen tellen even zw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aantal zetels is evenredig a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ste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9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 gel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/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66.667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40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56000" y="4868640"/>
            <a:ext cx="93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ctenstel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verdeeld in distr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er district kiest één afgevaardigde in het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1 ronde (alleen als absolute meerderheid h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ndes (de beste 2 gaan door, in d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1:15Z</dcterms:created>
  <dc:creator>Daniel Fluitsma</dc:creator>
  <dc:description/>
  <dc:language>en-US</dc:language>
  <cp:lastModifiedBy>Daniel Fluitsma</cp:lastModifiedBy>
  <dcterms:modified xsi:type="dcterms:W3CDTF">2010-02-22T21:50:06Z</dcterms:modified>
  <cp:revision>3</cp:revision>
  <dc:subject/>
  <dc:title>§3: Verkiezingen en kiesstelsels:</dc:title>
</cp:coreProperties>
</file>