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6549-709F-4BC1-92F6-A2C190164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C702-BB29-4EA4-8146-690BA2C0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601C-2EC2-44E7-9B18-7C4F18606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3531-A159-439C-BB11-41EEF8AA5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8F90-8923-40F9-8255-DBF0E2B9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95FD-7041-472B-80D2-A133A57E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2D77-CDC6-41E4-A131-079EDF82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7182-B31F-4278-9F9B-1FC09C05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D40D-4BA6-4D5F-B3D0-C98AC10E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3433-6B7C-40B5-9B4A-DFCB9522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C9D7-C719-447B-AAFE-40FE2C23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46A8-0F0B-4315-81DB-40CC7785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E848-39C1-4C9A-86BC-3E25F4F79B2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overheid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politieke stromingen en partij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politieke stromingen en partij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Communis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extreme vorm van socialis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ijkheid staat centra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ductiefactoren beheerd door de sta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articuliere eigendom is niet toegestaa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Fascism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eft zeer nationalistische en autoritaire beginsel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eert zich tegen vrijheid, gelijkheid en toleran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elen bedreigd door maatschappelijke veranderingen en ‘vreemde groepen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ering eigen natie en vo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essieve rassenl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pulis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oliticologen kennen de volgende kenmerken toe aan populistische politi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fkeer van het partijestablishment/ gevestigde partije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volk staat op een voetstuk en naar haar ‘wil’ wordt constant gerefereer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harismatisch leiderscha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r wordt een beroep gedaan op eenheid en vaderlandslief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pul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opulisme is eerder een ‘stijl’ dan een ideologi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opulistische stijl en retoriek kan op alle posities binnen het politieke landschap worden ingez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opulisten zeggen uit naam van de bevolking te spreken, hun wil te kennen en deze (zoals de bedoeling is van een democratie) te willen verwezenlijk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opulisme verwijst constant aan de economische en sociale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an de "gewone man"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vestigde politieke partijen hebben soms de neiging nieuwkomers als populistisch te bestempelen. Gewoonlijk zijn die gevestigde partijen echter ook begonnen als gevolg van stemmen uit "het volk"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politieke stromingen en partij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eelvraag: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zijn de belangrijkste politieke opvattingen en welke partijen horen bij die opvattin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de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deolog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“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vattingen over hoe de maatschappij functioneert, in de toekomst moet functioneren en wat de rol van de overheid daarbij moet zijn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nsen met dezelfde ideologie vormen een politieke strom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deologie → politieke parti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Een politieke partij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eft ideeën over alle belangrijkste beleidsterreinen (program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lt kandidaten bij verkiez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nnen een ideologie ontstaan en verdwijnen politieke partij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politieke stromingen en partij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eve overheid/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rote rol voor de sta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deneren vanuit het principe van gelijk (waardig)he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omen op voor mensen met een zwakke positie in de samenlev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artijen met progressieve uitgangspun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estal richting socialis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h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nder teveel overheidsbemoeienis/ beperkte rol voor de sta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conomische vrijhe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artijen met conservatieve uitgangspun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stal richting liber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inks- Rechts dimensie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ciaal- economisch/ sociale ongelijk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litiek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munis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cialisme /      Sociaal- democr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litieke ‘Midden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hristendemocr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litiek Rech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beralis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ascis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inks en Rechts</a:t>
            </a:r>
            <a:br>
              <a:rPr sz="1400"/>
            </a:br>
            <a:br>
              <a:rPr sz="1400"/>
            </a:b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Spotjes van politieke partijen</a:t>
            </a:r>
            <a:br>
              <a:rPr sz="1400"/>
            </a:b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P</a:t>
            </a: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200" spc="-1" strike="noStrike" u="sng">
                <a:solidFill>
                  <a:srgbClr val="000000"/>
                </a:solidFill>
                <a:uFillTx/>
                <a:latin typeface="Arial"/>
              </a:rPr>
              <a:t>http://www.youtube.com/watch?v=Y5mXyLBHGZs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PVV</a:t>
            </a: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200" spc="-1" strike="noStrike" u="sng">
                <a:solidFill>
                  <a:srgbClr val="000000"/>
                </a:solidFill>
                <a:uFillTx/>
                <a:latin typeface="Arial"/>
              </a:rPr>
              <a:t>http://www.youtube.com/watch?v=K8otL4bILfk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CDA</a:t>
            </a: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200" spc="-1" strike="noStrike" u="sng">
                <a:solidFill>
                  <a:srgbClr val="000000"/>
                </a:solidFill>
                <a:uFillTx/>
                <a:latin typeface="Arial"/>
              </a:rPr>
              <a:t>http://www.teleblik.nl/media/5406123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VVD</a:t>
            </a: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200" spc="-1" strike="noStrike" u="sng">
                <a:solidFill>
                  <a:srgbClr val="000000"/>
                </a:solidFill>
                <a:uFillTx/>
                <a:latin typeface="Arial"/>
              </a:rPr>
              <a:t>http://www.youtube.com/watch?v=1dpNvgDbQcM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PvdA</a:t>
            </a: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200" spc="-1" strike="noStrike" u="sng">
                <a:solidFill>
                  <a:srgbClr val="000000"/>
                </a:solidFill>
                <a:uFillTx/>
                <a:latin typeface="Arial"/>
              </a:rPr>
              <a:t>http://www.youtube.com/watch?v=2mQWLSSgYVM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GL</a:t>
            </a: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1" lang="nl-NL" sz="1200" spc="-1" strike="noStrike" u="sng">
                <a:solidFill>
                  <a:srgbClr val="000000"/>
                </a:solidFill>
                <a:uFillTx/>
                <a:latin typeface="Arial"/>
              </a:rPr>
              <a:t>http://www.youtube.com/watch?v=LhcyLQ9Y4Yg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  </a:t>
            </a: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66</a:t>
            </a: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200" spc="-1" strike="noStrike" u="sng">
                <a:solidFill>
                  <a:srgbClr val="000000"/>
                </a:solidFill>
                <a:uFillTx/>
                <a:latin typeface="Arial"/>
              </a:rPr>
              <a:t>http://www.d66.nl/d66nl/video/20100615/d66_tv_spot_2010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politieke stromingen en partij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cialis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staat moet  het verschil in economische macht, dus arm en rijk, voorkom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 ee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eerlijk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amenlev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aat uit van een sterk overheidsingrijpen om sociale en maatschappelijke problemen op te lossen en kenmerkt zich door een sterke antipathie (afkeer) versus een (te) vrije mark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beral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rijheid en de ontwikkeling van het individu staat vooro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individu is verantwoordelijk voor het inrichten van zijn lev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 economisch gebied is vrijheid ook belangrij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verheidsbemoeienis moet hierbij minimaal zij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politieke stromingen en partij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itieke Mid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istendemocrat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it tussen links en rechts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chten veel waarde aan het gezin en Christelijke normen en waard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rogressief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ee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politieke stroming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gebaseerd op progressie (vooruitgang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verander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Conservatief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een politieke stroming die zich grondvest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 de traditie. Het begrip "conservatisme" is afgeleid van het Latijns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onservar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, dat "beschermen, in ongeschonden toestand bewaren" betek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inig verandering, het oude in takt willen hou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20:26:20Z</dcterms:created>
  <dc:creator>Daniel Fluitsma</dc:creator>
  <dc:description/>
  <dc:language>en-US</dc:language>
  <cp:lastModifiedBy>ftm</cp:lastModifiedBy>
  <dcterms:modified xsi:type="dcterms:W3CDTF">2011-02-22T11:06:33Z</dcterms:modified>
  <cp:revision>12</cp:revision>
  <dc:subject/>
  <dc:title>§2: politieke stromingen en partijen:</dc:title>
</cp:coreProperties>
</file>