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90C-67FA-4574-AE11-F9A21715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F50-FE8F-47DC-8260-9D60E2FE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D83-5271-4472-A58F-09BB7B05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CE5-8418-45AA-A7A0-AB3214A7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8BB-FDEA-4856-BC05-3C23A5E9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301-F087-479D-BAE7-D7335668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806-C46A-4C32-9001-15188D5A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ADF-E40B-4158-AC76-0DDABBA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B30-1E96-47A2-B891-A636795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A6D-39FD-4263-A7A0-BBC2C2C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AEC-9682-432E-81E7-1A6CB93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293-47D1-4A89-B31C-D8610A6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DB2-1731-4AEE-A80C-242DCFD6E1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overhei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e eigendom is niet toegesta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cologen kennen de volgende kenmerken toe aan populistische polit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keer van het partijestablishment/ gevestigde partij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volk staat op een voetstuk en naar haar ‘wil’ wordt constant gereferee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ismatisch leidersch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ordt een beroep gedaan op eenheid en vaderlandslief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is eerder een ‘stijl’ dan een ideolog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ische stijl en retoriek kan op alle posities binnen het politieke landschap worden ingez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en zeggen uit naam van de bevolking te spreken, hun wil te kennen en deze (zoals de bedoeling is van een democratie) te willen verwezenlij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verwijst constant aan de economische en social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de "gewone man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estigde politieke partijen hebben soms de neiging nieuwkomers als populistisch te bestempelen. Gewoonlijk zijn die gevestigde partijen echter ook begonnen als gevolg van stemmen uit "het volk"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zijn de belangrijkste politieke opvattingen en welke partijen horen bij die opvatti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deolog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attingen over hoe de maatschappij functioneert, in de toekomst moet functioneren en wat de rol van de overheid daarbij moet zij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ezelfde ideologie vormen een politieke stro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 → politieke part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ft ideeën over alle belangrijkste beleidsterreinen (program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nen een ideologie ontstaan en verdwijnen politieke parti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deneren vanuit het principe van gelijk (waardig)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der teveel overheidsbemoeienis/ beperkte rol voor de st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nks- Rechts dimensi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al- economisch/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me /      Sociaal- 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‘Midd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n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Re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ber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c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ks en Rechts</a:t>
            </a:r>
            <a:br>
              <a:rPr sz="1400"/>
            </a:b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potjes van politieke partijen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5mXyLBHGZ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V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K8otL4bILf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teleblik.nl/media/540612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VD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1dpNvgDbQc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2mQWLSSgYV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L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LhcyLQ9Y4Y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66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d66.nl/d66nl/video/20100615/d66_tv_spot_201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erlijk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le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at uit van een sterk overheidsingrijpen om sociale en maatschappelijke problemen op te lossen en kenmerkt zich door een sterke antipathie (afkeer) versus een (te) vrije mark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en de ontwikkeling van het individu staat voo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le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economisch gebied is vrijheid ook belangrij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sbemoeienis moet hierbij minimaal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eke M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gebaseerd op progressie (vooruitga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erander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traditie. Het begrip "conservatisme" is afgeleid van het Latijns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dat "beschermen, in ongeschonden toestand bewaren" betek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26:20Z</dcterms:created>
  <dc:creator>Daniel Fluitsma</dc:creator>
  <dc:description/>
  <dc:language>en-US</dc:language>
  <cp:lastModifiedBy>ftm</cp:lastModifiedBy>
  <dcterms:modified xsi:type="dcterms:W3CDTF">2011-02-22T11:06:33Z</dcterms:modified>
  <cp:revision>12</cp:revision>
  <dc:subject/>
  <dc:title>§2: politieke stromingen en partijen:</dc:title>
</cp:coreProperties>
</file>