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50F-DBE5-4ABC-B465-11A9700C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A76-B8D5-4FB6-BECD-CE27F655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89E-4885-45CA-AF1B-CB7E8BED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C89-0AA9-414F-872E-5F7248F9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7A4-AAFF-4FBA-B1D5-D4EDD867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58F-E55B-4CC9-B64F-6340166D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A6C-F9C0-49F6-A05A-1B8C3305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50B-9C68-4C09-85DE-3F890B41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28F-EFCA-4FCF-9DC9-E41B0DEE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9FA-FD59-4786-822A-9FCE4CFE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E5A-D95A-4EA5-B0FD-2CFAEEC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389-E0F3-45D3-B358-7D5C7721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8E1D-E0D6-4FB3-8EE5-9BF524BD24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Hoofdstuk 3: Parlementair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Hoofdvraag H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 worden in de Nederlandse parlementaire democrat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e besluiten geno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Kamer_tcm120-151939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okke_en_sukke_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Kenmerken democratie in de grond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alleen een onafhankelijke rechter mag publicaties of uitzendingen verbie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(wetgevende- uitvoerende- en rechterlijke mac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79280" y="1268280"/>
          <a:ext cx="4972320" cy="515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4972320" cy="51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Poster van de Nederlandsche Bond voor Vrouwenkiesrecht"/>
          <p:cNvPicPr/>
          <p:nvPr/>
        </p:nvPicPr>
        <p:blipFill>
          <a:blip r:embed="rId3"/>
          <a:stretch/>
        </p:blipFill>
        <p:spPr>
          <a:xfrm>
            <a:off x="5219640" y="1700280"/>
            <a:ext cx="3924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rijheid van meningsuiting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boodschap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vrijheid van meningsuiting"/>
          <p:cNvPicPr/>
          <p:nvPr/>
        </p:nvPicPr>
        <p:blipFill>
          <a:blip r:embed="rId2"/>
          <a:stretch/>
        </p:blipFill>
        <p:spPr>
          <a:xfrm>
            <a:off x="0" y="1628640"/>
            <a:ext cx="4494240" cy="21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1200243009"/>
          <p:cNvPicPr/>
          <p:nvPr/>
        </p:nvPicPr>
        <p:blipFill>
          <a:blip r:embed="rId3"/>
          <a:stretch/>
        </p:blipFill>
        <p:spPr>
          <a:xfrm>
            <a:off x="468360" y="3538440"/>
            <a:ext cx="4032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52971-a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31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inperking"/>
          <p:cNvPicPr/>
          <p:nvPr/>
        </p:nvPicPr>
        <p:blipFill>
          <a:blip r:embed="rId2"/>
          <a:stretch/>
        </p:blipFill>
        <p:spPr>
          <a:xfrm>
            <a:off x="5003640" y="1628640"/>
            <a:ext cx="3743640" cy="496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Demonstratie NVU in Harderwijk 2002 by Tonie."/>
          <p:cNvPicPr/>
          <p:nvPr/>
        </p:nvPicPr>
        <p:blipFill>
          <a:blip r:embed="rId3"/>
          <a:stretch/>
        </p:blipFill>
        <p:spPr>
          <a:xfrm>
            <a:off x="468360" y="4005360"/>
            <a:ext cx="40323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er van de machtenscheiding/ Machtenl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57200" y="1700280"/>
          <a:ext cx="40384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038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4648320" y="1557360"/>
          <a:ext cx="403848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57360"/>
                    <a:ext cx="40384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erderheidsbesluit is niet automatisch democratie, eers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burgers moeten hun eigen leven kunnen inrich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7 sociale voorwaarden voor democr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unstige sociaaleconomische ontwikk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te van sociaaleconomische g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prake van democratische politieke cultuur (tolerant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renigd in organisaties op grond van ideeën en bela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litairen geen invloed op politi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at goed functioneert (niet corrup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hevige conflicten zijn tussen etnische groe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kunnen rechtstreeks meepra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besli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stemmen op vertegen-woordigers 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n belangen behartigen in de politieke besluitvorm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Democratie"/>
          <p:cNvPicPr/>
          <p:nvPr/>
        </p:nvPicPr>
        <p:blipFill>
          <a:blip r:embed="rId1"/>
          <a:stretch/>
        </p:blipFill>
        <p:spPr>
          <a:xfrm>
            <a:off x="5580000" y="4005360"/>
            <a:ext cx="3095640" cy="249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foksuk-referendum"/>
          <p:cNvPicPr/>
          <p:nvPr/>
        </p:nvPicPr>
        <p:blipFill>
          <a:blip r:embed="rId2"/>
          <a:stretch/>
        </p:blipFill>
        <p:spPr>
          <a:xfrm>
            <a:off x="4716360" y="1700280"/>
            <a:ext cx="3851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arlementair 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rechtstr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is koning(in) of door parlement gekozen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eerder symbolisch en representa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esidentieel stels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én een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esident heeft grote bevoegd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ctatu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genovergesteld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urgers maar onderd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in handen van 1 persoon, familie, partij, militairen, kleine gro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oit een recht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ers niet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: zelf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rst veel ang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nlverkiezingen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Lib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ictatuur in Libie, demonstraties voor vrijheid en democ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player.omroep.nl/?aflID=121706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0 tot 4 minu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88/onrust_libi_neemt_grote_vormen_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://www.eenvandaag.nl/buitenland/37238/egypte_in_blijdsch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42/gestorven_voor_een_nieuw_egyp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30/leger_egypte_eist_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de kern is “Democrati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Een politiek stelsel dat het mogelijk maakt om op basis van meerderheidsbesluiten op vreedzame wijze conflicten op te lossen en afspraken te maken over de inrichting van de samenleving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lz. 62 tekstbo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18+ inwoners kunnen d.m.v. algemeen kiesrecht invloed uitoefenen op de besluit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grondrechten is gewaarborgd om in vrijheid invloed te kunnen uitoefen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worden verschillen en conflicten tussen mens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iet ontkend of onderdrukt, maar erkend en gereguleer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62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kunnen mensen in vrijheid hun ide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ën, die va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nhangen met hun belangen, naar voren bre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.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lz 6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chthebbers kunnen na de verkiezingen hun positie kwijtr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r ze worden niet gevangen gezet en kunnen bij de volgende verkiezingen opnieuw hun kansen beproeven- weer voor tijd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1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struc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houdingen tussen organisaties en groepen in de politiek en de regels van besluitvorm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cul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anier waarop mensen met elkaar omgaan in de politie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actoren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, groepen en organisaties die actief meedoen in de polit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t is een (parlementaire democratie en op welke waarden is die gebasee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nl-NL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eeuw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volkssoevereinitei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principe waarbij alle macht voortkomt uit de wil van het vol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848: grondwet va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horbec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eindelijke macht ligt niet meer enkel bij de koning maar bij het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hter in 1848 kon enkel de 11% rijkste mannen ste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dustrialisatie 19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uw ontstonden bewegin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is er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e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7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9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14:31Z</dcterms:created>
  <dc:creator>Daniel Fluitsma</dc:creator>
  <dc:description/>
  <dc:language>en-US</dc:language>
  <cp:lastModifiedBy>ftm</cp:lastModifiedBy>
  <dcterms:modified xsi:type="dcterms:W3CDTF">2011-02-22T09:03:07Z</dcterms:modified>
  <cp:revision>13</cp:revision>
  <dc:subject/>
  <dc:title>Hoofdstuk 3: Parlementaire democratie</dc:title>
</cp:coreProperties>
</file>