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2355-479E-474C-BE8B-6F5A660C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8D33-59FF-43BE-8D0A-ED881F4E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5908-5EB8-4548-A916-F3C70DD2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C015-5082-4686-BE9B-3E04A825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451A-99A4-4022-9A30-16FE59AE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C7C0-4A05-4756-873D-1A948528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03FE-AEA2-4E0C-8C39-D612027A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16E5-CA97-4F94-ADFF-6203B30B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5D86-BCDD-4517-A534-049723E6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01AA-9E82-4495-B2E9-D316FC9E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EE70-7AA5-44DB-B62C-796DBD3E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2C94-FF3F-4173-BC52-AF3F7A44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D797-493C-48A3-8C90-FEFFFA7C5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. 5: Politieke opvattingen over de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1197000"/>
            <a:ext cx="83516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: Problemen van de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: Opvattingen over sociaal – economische kwes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3: Partijen over de toekomst van de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 VV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rugdringen van de overheiduitga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ivatiseren van delen van overheidsinste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regu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mkrimping van het omvangrijke ambtenarenappar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3: Partijen over de toekomst van de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v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ugdringing van de overheidsuitg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isering van delen van overheidsinstell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egul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krimping van het  ambtenarenappar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ar oo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minderen van sociale ongelijk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haven solidariteit met zwakkeren in de samenle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zorgingsstaat is verworvenheid en mag niet zomaar worden afgebr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 Pv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 actief overheidsbeleid om economische groei te stimul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 actief overheidbeleid om sociale ongelijkheid terug te dr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ntralis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tisering (van de arbeidsverhouding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3: Partijen over de toekomst van de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ristendemocra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reken liever over een verzorgingsmaatschappij of zorgzame samenl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evereiniteit in eigen kring/ subsidiariteit (blz 1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culier initiatief en onderlinge hu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verheid dient een aanvullende rol te vervullen in de verzorgingsmaatschapp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C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idsbemoeienis terugdr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iduitgaven terugdr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voorwaarden scheppen voor het dragen van persoonlijke verantwoordelijk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1: Problemen van de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Economische problemen: finan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ële onbetaalbaar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Politiek- bestuurlijke problemen: bestuurlijke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beheersbaar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Sociaal- culturele problemen: veranderen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dragspatr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: opvattingen over sociaaleconomische kwes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bekijken de politiek- ideologische visies van vier stromingen op een tweetal kwesti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aleconomische vraagstukken, zoals werkgelegen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rol van de overheid op sociaaleconomisch geb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kijken na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iberale vi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Sociaaldemocratische vi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Christendemocratische vi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Ecologische vi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erale vi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teconomie: vraag en aanbod, deregul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ije ondernemingsgewijze produc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uimte voor particulier initia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tie: zowel in productie als op de arbeidsmar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ugdringing van de rol van de over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aldemocratische vi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eiding van kennis, macht en ink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 zekere mate van overheids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eve groei: rekening houden met het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tis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oorstander van een gemengde economie, waarbij zowel de overheid als de markt een belangrijke rol spe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endemocratische vi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preide verantwoordelijk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ntmeestersch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rechtig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lidariteit/ naastenlief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h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 zijn aanmerkelijke verschillen tussen de diverse christelijke partijen in de Nederlandse politiek: cu, cda en sg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logische vi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 van het geno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einschalig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ingloopecono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id, burgers en bedrijfsleven dienen te kiezen voor een duurzame econo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bee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enlinks, Partij voor de Dier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enlinks wordt ook tot de socialistische stroming gere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3: Partijen over de toekomst van de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V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zorgingsstaat is doorgescho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veel overheidsinmenging/ Bureaucr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weinig particulier initiatief door teveel overheidsbemoeie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veel mensen afhankelijk van de verzorgingsst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n’leert niet snel genoeg weer op eigen benen te s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10:54:08Z</dcterms:created>
  <dc:creator>Daniel Fluitsma</dc:creator>
  <dc:description/>
  <dc:language>en-US</dc:language>
  <cp:lastModifiedBy>Daniel Fluitsma</cp:lastModifiedBy>
  <dcterms:modified xsi:type="dcterms:W3CDTF">2010-06-13T11:46:57Z</dcterms:modified>
  <cp:revision>10</cp:revision>
  <dc:subject/>
  <dc:title>Par. 5: Politieke opvattingen over de verzorgingsstaat</dc:title>
</cp:coreProperties>
</file>