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13.gif" ContentType="image/gif"/>
  <Override PartName="/ppt/media/image16.jpeg" ContentType="image/jpeg"/>
  <Override PartName="/ppt/media/image8.gif" ContentType="image/gif"/>
  <Override PartName="/ppt/media/image18.jpeg" ContentType="image/jpeg"/>
  <Override PartName="/ppt/media/image19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2.wmf" ContentType="image/x-wmf"/>
  <Override PartName="/ppt/media/image17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24.png" ContentType="image/png"/>
  <Override PartName="/ppt/media/image21.gif" ContentType="image/gif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D4BA-5CCF-4DB0-9CFA-8E8F7DA0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2878-1DE7-40DD-B3B2-6D24FFED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4370-2CCB-4C13-91C9-C69DB4F3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D90C-3F1E-4569-A6EB-45DD5440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698A-4553-4B1B-AA13-81A03FCE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2F04-4712-4C4A-B569-790BFE77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A54A-B5D6-4DFA-BD9B-90E53008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CA47-B5A2-4ACE-851C-F499A55F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9712-C633-48A1-89F8-0378FB44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18B-C966-490E-B121-7A019F25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CC0-E31A-455F-A88C-66FD4839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9001-6DAE-4925-9410-4A362FBD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A271-57CF-4EEE-AB9C-8085A638F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7.png"/><Relationship Id="rId14" Type="http://schemas.openxmlformats.org/officeDocument/2006/relationships/image" Target="../media/image18.jpeg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5: verzorgings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510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743200" y="1504800"/>
          <a:ext cx="4775040" cy="3848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504800"/>
                    <a:ext cx="477504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90720" y="5562720"/>
            <a:ext cx="71625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gina 186 tot en met 2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SET: § 1,3,(5),6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E2B0-9444-4B79-97C1-1E792172CD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58920" y="1523880"/>
            <a:ext cx="84247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de belangrijkste w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aat moet  het verschil in economische macht, dus arm en rijk, voork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verheidsbemoeienis om sociale en maatschappelijke problemen op te lo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cepteren bedrijven die produceren en eigen prijs bepa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e antipathie voor een (te) vrije ma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ssentiele goederendiensten in overheidshand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lektriciteits- en gasnetwerk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5257800"/>
            <a:ext cx="7628040" cy="1447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76720" y="533412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 Sociaal-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§ 3.1 politieke vi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D3F2-F0F1-4AFB-BF7C-0028828F56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§3: van nachtwakersstaat tot verzorgingssta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58560" y="14126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mocratische drieho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taa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overhe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n en re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ivil society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Mar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burgermaatschappij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conom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kenisvolle structur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32000" y="2781360"/>
            <a:ext cx="2743200" cy="2514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170028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al democrat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12000" y="458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ber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2210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risten democrat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65AD-BC49-49AF-9D6E-D73DE5D359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16532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§ 3.2 Nederland als nachtwaker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gentiende eeuw nachtwakerssta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rde hand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esche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oorzieningen waarin particulieren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lf niet kunnen voorz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ijken zorgen voor zichz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rmen zijn afhankelijk van famili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kerk en van ‘giften’ van rij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3666960" cy="34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DFA6-165E-4AAB-937D-F9BE29E05E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508720" y="3500280"/>
            <a:ext cx="1368360" cy="1260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740720" y="3716280"/>
            <a:ext cx="1012680" cy="1063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851280" y="3789360"/>
            <a:ext cx="1012680" cy="1063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3924360" y="2133720"/>
            <a:ext cx="1012680" cy="1063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3.2 Nederland als nachtwaker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7488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am Sm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rondlegger liberal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jsmechanism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perkt aanbod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ge prijs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nt hoge win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s concurrentie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jzen dalen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dus minder    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jz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interessant              stijgen   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voor produc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die stopp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 er evenwicht ontst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rijemarkteconom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66960" y="205740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3809880"/>
            <a:ext cx="457200" cy="106704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365760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3573360"/>
            <a:ext cx="1600200" cy="129564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0" y="2060640"/>
            <a:ext cx="1368360" cy="1260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611280" y="3573360"/>
            <a:ext cx="755640" cy="695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900000" y="4076640"/>
            <a:ext cx="827280" cy="762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0" y="4292640"/>
            <a:ext cx="828720" cy="763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1979640" y="3573360"/>
            <a:ext cx="698400" cy="1144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1"/>
          <a:stretch/>
        </p:blipFill>
        <p:spPr>
          <a:xfrm>
            <a:off x="2700360" y="3573360"/>
            <a:ext cx="698400" cy="1144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2"/>
          <a:srcRect l="0" t="0" r="0" b="56039"/>
          <a:stretch/>
        </p:blipFill>
        <p:spPr>
          <a:xfrm>
            <a:off x="1835280" y="2133720"/>
            <a:ext cx="1347480" cy="971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>
            <a:off x="5724360" y="1413000"/>
            <a:ext cx="1374840" cy="1812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4"/>
          <a:srcRect l="13236" t="0" r="6622" b="0"/>
          <a:stretch/>
        </p:blipFill>
        <p:spPr>
          <a:xfrm>
            <a:off x="3492360" y="5157720"/>
            <a:ext cx="1035360" cy="129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4D3-9370-4388-82B4-E73F62ACF5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1920" y="11653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rzorgingsstaat ontstond begin 20e eeuw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producten, meer werknemers aanbod, lagere lo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werden uitgebuit: lonen, werktijden, kinderarb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bewustwording van de kosten van industrialisering (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 WOII,1945 samenwerking uit noodzaak en bereid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maatschappelijke on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invloed van de arbeidsersbewe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liber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armoede dus criminalitei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t vermi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is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sterkere rechtspositi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betere leef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onfession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zwakkere beter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019920" y="3930480"/>
          <a:ext cx="3124080" cy="2868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3930480"/>
                    <a:ext cx="3124080" cy="28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F09-A4C0-4F85-8EAE-91AB9C26E2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219320" y="1127160"/>
            <a:ext cx="72388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854: arm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886: sociale quaestie;parlementaire enqu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889: ontstaan arbeidsinspectie 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kinderwetje van Van Houten (1874) effect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895/1914: industrialis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00: leerplicht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01: ongevallenwet (begin verzorgingssta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19: arbeidswet beperkt tot 8 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43: commissie-Van R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52: werkloosheidsverzek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56: Algemene ouderdoms 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65: algemene bijstan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67: wet op de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arbeidsongeschiktheidsverzeke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76: arbeidsongeschikthei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83: sociale rechtsstaat, arbeid werd grond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Gemengde martkecon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6A2C-E1DA-48DC-AB37-765B24158E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523880"/>
            <a:ext cx="8991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orlogse opbouwfa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nig geld en veel opnieuw opb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eide loonpoliti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ge lon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werkgevers maar regering bes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omiss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e werknemers moest versterkt --&gt; socia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s en nemers bij betrekken --&gt; confession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§ 3.3: het ontstaan vd verzorginssta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D44F-F4C0-4644-9FF4-FED7573D62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derland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totale gelijkhei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totale vrijhei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en weg, belangrijke 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ier initiat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tschappelijke harmo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ar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gengaan sociale ongelijk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ije ondernemingsgewijze prod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53C5-EBB3-4A59-9CD3-C25EE10D45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§ 5.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n verzorgingssta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ciaaldemocratisc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candinavische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curi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xibele arbeidsmarkt --&gt; makkelijk ontslagen, makkelijke nieuwe baan, vaak wiss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ke sociale zekerheid --&gt; hoge uitkeringen, goede verlofrege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ur systeem: hoge collectieve la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jen in NL: Gl, SP, deel Pv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atje scandinavie enzo uitdelphi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720-2226-4030-ADCC-B3696ED781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§ 5.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n verzorgingssta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rporatisc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tinentale / rijnlands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mengde econimsche o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k ingeperkt door collectieve sector\harnonieuze samenwerking overheid / social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gangspunt: gezin met kinder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jen in NL: CDA, deel Pv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CBE2-1522-4D6B-8E3F-2BCAA1DCEE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: waarom werken 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64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.1: de betekenis van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2276640"/>
            <a:ext cx="8064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lle activiteiten/menselijke bezigheden die je doet, betaald of onbetaal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42900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-Met een bepaal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et gebruik van iemands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capacit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vent. Met behulp va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reedschappen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, computers 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innen een maatschappelijk geregel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behoef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et het doel het leveren van een product of een di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F5EC-FA2E-4E54-95B8-CFBBE849C3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§ 5.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n verzorgingssta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ber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gelsaksis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lfredzaamheid, particulier initiatief en vrijheid centr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uitgebreide sociale zeke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ed ondernemingsklimaat:loonvorming ma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id: gezondheidszog, onderwi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tkeringen kort en la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jen in NL: V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diter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ieuwe lidstaat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86B8-69FB-46B2-8F85-1FC79D0BD2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5122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t er (sinds jaren 60) voor dat niemand onder het SOCIAAL MINIMUM hoeft te 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zamelterm voor voorzieningen en verzeker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mige zijn wettelijk verplicht en algemeen geldend of voor een bepaalde groep, andere zijn op vrijwillige ba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§ 5.3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ociale Zekerheid</a:t>
            </a:r>
            <a:r>
              <a:rPr b="1" lang="nl-NL" sz="5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6F5F-3945-495E-AB3E-F8B045EB31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79280" y="1341360"/>
          <a:ext cx="8604360" cy="4684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341360"/>
                    <a:ext cx="860436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C6C4-A677-4A76-8B67-23EC9B212A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90720" y="380520"/>
            <a:ext cx="764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sociale zekerheid gereg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635280" y="39337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556000" y="227664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00720" y="2781360"/>
            <a:ext cx="439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rknemers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278136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lks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3429000"/>
            <a:ext cx="3600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voor iedereen g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OW: ouderen pensi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W:Kinderbij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3640" y="3413160"/>
            <a:ext cx="39592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gelden voor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premies door werknemer én werk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: als je werkloos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ULBZ: Als je ziek wordt. 2 jaar lang 70% van je loon krij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A: als je arbeidsongeschikt word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773360"/>
            <a:ext cx="84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zorgingsstaat:overheid helpt de burgers als nodi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6767-4941-44B1-9162-60CF83FF66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51920" y="1447560"/>
            <a:ext cx="82076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verzekeringen en Werknemersverzekeringen.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rootste gedeelte geheel bekostigd uit premiebijdragen die door werkgevers, werknemers, zelfstandigen en ingezetenen verschuldigd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n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N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Nabestaan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O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Ouderdom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WBZ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Wet Bijzondere Ziekte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K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Kinderbijslag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naar arbeidsverm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opvolger van WAO:Wet ArbeidsOngeschikthe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rkelooshei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Ziekte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019920" y="2971800"/>
            <a:ext cx="2790720" cy="35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1A01-F1E3-445F-9A17-EC04108D8F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042920" y="836640"/>
          <a:ext cx="6769080" cy="4429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836640"/>
                    <a:ext cx="67690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971640" y="5430960"/>
          <a:ext cx="6842160" cy="1427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5430960"/>
                    <a:ext cx="684216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3148-0112-4F35-8A60-85C45D663AE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4360" y="1484280"/>
            <a:ext cx="86882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Sociale voorzie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kosten van de sociale voorzieningen worden geheel betaald door de overheid en ze worden bestreden uit de algemene midde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W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kensvoorziening Oudere en gedeeltelijk Arbeidsongeschikte werkloze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ensvoorziening Oudere en gedeeltelijk Arbeidsongeschikte gewezen zelfstand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Toeslag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Bij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Kunstena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b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sluit bijstandsverlening zelfstand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8685-17A3-486F-8521-066A5712E3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76240" y="1295280"/>
            <a:ext cx="7391520" cy="1295640"/>
          </a:xfrm>
          <a:prstGeom prst="downArrowCallout">
            <a:avLst>
              <a:gd name="adj1" fmla="val 48760"/>
              <a:gd name="adj2" fmla="val 143600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743200"/>
            <a:ext cx="4419720" cy="857160"/>
          </a:xfrm>
          <a:prstGeom prst="downArrowCallout">
            <a:avLst>
              <a:gd name="adj1" fmla="val 44071"/>
              <a:gd name="adj2" fmla="val 12978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2743200"/>
            <a:ext cx="4419720" cy="857160"/>
          </a:xfrm>
          <a:prstGeom prst="downArrowCallout">
            <a:avLst>
              <a:gd name="adj1" fmla="val 44071"/>
              <a:gd name="adj2" fmla="val 12978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4038480"/>
            <a:ext cx="2895840" cy="1173240"/>
          </a:xfrm>
          <a:prstGeom prst="downArrowCallout">
            <a:avLst>
              <a:gd name="adj1" fmla="val 21096"/>
              <a:gd name="adj2" fmla="val 6212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038480"/>
            <a:ext cx="2895480" cy="1173240"/>
          </a:xfrm>
          <a:prstGeom prst="downArrowCallout">
            <a:avLst>
              <a:gd name="adj1" fmla="val 21094"/>
              <a:gd name="adj2" fmla="val 62121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72200" y="4038480"/>
            <a:ext cx="2743200" cy="76212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67" idx="0"/>
          </p:cNvCxnSpPr>
          <p:nvPr/>
        </p:nvCxnSpPr>
        <p:spPr>
          <a:xfrm>
            <a:off x="1447560" y="521136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" name=""/>
          <p:cNvCxnSpPr/>
          <p:nvPr/>
        </p:nvCxnSpPr>
        <p:spPr>
          <a:xfrm>
            <a:off x="685800" y="556236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endCxn id="169" idx="0"/>
          </p:cNvCxnSpPr>
          <p:nvPr/>
        </p:nvCxnSpPr>
        <p:spPr>
          <a:xfrm>
            <a:off x="685440" y="55627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" name=""/>
          <p:cNvCxnSpPr>
            <a:stCxn id="170" idx="0"/>
          </p:cNvCxnSpPr>
          <p:nvPr/>
        </p:nvCxnSpPr>
        <p:spPr>
          <a:xfrm flipV="1">
            <a:off x="2971440" y="5562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72" idx="0"/>
          </p:cNvCxnSpPr>
          <p:nvPr/>
        </p:nvCxnSpPr>
        <p:spPr>
          <a:xfrm flipV="1">
            <a:off x="1828440" y="5562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" name=""/>
          <p:cNvCxnSpPr>
            <a:stCxn id="166" idx="0"/>
          </p:cNvCxnSpPr>
          <p:nvPr/>
        </p:nvCxnSpPr>
        <p:spPr>
          <a:xfrm>
            <a:off x="4571640" y="5211360"/>
            <a:ext cx="23076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" name=""/>
          <p:cNvCxnSpPr/>
          <p:nvPr/>
        </p:nvCxnSpPr>
        <p:spPr>
          <a:xfrm>
            <a:off x="4800600" y="548604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" name=""/>
          <p:cNvCxnSpPr/>
          <p:nvPr/>
        </p:nvCxnSpPr>
        <p:spPr>
          <a:xfrm>
            <a:off x="4800240" y="54860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" name=""/>
          <p:cNvCxnSpPr/>
          <p:nvPr/>
        </p:nvCxnSpPr>
        <p:spPr>
          <a:xfrm flipV="1">
            <a:off x="7086240" y="54856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" name=""/>
          <p:cNvCxnSpPr/>
          <p:nvPr/>
        </p:nvCxnSpPr>
        <p:spPr>
          <a:xfrm flipV="1">
            <a:off x="5943240" y="54856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" name=""/>
          <p:cNvCxnSpPr>
            <a:stCxn id="164" idx="0"/>
            <a:endCxn id="167" idx="1"/>
          </p:cNvCxnSpPr>
          <p:nvPr/>
        </p:nvCxnSpPr>
        <p:spPr>
          <a:xfrm flipH="1">
            <a:off x="1447560" y="3600000"/>
            <a:ext cx="7624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64" idx="1"/>
            <a:endCxn id="166" idx="1"/>
          </p:cNvCxnSpPr>
          <p:nvPr/>
        </p:nvCxnSpPr>
        <p:spPr>
          <a:xfrm>
            <a:off x="2209680" y="3600000"/>
            <a:ext cx="236304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65" idx="0"/>
            <a:endCxn id="168" idx="0"/>
          </p:cNvCxnSpPr>
          <p:nvPr/>
        </p:nvCxnSpPr>
        <p:spPr>
          <a:xfrm>
            <a:off x="6933960" y="3600000"/>
            <a:ext cx="61020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63" idx="0"/>
            <a:endCxn id="164" idx="2"/>
          </p:cNvCxnSpPr>
          <p:nvPr/>
        </p:nvCxnSpPr>
        <p:spPr>
          <a:xfrm flipH="1">
            <a:off x="2209320" y="2590560"/>
            <a:ext cx="23630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63" idx="1"/>
            <a:endCxn id="165" idx="1"/>
          </p:cNvCxnSpPr>
          <p:nvPr/>
        </p:nvCxnSpPr>
        <p:spPr>
          <a:xfrm>
            <a:off x="4572000" y="2590560"/>
            <a:ext cx="23630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4826-129C-41F9-A637-278B02FDAB5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395280" y="1413000"/>
          <a:ext cx="8064360" cy="51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806436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D716-DEFC-457A-A23E-E2CAD9C27FA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895320"/>
            <a:ext cx="853452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zorgingsstaat = te duu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eer beroep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p sociale zekerheid dan verwach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jaren 60: in 1e instantie voor gezi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eind 60:Vrouwen op arbeidsmarkt; ook recht op uitk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isbruik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ijstandsgerechtigden die samenwoon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 snel afgekeurd, wao-uitk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Zwartwerken om premies te ontlo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steeds meer ouderen =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grij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liecrisis (1973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werkloosheid steeg --&gt; aantal uitkeringen ste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premies stegen, kosten werkgevers hoo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705720" y="29718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1732-0C01-411F-8FA9-703767B9B30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916280"/>
            <a:ext cx="86756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260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IRAMIDE VAN MA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42920" y="700200"/>
            <a:ext cx="6842160" cy="598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63CB-91E0-4C0B-ABB7-2A6118D3D6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atregelen aanbodzijde: minder arbeidskra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beidstijdverkoting (ATV) 40, 38 naar 36 u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rijwillig vervroegde uittreding (V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atregelen vraagzijde: meer werkgelegen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eel goedkoper: belasting en premies oml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bsidies ondernemers voor person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jecten starten en infrastructuur : arbeidsplaatsen cree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heid neemt producten af van bedrijfs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 banen: laageschoolde en werklozen aan tijdelijke baan hel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§ 6.2: maatreg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F829-6778-4097-A1BE-913C092D531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kom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zuinig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inder snel uitkering,minder snel arbeidsongeschikt, strengere regels bij ziekt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 (Werkloosheidswet) afhankelijk van hoe lang iemand heeft gew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nde arbeid: werkloze moeten aangeboden baan eerder aan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O wordt WIA: strenger gekeurd, deels arbeids ongeschikt =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jstand: leeftijd van 18 naar 21 j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haalsplicht: vb gemeente moet beijstand vrouw bij ex-man verh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 strenger: vb computer sociale dienst en belastingdienst vergele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ziening bezuinigd: eigen bijdrage verhoogd, minder zorg personeel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§ 6.2: maatreg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07F1-9BC4-4373-B0FA-C5609045E0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elsel stimuleerde mensen niet uit de uitkering te ko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lijvende afhankelijkheid van de 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ergroting markwerkin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re-integratie, uitkeringen door verschillende instanties. Deze instanties krijgen geld, naar mate het aantal mensen dat zij weer aan het werk krij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ersterken van eigen verantwoordelijkhe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ingevoerd: werkgever moet plan schrijven voor ziekteverzu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et Uitbreiding loondoorbetalingsplicht bij ziekt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(WULBZ): 2 jaar 70% doorbetalen door werkg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et Poortwachter: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meer dan 6 weken ziek: werkgever maakt plan met werknemer voor re-integratiespro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drijf veel arbeidsongeschikte werknemers: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gere pre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imuleren van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werken: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bedrijven minder belasting, meer vrouwen in deeltij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§ 6.3: marktwerking en eigen verantwoordelijkhe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944F-C8D0-4F51-9BB8-AA2B1552340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eve gevol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heidsuitgaven geda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astingen konden worden verlaa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r mensen met een b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ledig arbeidsongeschikt is geda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ude m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ekte verzuim geda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7: De toekomst van de verzorgingsstaa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§ 7.1:positieve en negatieve gevol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2EA4-AA85-4D6E-88AF-8C80C7220E1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gatieve gevol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gere koopkracht, door bezuiniging op uitkeringen:vo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enstaande moe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deren met enkel A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 sollicitaties wordt gelet op gezondhe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gopgeleide asielzoekers moeten baan accepteren van veel lager ni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or herkeuringen, vielen veel uitkeringen weg, die krijgen een veel lage bijstan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weinig personeel in de zorg beja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7: De toekomst van de verzorgingsstaa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§ 7.1:positieve en negatieve gevol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F4E-EB33-4C04-A097-B4DCFBFB5FC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zorgingsstaat zal weer moeten veranderen in de toekomst door omgevingsfacto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. internationalisering van de econo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ere landen producten voor lager bedrag aanbi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ge prijs westen door goede voorzien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derland wordt kennis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. Groeiende invloed van de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ekenhuizen en verzekeraars mogen met elkaar concur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 wil hele ‘gezonheidmarkt’ p[enbre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t leidt tot lagere prijzen….maar ook meer kwalitei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7: De toekomst van de verzorgingsstaa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§ 7.2: nieuwe ontwikke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60EB-E17F-414C-B371-E38E53B2DDE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erzorgingsstaat zal weer moeten veranderen in de toekomst door omgevingsfactor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3. Ontgroening en vergrij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sen worden oud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nnen zijn kle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t leidt tot meer mensen me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tkering financierings-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ndslag voor aow-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gere kosten bejaardenz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4. Toenemende diversiteit en individualis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derland is een pluriforme samenl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 gaat uit van de individu (man, vrouw, Turk, Limburger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zieningen en verzekeringen voor iedereen gel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 praktijk niet; vb stufi, vrouwen minder gewerkt minder pensioen. Dit zou dus moeten veranderen, om iedereen gelijkmatig te laten profiteren van de verzorgingssta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7: De toekomst van de verzorgingsstaa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§ 7.2: nieuwe ontwikke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276640"/>
            <a:ext cx="4724280" cy="1928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8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956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20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der dan 65 jaa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8%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trede arbeidsmark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5 jaa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2 j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ittrede arbeidsmark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65 jaa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55-60 j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evenduur manne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69 jaa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81 j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evensduur vrouwe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71 jaa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84 j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25CB-CFB3-42CA-8BE8-4EB29EE5668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E747-F79B-4566-AE36-708FAD3BE05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81240" y="-360"/>
            <a:ext cx="7016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: waarom werken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3280" y="1773360"/>
            <a:ext cx="86756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rbeidsethos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betekenis di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beid voor mensen heeft. 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door sociaal culturele omstandighede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lgemene normen en waarden)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sociaaleconomische situaties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rijkere samenleving kan werk makkelijk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‘onbelangrijk’ vinden dan arm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300720" y="765000"/>
            <a:ext cx="2233800" cy="22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924-F319-4600-9957-8073247F47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520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: waarom werken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.2: Arbeid en sociale 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6000" y="2209680"/>
            <a:ext cx="6588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atschappelijke positi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e plaats die je in de samenleving inneem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atus/waardering heeft te maken m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22670" t="0" r="22904" b="0"/>
          <a:stretch/>
        </p:blipFill>
        <p:spPr>
          <a:xfrm>
            <a:off x="304920" y="1752480"/>
            <a:ext cx="2592360" cy="4762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06560" y="5157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nle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06560" y="465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nn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nodig hebt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06560" y="4149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ch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06560" y="609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verdient: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06560" y="566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kendhei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hebt: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FC56-6D9F-455C-91B9-C06BE513EA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0" t="209" r="0" b="365"/>
          <a:stretch/>
        </p:blipFill>
        <p:spPr>
          <a:xfrm>
            <a:off x="228600" y="1828800"/>
            <a:ext cx="396252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520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: waarom werken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.2: Arbeid en sociale 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1828800"/>
            <a:ext cx="51055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stratificatie: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verdeling van de samenleving in maatschappelijke klassen waartussen een verhouding van sociale ongelijkheid besta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ongelijkheid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cht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jkdom en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e privilege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niet eerlijk verde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FB54-B645-4930-AC16-74E523E637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: waarom werken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.2: Arbeid en sociale 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058840"/>
            <a:ext cx="849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jgen of dalen op de maatschappelijke ladder =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mobi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971800" cy="2438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14800" y="2819520"/>
            <a:ext cx="456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arom stijg je nu makkelijker dan vroe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4495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nger op school (niet werken als k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380988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er vervolgoplei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41911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iefinanciering: overheid stimuleert l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6386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( kansarme raken juist verder achter: 1983 recht op arbeid sociaal grondrecht: overheid moet actief inspannen om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oveel mogelijk mensen aan baan te hel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F999-F4BB-403C-A658-E2F50EB59F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213372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t tussen links en rech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chten veel waarde aan het gez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Christelijke normen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 schrijft voor hoe de mens zich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ent te ged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nemers en werkgevers gezamelijk in harmonie economie vorm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wakkeren in verdrukkin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ingrij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7694640" cy="10954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0" y="1066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hristen-democratische/ confessionele v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0" y="57340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 mid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74680"/>
            <a:ext cx="89154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§ 3.1 politieke vi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rcRect l="7530" t="0" r="0" b="0"/>
          <a:stretch/>
        </p:blipFill>
        <p:spPr>
          <a:xfrm>
            <a:off x="5867280" y="1828800"/>
            <a:ext cx="3276720" cy="249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E3E4-9B31-40F6-9F5E-ECE585319C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5360" y="192240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ijheid als het ide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ontwikkeling van het individu staat vooro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individu is verantwoordelijk voor het inrichten van zijn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idsbemoeienis moet minimaal zij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ij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rughoudend op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9640" y="5400720"/>
            <a:ext cx="7640640" cy="1457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132000" y="55897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74167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t liberali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§ 3.1 politieke vi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E44-2A9B-4C3A-BC0E-BBA21FCD32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</cp:lastModifiedBy>
  <dcterms:modified xsi:type="dcterms:W3CDTF">2009-05-07T08:58:44Z</dcterms:modified>
  <cp:revision>77</cp:revision>
  <dc:subject/>
  <dc:title>Dia 1</dc:title>
</cp:coreProperties>
</file>