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004-1CEA-412B-AF86-0EBF7E6C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029-E309-4332-82DF-6B8C5BC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B7F-BBA1-42B9-BDD2-094F9B8B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ACB-48A4-4FFC-BD9C-9287E88A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B0A-9566-4B7C-B5CE-1A7AE6C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EBB-AD38-4790-8200-739578D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018-1984-44BA-84A5-43931E9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0EE-44E6-4DAA-84BE-D0B8C84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AB0-89B3-4AA0-A17E-E9CE33F7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E9D-3414-4030-9036-E756810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378-F818-489B-A9C9-31C7C9D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EF9-A507-4F17-9CF2-F898960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DCDA-7407-4D7E-AB41-23C8B736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e is de landelijke politieke besluitvorming in Nederland geregeld en wat is daarbij de rol van Regering en Parle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8458" t="24413" r="22493" b="35246"/>
          <a:stretch/>
        </p:blipFill>
        <p:spPr>
          <a:xfrm>
            <a:off x="179280" y="3938760"/>
            <a:ext cx="878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elen om te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stellen va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en van interpellatie over belangrijk onderwer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ête houden, onderzoekscommissie vormen, onder ede laten getuigen. (openb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s in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want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afke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or hun beleids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erleden dienen motie van wantrouwen in 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raagt verplicht advies aan Raad van State (onafhankelijk adviescolle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arna geeft voltallige Tweede Kamer het oordeel over he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erderheid Tweede Kamer vo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raktijk bijna altijd; “j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alisme versus Mo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4868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es/ Departe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 bestaan op dit moment 13 ministeries in Nederland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ministerie va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emene 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tenlandse 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nenlandse Zaken en Koninkrijksrel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derwijs, Cultuur en Wetensch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en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huisvesting, Ruimtelijke Ordening en 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eubeheer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keer en Watersta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sche Zake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bouw, Natuur en Voedselkw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e Zaken en Werkgelegenheid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gezondheid, Welzijn en 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binetsform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?Staat niet in grondwet = gewoontere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ormd uit de partijen die samen de meerderheid (76 zetels minstens) hebben in de Tweede Kam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eur onderzoekt welke regering mogelijk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vormt nieuwe kabinet, verdeelt ministerpos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wordt de nieuwe pr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idige regerings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060640"/>
          <a:ext cx="89647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rcRect l="0" t="17829" r="0" b="19982"/>
          <a:stretch/>
        </p:blipFill>
        <p:spPr>
          <a:xfrm>
            <a:off x="250920" y="3284640"/>
            <a:ext cx="18349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n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va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rechten voor wet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srecht (goedkeu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ment = bij meerderheid veranderingen aanbrengen in wetsvoor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ef = wetsontwerp ind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42:24Z</dcterms:created>
  <dc:creator>Daniel Fluitsma</dc:creator>
  <dc:description/>
  <dc:language>en-US</dc:language>
  <cp:lastModifiedBy>Daniel Fluitsma</cp:lastModifiedBy>
  <dcterms:modified xsi:type="dcterms:W3CDTF">2010-02-22T21:07:49Z</dcterms:modified>
  <cp:revision>7</cp:revision>
  <dc:subject/>
  <dc:title>§4: Regering en Parlement:</dc:title>
</cp:coreProperties>
</file>