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754-2E3F-4FD0-862F-1ADACE52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C222-D750-4F14-8FF0-D4D3F258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6D8-99E8-4F64-AB8D-0769B0DC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FF4-8B68-4CC6-B9A8-615278FB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32F1-1244-4479-A576-BA8CF92E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DD7-CDBC-47DE-B267-6B07B410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23F7-145A-4A47-AFED-F1063EAF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4A7-8508-4D33-88F6-6DB37DDB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649-49B3-4E68-A7A1-E39E2A83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5933-A792-457A-9D91-38840F04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8A4-E20F-4BB1-BE03-8A308A69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4EA-DB99-46B7-B28C-2272320C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F0EA-C0B2-4B74-A495-04E2D3ACD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Deelvraag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e is de landelijke politieke besluitvorming in Nederland geregeld en wat is daarbij de rol van Regering en Parlement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8458" t="24413" r="22493" b="35246"/>
          <a:stretch/>
        </p:blipFill>
        <p:spPr>
          <a:xfrm>
            <a:off x="179280" y="3938760"/>
            <a:ext cx="8785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elen om te controler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stellen van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en van interpellatie over belangrijk onderwer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oedde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quête houden, onderzoekscommissie vormen, onder ede laten getuigen. (openba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es ind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e van wantr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e van afkeu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s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ij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ek verantwoordelij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oor hun beleidsterr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n zij 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nstige f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merleden dienen motie van wantrouwen in (aangenomen = ook aftr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e van wantrouwen tegen hele kabinetsbeleid = kabinets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ring maakt wetsontwerp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raagt verplicht advies aan Raad van State (onafhankelijk adviescolle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ndt ontwerp naar Tweede Kam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iespecialisten bekijken het, kunnen punten wijzigen, stellen vragen aan de minist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arna geeft voltallige Tweede Kamer het oordeel over het wetsontwerp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eerderheid Tweede Kamer voo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at naar Eerste kam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 géén wijzigingen meer aannemen, bekijkt het nog eens goed, zegt: “ja” of “nee”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praktijk bijna altijd; “ja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etreffende minister + koningin zetten handtekening onder de 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alisme versus Mon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268280"/>
          <a:ext cx="91440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14868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5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steries/ Departem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 bestaan op dit moment 13 ministeries in Nederland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 ministerie va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gemene Zak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itenlandse Zak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sti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nenlandse Zaken en Koninkrijksrela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derwijs, Cultuur en Wetenscha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ië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ens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kshuisvesting, Ruimtelijke Ordening en 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ieubeheer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keer en Watersta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sche Zaken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bouw, Natuur en Voedselkwalit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iale Zaken en Werkgelegenheid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ksgezondheid, Welzijn en 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abinetsform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?Staat niet in grondwet = gewoonterec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ormd uit de partijen die samen de meerderheid (76 zetels minstens) hebben in de Tweede Kam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ingin benoemt informateu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eur onderzoekt welke regering mogelijk i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ingin benoemt formateu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eur vormt nieuwe kabinet, verdeelt ministerpos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eur wordt de nieuwe pre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920" y="1268280"/>
            <a:ext cx="87138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idige regeringspartij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2060640"/>
          <a:ext cx="896472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896472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3"/>
          <a:srcRect l="0" t="17829" r="0" b="19982"/>
          <a:stretch/>
        </p:blipFill>
        <p:spPr>
          <a:xfrm>
            <a:off x="250920" y="3284640"/>
            <a:ext cx="183492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en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ren van de re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tg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al rechten voor wetge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ingsrecht (goedkeu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ndement = bij meerderheid veranderingen aanbrengen in wetsvoor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ef = wetsontwerp indi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0:42:24Z</dcterms:created>
  <dc:creator>Daniel Fluitsma</dc:creator>
  <dc:description/>
  <dc:language>en-US</dc:language>
  <cp:lastModifiedBy>Daniel Fluitsma</cp:lastModifiedBy>
  <dcterms:modified xsi:type="dcterms:W3CDTF">2010-02-22T21:07:49Z</dcterms:modified>
  <cp:revision>7</cp:revision>
  <dc:subject/>
  <dc:title>§4: Regering en Parlement:</dc:title>
</cp:coreProperties>
</file>