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9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.wmf" ContentType="image/x-wmf"/>
  <Override PartName="/ppt/media/image17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4.png" ContentType="image/png"/>
  <Override PartName="/ppt/media/image21.gif" ContentType="image/gif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B4F-68B1-4345-A6B9-8BEF88A9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CD6-82B2-4E99-8B8E-FB9E8D98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B23-ABAC-4D40-ADD1-E0715845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D89-C9A9-42E4-9B69-73AB25B2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D63-9415-4269-9C79-E79C5E9A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651-B4C6-4514-A761-0E4E8DE7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4952-32B3-44F9-80E2-15BA7427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A28-C606-4692-9C7B-6C92C01E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A4D7-DB5A-4E52-809F-2D0FDDB5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C7B-0B76-47BD-B00B-A718A95E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3CD-3A7E-43D2-8851-74359DE0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5E3-02D7-4EC9-B4C6-1C65CF1F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5C5C-CD80-4BA5-8477-04EA98FA0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5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5562720"/>
            <a:ext cx="71625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gina 186 tot en met 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ET: § 1,3,(5),6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AE0D-8E6C-4FC2-8BBA-16CBDBB1E6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58920" y="1523880"/>
            <a:ext cx="84247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cepteren bedrijven die produceren en eigen prijs bepa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ssentiele goederendiensten in overheidshand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lektriciteits- en gasnetwerk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7628040" cy="1447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76720" y="53341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 Sociaal-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§ 3.1 politieke vi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9DF-61F2-40AD-B16E-844FE22189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§3: van nachtwakersstaat tot verzorgingssta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mocratische drieho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taa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over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n en 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ivil society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urgermaatschappij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conom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kenisvolle structur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2781360"/>
            <a:ext cx="2743200" cy="2514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700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al democra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12000" y="45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221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risten democra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D40-2A48-476A-8D90-E326DD9D18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6532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§ 3.2 Nederland als nachtwaker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 niet kunnen voorz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kerk en van ‘giften’ van rij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666960" cy="34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C9B-7B1B-4128-B70E-27E7F3ABB2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08720" y="3500280"/>
            <a:ext cx="1368360" cy="126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740720" y="3716280"/>
            <a:ext cx="1012680" cy="1063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851280" y="3789360"/>
            <a:ext cx="1012680" cy="1063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924360" y="2133720"/>
            <a:ext cx="1012680" cy="1063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3.2 Nederland als nachtwaker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7488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m Sm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rondlegger liber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jsmechanis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perkt aanbod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ge prijs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nt hoge win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s concurren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jzen dal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dus minder    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jz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interessant              stijgen   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voor produc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die stop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 er evenwicht ont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rijemarkteconom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66960" y="205740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809880"/>
            <a:ext cx="457200" cy="106704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365760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3573360"/>
            <a:ext cx="1600200" cy="12956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0" y="2060640"/>
            <a:ext cx="1368360" cy="1260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611280" y="3573360"/>
            <a:ext cx="755640" cy="695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900000" y="4076640"/>
            <a:ext cx="827280" cy="76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0" y="4292640"/>
            <a:ext cx="828720" cy="763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1979640" y="3573360"/>
            <a:ext cx="698400" cy="1144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2700360" y="3573360"/>
            <a:ext cx="698400" cy="114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rcRect l="0" t="0" r="0" b="56039"/>
          <a:stretch/>
        </p:blipFill>
        <p:spPr>
          <a:xfrm>
            <a:off x="1835280" y="2133720"/>
            <a:ext cx="1347480" cy="971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5724360" y="1413000"/>
            <a:ext cx="1374840" cy="1812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4"/>
          <a:srcRect l="13236" t="0" r="6622" b="0"/>
          <a:stretch/>
        </p:blipFill>
        <p:spPr>
          <a:xfrm>
            <a:off x="3492360" y="5157720"/>
            <a:ext cx="1035360" cy="12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26C-ABE5-449B-AD28-F605E8C171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1653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zorgingsstaat ontstond begin 20e eeuw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producten, meer werknemers aanbod, lagere lo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werden uitgebuit: lonen, werktijden, kinderarb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 (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 WOII,1945 samenwerking uit noodzaak en bereid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maatschappelijke 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invloed van de arbeidsers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ber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rmoede dus criminalitei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is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sterkere rechtspositi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betere leef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onfession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zwakkere beter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19920" y="3930480"/>
          <a:ext cx="3124080" cy="286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930480"/>
                    <a:ext cx="3124080" cy="28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67D-14A6-4B4B-B4BF-EEC83ABDBA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19320" y="112716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89: ontstaan arbeidsinspectie 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kinderwetje van Van Houten (1874) effect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01: ongevallenwet (begin verzorgingssta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19: arbeidswet beperkt tot 8 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83: sociale rechtsstaat, arbeid werd grond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Gemengde martkec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E61-5285-4874-BE1E-54AC09FA71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5238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orlogse opbouwf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ig geld en veel opnieuw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eide loonpoliti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ge lon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werkgevers maar regering bes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omis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e werknemers moest versterkt --&gt; socia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s en nemers bij betrekken --&gt; confession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3.3: het ontstaan vd verzorginssta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C69-B7CB-48A8-ADF3-519576FEE9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gelijkhei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vrijhei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en weg, belangrijke 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ier initiat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schappelijke harmo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ar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gengaan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ije ondernemingsgewijze pro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D09-E791-49CE-A7DD-A857B14575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n verzorgingssta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ciaaldemocratis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andinavische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cur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xibele arbeidsmarkt --&gt; makkelijk ontslagen, makkelijke nieuwe baan, vaak wiss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ke sociale zekerheid --&gt; hoge uitkeringen, goede verlofreg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ur systeem: hoge collectieve 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jen in NL: Gl, SP, deel Pv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atje scandinavie enzo uitdelphi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4B6-2ADA-4D1C-A7E6-ED2A96A21E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n verzorgingssta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rporatis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inentale / rijnlands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engde econimsche 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k ingeperkt door collectieve sector\harnonieuze samenwerking overheid / social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gangspunt: gezin met kinde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jen in NL: CDA, deel Pv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01E-82E8-4400-8DB6-33D7DB39CB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1: de betekenis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2276640"/>
            <a:ext cx="8064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/menselijke bezigheden die je doet, betaald of onbetaal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42900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-Met een bepaal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t gebruik van iemands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capacit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vent. Met behulp va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, computers 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innen een maatschappelijk geregel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behoe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t het doel het leveren van een product of een 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8DC-064E-4D73-9006-F5108008C9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n verzorgingssta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ber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gelsaksis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lfredzaamheid, particulier initiatief en vrijheid cent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uitgebreide sociale zeke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ondernemingsklimaat:loonvorming ma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: gezondheidszog, onderwi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tkeringen kort en la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jen in NL: V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diter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ieuwe lidstaat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7F5-0B3C-40B6-9C56-36D1639AC0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3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ociale Zekerheid</a:t>
            </a:r>
            <a:r>
              <a:rPr b="1" lang="nl-NL" sz="5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B6B-069F-4F59-96B8-5C6DAF0F66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29C-5A26-4C07-8C49-1A0FF76167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sociale zekerheid gereg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ULBZ: 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338-4CE6-4ECC-A29D-7B307AF6B4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8207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19920" y="2971800"/>
            <a:ext cx="279072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CE2-0BC9-492E-A2C5-D34B49FBC9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3FE9-B30E-4CF7-8EBA-5A62952FD1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138-0803-4737-A6D3-EB6A0C08AD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6240" y="1295280"/>
            <a:ext cx="7391520" cy="1295640"/>
          </a:xfrm>
          <a:prstGeom prst="downArrowCallout">
            <a:avLst>
              <a:gd name="adj1" fmla="val 48760"/>
              <a:gd name="adj2" fmla="val 143600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4038480"/>
            <a:ext cx="2895840" cy="1173240"/>
          </a:xfrm>
          <a:prstGeom prst="downArrowCallout">
            <a:avLst>
              <a:gd name="adj1" fmla="val 21096"/>
              <a:gd name="adj2" fmla="val 6212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038480"/>
            <a:ext cx="2895480" cy="1173240"/>
          </a:xfrm>
          <a:prstGeom prst="downArrowCallout">
            <a:avLst>
              <a:gd name="adj1" fmla="val 21094"/>
              <a:gd name="adj2" fmla="val 62121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4038480"/>
            <a:ext cx="2743200" cy="76212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67" idx="0"/>
          </p:cNvCxnSpPr>
          <p:nvPr/>
        </p:nvCxnSpPr>
        <p:spPr>
          <a:xfrm>
            <a:off x="1447560" y="521136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/>
          <p:nvPr/>
        </p:nvCxnSpPr>
        <p:spPr>
          <a:xfrm>
            <a:off x="685800" y="556236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endCxn id="169" idx="0"/>
          </p:cNvCxnSpPr>
          <p:nvPr/>
        </p:nvCxnSpPr>
        <p:spPr>
          <a:xfrm>
            <a:off x="685440" y="5562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" name=""/>
          <p:cNvCxnSpPr>
            <a:stCxn id="170" idx="0"/>
          </p:cNvCxnSpPr>
          <p:nvPr/>
        </p:nvCxnSpPr>
        <p:spPr>
          <a:xfrm flipV="1">
            <a:off x="2971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0"/>
          </p:cNvCxnSpPr>
          <p:nvPr/>
        </p:nvCxnSpPr>
        <p:spPr>
          <a:xfrm flipV="1">
            <a:off x="1828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" name=""/>
          <p:cNvCxnSpPr>
            <a:stCxn id="166" idx="0"/>
          </p:cNvCxnSpPr>
          <p:nvPr/>
        </p:nvCxnSpPr>
        <p:spPr>
          <a:xfrm>
            <a:off x="4571640" y="5211360"/>
            <a:ext cx="2307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" name=""/>
          <p:cNvCxnSpPr/>
          <p:nvPr/>
        </p:nvCxnSpPr>
        <p:spPr>
          <a:xfrm>
            <a:off x="4800600" y="548604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"/>
          <p:cNvCxnSpPr/>
          <p:nvPr/>
        </p:nvCxnSpPr>
        <p:spPr>
          <a:xfrm>
            <a:off x="4800240" y="5486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" name=""/>
          <p:cNvCxnSpPr/>
          <p:nvPr/>
        </p:nvCxnSpPr>
        <p:spPr>
          <a:xfrm flipV="1">
            <a:off x="7086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" name=""/>
          <p:cNvCxnSpPr/>
          <p:nvPr/>
        </p:nvCxnSpPr>
        <p:spPr>
          <a:xfrm flipV="1">
            <a:off x="5943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64" idx="0"/>
            <a:endCxn id="167" idx="1"/>
          </p:cNvCxnSpPr>
          <p:nvPr/>
        </p:nvCxnSpPr>
        <p:spPr>
          <a:xfrm flipH="1">
            <a:off x="1447560" y="3600000"/>
            <a:ext cx="7624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64" idx="1"/>
            <a:endCxn id="166" idx="1"/>
          </p:cNvCxnSpPr>
          <p:nvPr/>
        </p:nvCxnSpPr>
        <p:spPr>
          <a:xfrm>
            <a:off x="2209680" y="3600000"/>
            <a:ext cx="23630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65" idx="0"/>
            <a:endCxn id="168" idx="0"/>
          </p:cNvCxnSpPr>
          <p:nvPr/>
        </p:nvCxnSpPr>
        <p:spPr>
          <a:xfrm>
            <a:off x="6933960" y="3600000"/>
            <a:ext cx="61020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63" idx="0"/>
            <a:endCxn id="164" idx="2"/>
          </p:cNvCxnSpPr>
          <p:nvPr/>
        </p:nvCxnSpPr>
        <p:spPr>
          <a:xfrm flipH="1">
            <a:off x="220932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63" idx="1"/>
            <a:endCxn id="165" idx="1"/>
          </p:cNvCxnSpPr>
          <p:nvPr/>
        </p:nvCxnSpPr>
        <p:spPr>
          <a:xfrm>
            <a:off x="457200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F48-A45E-4D26-8893-EF383415A9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D67-7701-403A-8B6D-CC302C7FF2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895320"/>
            <a:ext cx="853452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g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eer beroep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 sociale zekerheid dan verwach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aren 60: in 1e instantie voor gezi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eind 60:Vrouwen op arbeidsmarkt; ook recht op uitk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isbruik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standsgerechtigden die samenwoon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 snel afgekeurd, wao-uitk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wartwerken om premies te ontlo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liecrisis (1973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werkloosheid steeg --&gt; aantal uitkeringen ste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premies stegen, kosten werkgevers ho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705720" y="2971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B86-28C4-43F6-B86F-C446F6C04E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916280"/>
            <a:ext cx="86756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260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IRAMIDE VAN MA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2920" y="700200"/>
            <a:ext cx="6842160" cy="59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5A2-CCC0-45A9-9ED4-CE28FE7907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aanbodzijde: minder arbeidskra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beidstijdverkoting (ATV) 40, 38 naar 36 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rijwillig vervroegde uittreding (V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vraagzijde: meer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eel goedkoper: belasting en premies om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sidies ondernemers voor person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jecten starten en infrastructuur : arbeidsplaatsen cre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heid neemt producten af van bedrijfs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banen: laageschoolde en werklozen aan tijdelijke baan hel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§ 6.2: maatre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8FA-4479-438D-A1CA-C1A99D896B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 (Werkloosheidswet) afhankelijk van hoe lang iemand heeft 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de arbeid: werkloze moeten aangeboden baan eerder aan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O wordt WIA: strenger gekeurd, deels arbeids ongeschikt =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stand: leeftijd van 18 naar 21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haalsplicht: vb gemeente moet beijstand vrouw bij ex-man verh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strenger: vb computer sociale dienst en belastingdienst vergel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 bezuinigd: eigen bijdrage verhoogd, minder zorg personee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§ 6.2: maatre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605-61D8-43A0-82DE-9781D987E4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lsel stimuleerde mensen niet uit de uitkering te k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ijvende afhankelijkheid van de 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rgroting markwerk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re-integratie, uitkeringen door verschillende instanties. Deze instanties krijgen geld, naar mate het aantal mensen dat zij weer aan het werk krij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rsterken van eigen verantwoordelijkhe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ingevoerd: werkgever moet plan schrijven voor ziekteverzu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t Uitbreiding loondoorbetalingsplicht bij ziekt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WULBZ): 2 jaar 70% doorbetalen door werkg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t Poortwachter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meer dan 6 weken ziek: werkgever maakt plan met werknemer voor re-integratiespro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drijf veel arbeidsongeschikte werknemers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gere pre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§ 6.3: marktwerking en eigen verantwoordelijk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04B-08A4-4032-ADF1-0CD75F0AAF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eve gevol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idsuitgaven geda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astingen konden worden verlaa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mensen met een b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ledig arbeidsongeschikt is geda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e m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kte verzuim geda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1:positieve en negatieve gevol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8B0-7387-4195-A586-68EE31A784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atieve gevol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gere koopkracht, door bezuiniging op uitkeringen:vo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staande moe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deren met enkel A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 sollicitaties wordt gelet op gezond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opgeleide asielzoekers moeten baan accepteren van veel lager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 herkeuringen, vielen veel uitkeringen weg, die krijgen een veel lage bijstan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weinig personeel in de zorg bej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1:positieve en negatieve gevol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FF6-B50E-41B1-BA00-0BC9572AD3E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zorgingsstaat zal weer moeten veranderen in de toekomst door omgevingsfacto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internationalisering van de e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re landen producten voor lager bedrag aan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ge prijs westen door goede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erland wordt kennis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Groeiende invloed van d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ekenhuizen en verzekeraars mogen met elkaar concur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wil hele ‘gezonheidmarkt’ p[enbr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t leidt tot lagere prijzen….maar ook meer kwalitei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2: nieuw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E75-45B2-47DD-AF89-D433853FAA1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rzorgingsstaat zal weer moeten veranderen in de toekomst door omgevingsfactor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3. Ontgroening en 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sen worden oud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nnen zijn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t leidt tot meer mensen m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tkering financierings-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ndslag voor aow-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gere kosten bejaardenz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4. Toenemende diversiteit en individualis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erland is een pluriforme samenl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 gaat uit van de individu (man, vrouw, Turk, Limburger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en en verzekeringen voor iedereen g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praktijk niet; vb stufi, vrouwen minder gewerkt minder pensioen. Dit zou dus moeten veranderen, om iedereen gelijkmatig te laten profiteren van de verzorgingssta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2: nieuw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276640"/>
            <a:ext cx="4724280" cy="1928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8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20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der dan 65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%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rede arbeidsmark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5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2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ittrede arbeidsmark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65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55-60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evenduur manne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69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1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evensduur vrouwe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71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4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B3E-E2C6-4F3A-B814-752438B6CA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CDF-5F1F-4B8F-A399-BD90984786F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81240" y="-360"/>
            <a:ext cx="701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3280" y="1773360"/>
            <a:ext cx="8675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beidsethos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betekenis di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beid voor mensen heeft. 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door sociaal culturele omstandighed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lgemene normen en waarden)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sociaaleconomische situaties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rijkere samenleving kan werk makkelijk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‘onbelangrijk’ vinden dan arm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233800" cy="22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E60-CB4A-4C54-A691-2D3AC11253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2: Arbeid en sociale 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2209680"/>
            <a:ext cx="658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atus/waardering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304920" y="1752480"/>
            <a:ext cx="2592360" cy="4762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7CC-79E1-46A4-AD59-0B9021F305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209" r="0" b="365"/>
          <a:stretch/>
        </p:blipFill>
        <p:spPr>
          <a:xfrm>
            <a:off x="228600" y="1828800"/>
            <a:ext cx="396252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2: Arbeid en sociale 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182880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stratificatie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verdeling van de samenleving in maatschappelijke klassen waartussen een verhouding van sociale ongelijkheid besta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ongelijkh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cht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jkdom e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privilege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7DBB-E055-463D-A783-BFC8303BE5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2: Arbeid en sociale 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058840"/>
            <a:ext cx="849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f dalen op de maatschappelijke ladder =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971800" cy="2438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14800" y="2819520"/>
            <a:ext cx="45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4495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80988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41911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6386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( kansarme raken juist verder achter: 1983 recht op arbeid sociaal grondrecht: overheid moet actief inspannen om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oveel mogelijk mensen aan baan te hel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9B8F-DC79-48F4-84F0-D24E9D005D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Christelijke norm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nemers en werkgevers gezamelijk in harmonie economie vorm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akkeren in verdrukk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ingrij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0" y="1066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hristen-democratische/ confessionel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57340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 m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74680"/>
            <a:ext cx="8915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§ 3.1 politieke vi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rcRect l="7530" t="0" r="0" b="0"/>
          <a:stretch/>
        </p:blipFill>
        <p:spPr>
          <a:xfrm>
            <a:off x="5867280" y="1828800"/>
            <a:ext cx="327672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AD9-3097-4847-9497-9B3C7E91F8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5360" y="192240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ontwikkeling van het individu staat vooro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individu is verantwoordelijk voor het inrichten van zij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idsbemoeienis moet minimaal zij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ij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ughoudend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74167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t libera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§ 3.1 politieke vi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358-CC5D-439F-B6CD-EB902CF953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</cp:lastModifiedBy>
  <dcterms:modified xsi:type="dcterms:W3CDTF">2009-05-07T08:58:44Z</dcterms:modified>
  <cp:revision>77</cp:revision>
  <dc:subject/>
  <dc:title>Dia 1</dc:title>
</cp:coreProperties>
</file>