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82D-15E8-4838-B6BA-5AE188F6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B54-4F79-4338-B292-4BF2BE7D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3FF-423E-4D53-B188-BB9A626A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3E6-0513-442F-8AB8-F1E51264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0B9-4B9B-403F-A85B-8D109E0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4AD-3850-4A0C-B86C-DDB5C1B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B72-5230-4CE6-8080-802145F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4AA-1C58-4D4C-9542-3A1C96DF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E3B-7456-4F8B-8F03-0BDB6CD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D66-2EE9-4C1E-ABD5-DD7BA3B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5A3-F96B-4335-BC11-9B21241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B41-2AFF-428B-9A25-2A1375F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927-5830-4ECA-86EA-C4CBFFE9CC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Hoofdstuk 3: Parlementair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oofdvraag 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worden in de Nederlandse parlementaire democrat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e besluiten gen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Kamer_tcm120-151939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okke_en_sukke_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Kenmerken democratie in de grond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alleen een onafhankelijke rechter mag publicaties of uitzendingen verbie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(wetgevende- uitvoerende- en rechterlijke ma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9280" y="1268280"/>
          <a:ext cx="49723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9723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Poster van de Nederlandsche Bond voor Vrouwenkiesrecht"/>
          <p:cNvPicPr/>
          <p:nvPr/>
        </p:nvPicPr>
        <p:blipFill>
          <a:blip r:embed="rId3"/>
          <a:stretch/>
        </p:blipFill>
        <p:spPr>
          <a:xfrm>
            <a:off x="5219640" y="1700280"/>
            <a:ext cx="392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ijheid van meningsuiting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boodschap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vrijheid van meningsuiting"/>
          <p:cNvPicPr/>
          <p:nvPr/>
        </p:nvPicPr>
        <p:blipFill>
          <a:blip r:embed="rId2"/>
          <a:stretch/>
        </p:blipFill>
        <p:spPr>
          <a:xfrm>
            <a:off x="0" y="1628640"/>
            <a:ext cx="44942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200243009"/>
          <p:cNvPicPr/>
          <p:nvPr/>
        </p:nvPicPr>
        <p:blipFill>
          <a:blip r:embed="rId3"/>
          <a:stretch/>
        </p:blipFill>
        <p:spPr>
          <a:xfrm>
            <a:off x="468360" y="3538440"/>
            <a:ext cx="403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52971-a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nperking"/>
          <p:cNvPicPr/>
          <p:nvPr/>
        </p:nvPicPr>
        <p:blipFill>
          <a:blip r:embed="rId2"/>
          <a:stretch/>
        </p:blipFill>
        <p:spPr>
          <a:xfrm>
            <a:off x="5003640" y="1628640"/>
            <a:ext cx="3743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emonstratie NVU in Harderwijk 2002 by Tonie."/>
          <p:cNvPicPr/>
          <p:nvPr/>
        </p:nvPicPr>
        <p:blipFill>
          <a:blip r:embed="rId3"/>
          <a:stretch/>
        </p:blipFill>
        <p:spPr>
          <a:xfrm>
            <a:off x="468360" y="4005360"/>
            <a:ext cx="4032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er van de machtenscheiding/ Machten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70028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648320" y="1557360"/>
          <a:ext cx="403848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5736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erderheidsbesluit is niet automatisch democratie, eers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burgers moeten hun eigen leven kunnen inrich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7 sociale voorwaarden voor democr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unstige sociaaleconomische ontwikk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te van sociaaleconomische g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rake van democratische politieke cultuur (toleran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renigd in organisaties op grond van ideeën en bela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litairen geen invloed op politi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at goed functioneert (niet corrup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hevige conflicten zijn tussen etnische groe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kunnen rechtstreeks meep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besli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stemmen op vertegen-woordigers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n belangen behartigen in de politieke besluitvor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Democratie"/>
          <p:cNvPicPr/>
          <p:nvPr/>
        </p:nvPicPr>
        <p:blipFill>
          <a:blip r:embed="rId1"/>
          <a:stretch/>
        </p:blipFill>
        <p:spPr>
          <a:xfrm>
            <a:off x="5580000" y="4005360"/>
            <a:ext cx="309564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oksuk-referendum"/>
          <p:cNvPicPr/>
          <p:nvPr/>
        </p:nvPicPr>
        <p:blipFill>
          <a:blip r:embed="rId2"/>
          <a:stretch/>
        </p:blipFill>
        <p:spPr>
          <a:xfrm>
            <a:off x="4716360" y="1700280"/>
            <a:ext cx="385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arlementair 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rechtstr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is koning(in) of door parlement gekozen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eerder symbolisch en representa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identieel stel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én een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sident heeft grote bevoegd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ctatu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genovergesteld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urgers maar onderd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in handen van 1 persoon, familie, partij, militairen, kleine gro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oit een recht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niet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: zelf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rst veel 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nlverkiezinge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Li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ictatuur in Libie, demonstraties voor vrijheid en democ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player.omroep.nl/?aflID=12170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0 tot 4 minu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88/onrust_libi_neemt_grote_vormen_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://www.eenvandaag.nl/buitenland/37238/egypte_in_blijdsch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42/gestorven_voor_een_nieuw_egyp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30/leger_egypte_eist_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kern is “Democrati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en politiek stelsel dat het mogelijk maakt om op basis van meerderheidsbesluiten op vreedzame wijze conflicten op te lossen en afspraken te maken over de inrichting van de samenleving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z. 62 tekstbo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18+ inwoners kunnen d.m.v. algemeen kiesrecht invloed uitoefenen op de besluit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grondrechten is gewaarborgd om in vrijheid invloed te kunnen uitoefe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worden verschillen en conflicten tussen men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iet ontkend of onderdrukt, maar erkend en gereguleer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62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kunnen mensen in vrijheid hun id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n, die va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nhangen met hun belangen, naar voren bre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lz 6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chthebbers kunnen na de verkiezingen hun positie kwijtr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r ze worden niet gevangen gezet en kunnen bij de volgende verkiezingen opnieuw hun kansen beproeven- weer voor tijd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struc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houdingen tussen organisaties en groepen in de politiek en de regels van besluitvorm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cul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anier waarop mensen met elkaar omgaan in de politie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actoren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, groepen en organisaties die actief meedoen in de poli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t is een (parlementaire democratie en op welke waarden is die gebasee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nl-NL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eeuw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volkssoevereinitei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principe waarbij alle macht voortkomt uit de wil van het vo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848: grondwet v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orbec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eindelijke macht ligt niet meer enkel bij de koning maar bij het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hter in 1848 kon enkel de 11% rijkste mannen ste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dustrialisatie 19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uw ontstonden bewegin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is e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7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9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14:31Z</dcterms:created>
  <dc:creator>Daniel Fluitsma</dc:creator>
  <dc:description/>
  <dc:language>en-US</dc:language>
  <cp:lastModifiedBy>ftm</cp:lastModifiedBy>
  <dcterms:modified xsi:type="dcterms:W3CDTF">2011-02-22T09:03:07Z</dcterms:modified>
  <cp:revision>13</cp:revision>
  <dc:subject/>
  <dc:title>Hoofdstuk 3: Parlementaire democratie</dc:title>
</cp:coreProperties>
</file>