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74FA-522C-44F1-B95D-B039EC7B8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9E57-7C61-45C3-9230-33C484CD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24EB-F7D7-48C6-9A9A-D8D13DADC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11F8-A622-42BB-8080-2022EA30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9AC1-4889-4282-A18F-42DD754B9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0E65-70E3-4C72-963F-AD7190A7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EDCC-0469-4A88-BCB2-2D8A25B4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4A85-84A1-4116-B68E-FD816757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DE3F-D71D-423C-B7F1-2CF56699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9A6F-039F-4E0E-9756-DDF7A40E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C2A3-4D49-4560-9AF9-4E7B3395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D055-761D-437D-9B38-A81B641D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F92C-46C4-4062-8211-D58C2226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B0F5-7606-454F-8D18-2C58C2BA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6299-866F-4EB1-B486-B2936643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ECAE-F8A7-463E-BAA1-5C09F5F7D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F400-7108-4EB1-8A75-E7F8D8642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82F95-7E48-40B0-BC7C-E3DE3B96C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490FB-5695-428C-88B9-60F88C45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90F93-DED5-4D55-BD28-47F2B34C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E92A4-9CC5-4B29-AFE4-6AB15E6B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088B2-D65A-4250-95DD-143A02E3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A641-735C-4ED7-AC84-250D6BD0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ED043-634F-4B41-9CFA-FEBFBC81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F0A6F-912A-4CED-AE99-86354AB9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15CDA-CA72-4D97-BC79-7BA4C1A8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1D5FA-15BB-4B2A-A195-DA73F0B7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57B78-A1BE-47EB-8CB3-CF6E60CA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00F1B-87C8-4E11-9D4F-7E7E01249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8259E-507E-4EE5-83E3-0773E6621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5A2D-10C5-4ABA-B2E4-CC288498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1CBB-3604-4319-85EA-63EDF0E8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18A2-CCC8-40C4-9124-79129CDF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D55B-4550-4E05-AD11-FB5DE20A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5324-8643-4B0D-A7B2-0A53E523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CB42-7FD1-4EF1-ACF8-3B5660B8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98F4-C431-4511-85BB-C4CFC036363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6990-4D1E-493E-825F-FB3A9F73D34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E4EA-AAE7-4992-8704-BBCC03DCE65D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/fetch/93689552/93691489/t-gewasbescherming.htm.html?nodeid=93689073&amp;vernum=-2" TargetMode="External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330033"/>
                </a:solidFill>
                <a:latin typeface="Times New Roman"/>
              </a:rPr>
              <a:t>Uitvoeren gewasbescherming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-25560" y="0"/>
            <a:ext cx="3668760" cy="1628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6227640" y="2970360"/>
            <a:ext cx="2916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ha en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re = 1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ha = 10.000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liters en ml (= 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= 100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per ha = 1000 ml per 10.0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liter per ha = 1000 ml per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 1 are is dat: (1/100 van 1000 ml =) 1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iters en kilo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liter is 100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kilo is 1000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ml weegt ongeveer 1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liter weegt ongeveer 1 k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,5 ha moet een vloeibaar onkruidgewasbeschermingsmiddel worden toegediend. Op het etiket wordt een dose­ring van 3 liter per ha vermeld. De hoeveelheid water bij deze behandeling is 200 liter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hoeveelheid middel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hoeveelheid water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de oppervlakte van een voetbalveld als de lengte 100 meter is en de breedte 80 meter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de oppervlakte van een perceel als de lengte 150 meter is en de breedte 80 meter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1500 m² moet een vloeibaar ziektebestrijdingsmiddel worden toegediend in een opgaand gewas. De `dosering' (beter: meng­verhouding of concentratie) is volgens het etiket 50 ml middel per 100 liter water. De benodigde hoeveelheid spuitvloeistof is 20 liter per 100 m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water 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middel in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pdrach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5 ha wordt een spuitpoeder toegepast tegen bladluizen. De dosering bedraagt 0,5 kg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kg middel moet in totaal afgewogen wor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t middel moet ook worden toegepast op een klein perce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middel is er voor dit perceel nodig, uitge­drukt in gram per 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pdrach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meter bij 25 meter moet een onkruidbestrijding worden uitgevoerd. Voor het uitrekenen van de beno­digde hoeveelheid middel en water moet je de oppervlakte we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oppervlakte van dit perce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m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. Bereken de hoeveelheid middel die voor deze bespuiting nodig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milli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 hangt het van af of je de hoeveelheid uitdrukt in liters of in millili­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6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 en een hoeveelheid water van 200 liter per ha. Bereken de hoeveelheid water die voor de bespuiting nodig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Officiëel certifica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250920" y="1138320"/>
            <a:ext cx="8642160" cy="5753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914040" y="1600200"/>
            <a:ext cx="502596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7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perceel van 40 bij 25 meter moet een onkruidbe­strijding worden uitge­voerd. De dosering van het middel is 3 liter per ha en de hoeveelheid water 200 liter per ha. De bestrijding wordt uitgevoerd met een rugspuit die een tankinhoud heeft van 15 li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en water die nodig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n met 1 tankvulling worden volsta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voor de eerste tank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en water voor de tweede tank­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8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eldspuit heeft een inhoud van 1000 liter. Hiermee wordt op een perceel een bespuiting uitgevoerd. Op het etiket wordt voor het middel een dosering van 5 liter per ha aangegeven. De hoeveelheid water per ha is 400 liter. Hoeveel middel moet worden gereed gemaakt voor 1 tankvul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9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wordt een bespuiting uitgevoerd. De dosering van het middel is 5 liter per ha. De hoeveel­heid water per ha is 400 liter. De tank moet voor de laatste omgang bijgevuld worden. Er is nog 100 liter spuitvloeistof in de tank. Er moet nog 2 ha gespoten worden. De noodzakelijke hoeveelheid rest­vloeistof is 25 l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 hoeveel water moet worden bijgevu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1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bietenperceel van 5 ha wordt een rijenbepuiting uitge­voerd. De rijenaf­stand is 50 cm. De te bespuiten strook is 20 cm. Gerekend naar een volveldsbe­spuiting zou 300 liter per ha worden verspoten worden en de dosering van het middel zou 5 liter per ha zijn. De noodzakelijke hoeveelheid restvloei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aagt 25 liter (De veldspuit heeft een tank van 1000 li­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spuitvloeistof moet er worden gereedgemaak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rekenoef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De wet, welke we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gebruiker van gewasbeschermingsmiddelen is het goed om te weten dat er per oktober 2007 het een en ander is veranderd in de regelgeving. Op die datum is de nieuwe 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in werking getreden. Deze wet vervangt de Bestrijdingsmiddelenwet uit 196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800" spc="-1" strike="noStrike">
                <a:solidFill>
                  <a:srgbClr val="330033"/>
                </a:solidFill>
                <a:latin typeface="Times New Roman"/>
              </a:rPr>
              <a:t>Professionele en niet professionele gebruike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nieuwe wet maakt onderscheid tussen professionele en niet-professionele gebruikers van gewasbeschermings- middelen. Ook kent de wet een categorie middelen geschikt voor niet professioneel gebruik. Andere middelen mag u slechts ontvangen, voorhanden hebben of gebruiken als u een (professionele) gebruiker bent die een bewijs van vakbekwaamheid he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200" spc="-1" strike="noStrike" u="sng">
                <a:solidFill>
                  <a:srgbClr val="330033"/>
                </a:solidFill>
                <a:uFillTx/>
                <a:latin typeface="Times New Roman"/>
              </a:rPr>
              <a:t>Professionele gebruikers</a:t>
            </a: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Leveranciers en gebruikers van gewasbeschermingsmiddelen hebben een bewijs nodig van vakbekwaamheid (spuitlicenti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Het bewijs blijft 5 jaar geld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Verlenging is mogelijk door het volgen van verlengingscursuss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330033"/>
                </a:solidFill>
                <a:latin typeface="Times New Roman"/>
              </a:rPr>
              <a:t>Niet-professionele gebruikers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-professionele gebruikers hebben geen bewijs van vakbekwaamheid nodi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j mogen ook maar een beperkt aantal middelen gebruik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melijk die middelen waarvan expliciet is aangegeven (op het etiket) dat ze geschikt zijn voor niet-professioneel gebru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0033"/>
                </a:solidFill>
                <a:latin typeface="Times New Roman"/>
              </a:rPr>
              <a:t>Geïntegreerde bestrij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 ben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pli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m een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ewasbeschermingspla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zie bijlage 1) te maken. Dit is niet nieuw. Wel nieuw is dat elke gebruiker van gewasbeschermingsmiddelen zo’n plan moet maken, dus ook wanneer u alleen maar bijv.verharde oppervlakten bewe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plaats van de verplichting tot het bijhouden van een logboek moet u het gebruik van gewasbeschermingsmiddelen verantwoorden in uw administratie. U neemt daarin op welk middel u in welke hoeveelheid op welk perceel hebt gebruikt, wanneer u het middel heeft gekocht, van wie en in welke hoeveelhe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0" y="479520"/>
            <a:ext cx="9144000" cy="58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0" y="349200"/>
            <a:ext cx="916956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52280" y="1700280"/>
            <a:ext cx="88394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-30240" y="2454120"/>
            <a:ext cx="917424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Hoe kom je aan een licent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drijfsvoerder en de distribuant van gewasbeschermingsmiddelen over de nodige kennis beschikk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men bepaalde cursussen met goed gevolg heeft doorlopen of bepaalde certificaten heeft behaald, kan men in het bezit komen van de wettelijk vereiste licen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Welke licenties zijn e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uit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heeft iedereen nodig die gewasbeschermings ­ 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bedrijfs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is bestemd voor de bedrijfsvoerder van een loonwerkbedrijf of bedrijf in de groenvoorziening die in opdracht van anderen gewas- beschermings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distribueren gewasbescherm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edere beheerder van een verkooppunt van gewasbeschermingsmiddelen moet deze licentie in zijn bezit heb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0:22:13Z</dcterms:created>
  <dc:creator>Administrator</dc:creator>
  <dc:description/>
  <dc:language>en-US</dc:language>
  <cp:lastModifiedBy>Dick van der Neut</cp:lastModifiedBy>
  <dcterms:modified xsi:type="dcterms:W3CDTF">2013-09-15T19:09:23Z</dcterms:modified>
  <cp:revision>6</cp:revision>
  <dc:subject/>
  <dc:title>Uitvoeren gewasbescherming</dc:title>
</cp:coreProperties>
</file>