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8D7-C278-43B1-868B-80DF8BCB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7BB2-0D77-4B3A-8975-8A7D814A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D70-3257-40E1-864E-A745D0DE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828-3B30-417E-A3FC-6C5E9553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6C5C-FD77-404A-B490-943D7FE8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55A8-B52F-40E0-88ED-345DA66E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D5A6-1071-4A4C-9FFF-B5FE1664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E741-CB0E-48EB-9F9E-E1984288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9001-419A-4A81-98A3-E942F5E5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81DA-90DA-44BD-8CEE-1F662440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3E41-8607-45CF-8A8E-66D271F0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5E3-5B47-4B8C-A233-E4CE4940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732E-B209-46B7-90FC-58C3678E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D6D1-8436-4BD3-A807-26A1CE9D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D656-7079-4512-8424-83A8012A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6A53-5356-4D01-9B5F-70486FF4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D6A9-D6D9-418B-8E48-A65C2A6F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2BC4E-D895-4480-86B1-EB637464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13917-4BCC-4B96-BB69-F84DAB2F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7BC4D-9B6E-4918-BDE5-18A89088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F9AB6-2D53-4565-8F54-AEBF5E7A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9F496-7551-4C8F-98F1-ADBDA794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736-4AC9-46EB-9FE5-26E68672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48A85-EAA3-4702-82C2-BBD1BB7D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5FBD3-DBD6-45B2-881B-9FFD4E0F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F66C0-1C68-47C8-BAFD-050651E5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7ACB2-DE88-4652-8E56-DD6DD439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9F49C-0867-40C2-8767-4A7D4814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46937-89A6-4FAE-A32D-72446A3A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3660A-63F1-4163-B909-30516BF0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DEC-A283-4322-A92A-85C5B6AE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35DE-CFF4-4AF2-949B-C81D0889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A105-46F3-4095-9BE4-6024A367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8C8-2F76-47E9-BF07-FAC77351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4DD-06DB-49EF-B8FF-04E6B046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331-5F40-4416-9205-A1F374EA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09DB-5558-4438-ACFD-CCFC23C90B5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7A26-C0AE-44B4-A535-1D87BF55A73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A83F-12DE-4C85-8A17-E3BEA2F523F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-25560" y="0"/>
            <a:ext cx="3668760" cy="162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227640" y="2970360"/>
            <a:ext cx="2916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 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voetbalveld als de lengte 10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perceel als de lengte 15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Officiëel certifica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50920" y="1138320"/>
            <a:ext cx="8642160" cy="5753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14040" y="1600200"/>
            <a:ext cx="50259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349200"/>
            <a:ext cx="91695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1700280"/>
            <a:ext cx="8839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-30240" y="2454120"/>
            <a:ext cx="91742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Dick van der Neut</cp:lastModifiedBy>
  <dcterms:modified xsi:type="dcterms:W3CDTF">2013-09-15T19:09:23Z</dcterms:modified>
  <cp:revision>6</cp:revision>
  <dc:subject/>
  <dc:title>Uitvoeren gewasbescherming</dc:title>
</cp:coreProperties>
</file>