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C4ED-671F-4344-AED8-22880ED6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E128-D6DA-4B8F-9A7F-0B096097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A0B-26F8-4D0B-8036-E281BEBC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454-1652-410C-B4F9-55C62EE7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9F34-DA3D-45FA-8898-F30E7E71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59D8-53B3-4AE3-9450-64518048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C73F-7873-482E-ACB7-24F0E653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B3B8-163D-4DB2-BC74-E6C1DA4E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AF21-CE97-4F7F-85C4-8B07D96C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C6D3-9A26-4975-8019-17EDE369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A4B5-7469-46D2-8156-E2E2C4BE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372F-4FAC-495D-89E0-2351A3AE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37A5-4756-445F-890F-D9722E6E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B9EE-DBAA-4ED6-9D7B-CD00F5E3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2364-93D6-4681-8E3A-139E9020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5C34-D144-4323-815C-DBF5D1C4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F7A7-1852-4AE5-908E-185E28B5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B1FE8-1F02-430F-B93D-1F0358C1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4403E-1350-47A3-8A9F-DFDAADF7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37F20-193D-448E-9D0B-B6BC215A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2AC5B-5AB9-4D15-A083-325CC1A8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85EE2-AF34-4FDF-B9A5-0971ED71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4A9-4EBC-4854-AC7D-AB36EA7D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4FB08-E2A4-496C-81B3-D9C62971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7EBB7-4AEF-4E91-8C59-EEE27931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63044-4682-495F-BAF1-E7A6080B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FF030-479E-41A5-AD98-757FE935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5F686-9A5E-4928-9027-EFCF9793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2EEC1-7573-4575-857C-9B0952BB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74D85-256E-4680-B194-E471AD95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5C9-91E5-4862-B8D5-DD010E3C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AF48-3AAD-49DE-9458-1DFFBA4F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E505-EC36-46FE-9A43-9E71A6BF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E96F-929B-4F24-9E5B-16414CC4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53A-26DD-4C9F-9D8E-0B91EE8B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0BA-5675-4905-B63F-1B4698EC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03C0-0F5B-4D4C-83FB-1CED095C756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BCBE-ADD4-46CD-B243-10DA88D8071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B911-2C6A-40D0-B385-5ACEF6B95E3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-25560" y="0"/>
            <a:ext cx="3668760" cy="162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227640" y="2970360"/>
            <a:ext cx="2916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 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voetbalveld als de lengte 10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de oppervlakte van een perceel als de lengte 150 meter is en de breedte 80 meter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Officiëel certifica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50920" y="1138320"/>
            <a:ext cx="8642160" cy="5753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14040" y="1600200"/>
            <a:ext cx="50259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479520"/>
            <a:ext cx="914400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349200"/>
            <a:ext cx="91695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52280" y="1700280"/>
            <a:ext cx="8839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-30240" y="2454120"/>
            <a:ext cx="917424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Dick van der Neut</cp:lastModifiedBy>
  <dcterms:modified xsi:type="dcterms:W3CDTF">2013-09-15T19:09:23Z</dcterms:modified>
  <cp:revision>6</cp:revision>
  <dc:subject/>
  <dc:title>Uitvoeren gewasbescherming</dc:title>
</cp:coreProperties>
</file>