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8.png" ContentType="image/png"/>
  <Override PartName="/ppt/media/image15.jpeg" ContentType="image/jpe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F84A07-4502-441B-B7AE-E5ECEC3A89B0}" type="datetime">
              <a:rPr b="0" lang="nl-NL" sz="1200" spc="-1" strike="noStrike">
                <a:solidFill>
                  <a:srgbClr val="000000"/>
                </a:solidFill>
                <a:latin typeface="Calibri"/>
              </a:rPr>
              <a:t>31-07-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CBE388-56BC-40B6-9F50-BEFF29CE3C8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D67DF4-4E41-4868-8A82-6C1EAF64448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F19C-8BD3-46BE-BD58-228C662DB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AF28-0A8B-405F-86E6-2946FC87C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3292-A87D-4B94-9FD8-3DF912F2D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3A7C-1D3F-4E6E-93B6-C58F7F170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887A-A078-4DB5-80D5-3349AB10D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74F8-9A25-4449-9A9D-8B0992BA2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6203-BFB1-4E57-9FAA-21149A3F1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F4D2-615E-49A2-9E6A-5463C301E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D223-7DA4-4764-A4BA-85985A029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35AD-9CBE-45CD-B487-5150AF026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91DE-A380-4DAE-B036-DF16DB403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C771-E13D-4084-94EC-E3341A28F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AB8360-A52E-4513-8909-8FA311AEE369}" type="datetime">
              <a:rPr b="0" lang="nl-NL" sz="1200" spc="-1" strike="noStrike">
                <a:solidFill>
                  <a:srgbClr val="898989"/>
                </a:solidFill>
                <a:latin typeface="Calibri"/>
              </a:rPr>
              <a:t>31-07-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B0B7E5-75DC-4ACD-ABF6-6F8B9B30A479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M0n4Vw6twKo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il_fi" descr="http://www.interieurinspiratie.nl/blog/wp-content/uploads/italiaanse_vlag.jpg"/>
          <p:cNvPicPr/>
          <p:nvPr/>
        </p:nvPicPr>
        <p:blipFill>
          <a:blip r:embed="rId1"/>
          <a:stretch/>
        </p:blipFill>
        <p:spPr>
          <a:xfrm>
            <a:off x="320760" y="331920"/>
            <a:ext cx="8413560" cy="6238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5400" spc="-1" strike="noStrike">
                <a:solidFill>
                  <a:srgbClr val="000000"/>
                </a:solidFill>
                <a:latin typeface="Calibri"/>
              </a:rPr>
              <a:t>Italiaanse les (basic)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il_fi" descr="http://www.agritoerisme-toscane.nl/images/uploads/Italian_food.jpg"/>
          <p:cNvPicPr/>
          <p:nvPr/>
        </p:nvPicPr>
        <p:blipFill>
          <a:blip r:embed="rId2"/>
          <a:stretch/>
        </p:blipFill>
        <p:spPr>
          <a:xfrm>
            <a:off x="1397160" y="1747800"/>
            <a:ext cx="6349680" cy="42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04480" y="610920"/>
            <a:ext cx="8512200" cy="53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600" spc="-1" strike="noStrike">
                <a:solidFill>
                  <a:srgbClr val="000000"/>
                </a:solidFill>
                <a:latin typeface="BlairMdITC TT Medium"/>
              </a:rPr>
              <a:t>We vinden er niet veel aan…</a:t>
            </a:r>
            <a:br>
              <a:rPr sz="3200"/>
            </a:b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7" descr=""/>
          <p:cNvPicPr/>
          <p:nvPr/>
        </p:nvPicPr>
        <p:blipFill>
          <a:blip r:embed="rId1"/>
          <a:stretch/>
        </p:blipFill>
        <p:spPr>
          <a:xfrm>
            <a:off x="1609560" y="2347920"/>
            <a:ext cx="592488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hartjes"/>
          <p:cNvPicPr/>
          <p:nvPr/>
        </p:nvPicPr>
        <p:blipFill>
          <a:blip r:embed="rId2"/>
          <a:stretch/>
        </p:blipFill>
        <p:spPr>
          <a:xfrm>
            <a:off x="3508200" y="915840"/>
            <a:ext cx="2084400" cy="174492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Iemand versieren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Je lacht zo lief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Sei dolce quando ridi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Je hebt zulke mooie ogen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I tuoi occhi sono bellisimi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Zullen we dansen?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Balliamo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Je danst heel goed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Balla molto ben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Ik vind het fijn om bij je te zijn 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Mi piache stare con t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Ik heb van je gedroomd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Ho sognato di t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Ik moet de hele dag aan je denken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Tutti il giorno non faccio 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altro che pensarti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Dat zeggen ze allemaal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Questo lo dicono tutti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Laten we geen risico nemen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Non rischiamo nient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Wanneer zie ik je weer?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Quando ti rivedr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ò?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hthoek 1"/>
          <p:cNvSpPr/>
          <p:nvPr/>
        </p:nvSpPr>
        <p:spPr>
          <a:xfrm>
            <a:off x="996840" y="636480"/>
            <a:ext cx="7759800" cy="47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5400" spc="-1" strike="noStrike">
                <a:solidFill>
                  <a:srgbClr val="660066"/>
                </a:solidFill>
                <a:latin typeface="Matura MT Script Capitals"/>
              </a:rPr>
              <a:t>Natuurlijk duurt het even eer je de taal goed beheerst…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5400" spc="-1" strike="noStrike">
                <a:solidFill>
                  <a:srgbClr val="660066"/>
                </a:solidFill>
                <a:latin typeface="Matura MT Script Capitals"/>
              </a:rPr>
              <a:t>Gelukkig kom je ook ver met gebaren</a:t>
            </a:r>
            <a:r>
              <a:rPr b="0" lang="nl-NL" sz="5400" spc="-1" strike="noStrike">
                <a:solidFill>
                  <a:srgbClr val="660066"/>
                </a:solidFill>
                <a:latin typeface="Cambria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 u="sng">
                <a:solidFill>
                  <a:srgbClr val="0000ff"/>
                </a:solidFill>
                <a:uFillTx/>
                <a:latin typeface="Cambria"/>
                <a:hlinkClick r:id="rId1"/>
              </a:rPr>
              <a:t>http://www.youtube.com/watch?v=M0n4Vw6twK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264960" y="318960"/>
            <a:ext cx="5153040" cy="3865680"/>
          </a:xfrm>
          <a:prstGeom prst="rect">
            <a:avLst/>
          </a:prstGeom>
          <a:ln w="0">
            <a:noFill/>
          </a:ln>
        </p:spPr>
      </p:pic>
      <p:sp>
        <p:nvSpPr>
          <p:cNvPr id="52" name="Tekstvak 5"/>
          <p:cNvSpPr/>
          <p:nvPr/>
        </p:nvSpPr>
        <p:spPr>
          <a:xfrm>
            <a:off x="3415320" y="318960"/>
            <a:ext cx="5496480" cy="4421880"/>
          </a:xfrm>
          <a:prstGeom prst="rect">
            <a:avLst/>
          </a:prstGeom>
          <a:solidFill>
            <a:srgbClr val="c6d9f1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9f0000"/>
                </a:solidFill>
                <a:latin typeface="Calibri"/>
              </a:rPr>
              <a:t>Op de luchtha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Arrivo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Aankom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Partenze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Vertr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ogana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ou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Bagagli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Bag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Passaporte prego.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Paspoort a.u.b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ove va?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aar gaat u naar to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A Como (Cernobbio)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Naar Como (Cernobbi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it is niet mijn tas/koffer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Non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è la mia borsa/valig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Er ontbreekt nog een tas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Manca un borsa/una valig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Ik kom uit Holland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Sono di Olan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groeten 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270080"/>
            <a:ext cx="8229600" cy="509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Hallo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Salve/ Cia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Dag mevrouw Sanna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Buon giorno signora Sann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Goedenavond mijnheer Marco Sala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Buona sera signor Marco Sal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Ik heet..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Mi chiamo …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Ik ben …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Sono …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angenaam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iace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Hoe gaat het ermee?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Come stai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rima, en met u?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Benissimo, e lei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Niet zo goed.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Cosi cosi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Tot ziens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Ciao,  arriverderci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Tot snel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 prest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Goede nacht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Buona nott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Ja, natuurlijk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Si, cert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Nee, het spijt me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No, me dispiac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Ik weet het niet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No lo  s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Bedankt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Grazi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Geen dank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Di nient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ardon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Scu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lstublieft (als je iets aangeeft)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reg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lstublieft (als je iets vraagt)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er favo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Afbeelding 3" descr=""/>
          <p:cNvPicPr/>
          <p:nvPr/>
        </p:nvPicPr>
        <p:blipFill>
          <a:blip r:embed="rId1"/>
          <a:stretch/>
        </p:blipFill>
        <p:spPr>
          <a:xfrm>
            <a:off x="1936800" y="274680"/>
            <a:ext cx="1214280" cy="1130400"/>
          </a:xfrm>
          <a:prstGeom prst="rect">
            <a:avLst/>
          </a:prstGeom>
          <a:ln w="0">
            <a:noFill/>
          </a:ln>
        </p:spPr>
      </p:pic>
      <p:pic>
        <p:nvPicPr>
          <p:cNvPr id="56" name="Afbeelding 5" descr=""/>
          <p:cNvPicPr/>
          <p:nvPr/>
        </p:nvPicPr>
        <p:blipFill>
          <a:blip r:embed="rId2"/>
          <a:stretch/>
        </p:blipFill>
        <p:spPr>
          <a:xfrm>
            <a:off x="5979960" y="2755800"/>
            <a:ext cx="990720" cy="1279800"/>
          </a:xfrm>
          <a:prstGeom prst="rect">
            <a:avLst/>
          </a:prstGeom>
          <a:ln w="0">
            <a:noFill/>
          </a:ln>
        </p:spPr>
      </p:pic>
      <p:pic>
        <p:nvPicPr>
          <p:cNvPr id="57" name="Afbeelding 8" descr=""/>
          <p:cNvPicPr/>
          <p:nvPr/>
        </p:nvPicPr>
        <p:blipFill>
          <a:blip r:embed="rId3"/>
          <a:stretch/>
        </p:blipFill>
        <p:spPr>
          <a:xfrm>
            <a:off x="5418000" y="4316400"/>
            <a:ext cx="1397160" cy="1612800"/>
          </a:xfrm>
          <a:prstGeom prst="rect">
            <a:avLst/>
          </a:prstGeom>
          <a:ln w="0">
            <a:noFill/>
          </a:ln>
        </p:spPr>
      </p:pic>
      <p:pic>
        <p:nvPicPr>
          <p:cNvPr id="58" name="Afbeelding 9" descr=""/>
          <p:cNvPicPr/>
          <p:nvPr/>
        </p:nvPicPr>
        <p:blipFill>
          <a:blip r:embed="rId4"/>
          <a:stretch/>
        </p:blipFill>
        <p:spPr>
          <a:xfrm>
            <a:off x="7377120" y="4811760"/>
            <a:ext cx="1266840" cy="1117440"/>
          </a:xfrm>
          <a:prstGeom prst="rect">
            <a:avLst/>
          </a:prstGeom>
          <a:ln w="0">
            <a:noFill/>
          </a:ln>
        </p:spPr>
      </p:pic>
      <p:pic>
        <p:nvPicPr>
          <p:cNvPr id="59" name="Afbeelding 10" descr=""/>
          <p:cNvPicPr/>
          <p:nvPr/>
        </p:nvPicPr>
        <p:blipFill>
          <a:blip r:embed="rId5"/>
          <a:stretch/>
        </p:blipFill>
        <p:spPr>
          <a:xfrm>
            <a:off x="7377120" y="3365640"/>
            <a:ext cx="1266840" cy="950760"/>
          </a:xfrm>
          <a:prstGeom prst="rect">
            <a:avLst/>
          </a:prstGeom>
          <a:ln w="0">
            <a:noFill/>
          </a:ln>
        </p:spPr>
      </p:pic>
      <p:pic>
        <p:nvPicPr>
          <p:cNvPr id="60" name="Afbeelding 11" descr=""/>
          <p:cNvPicPr/>
          <p:nvPr/>
        </p:nvPicPr>
        <p:blipFill>
          <a:blip r:embed="rId6"/>
          <a:stretch/>
        </p:blipFill>
        <p:spPr>
          <a:xfrm>
            <a:off x="7159680" y="1393920"/>
            <a:ext cx="1357200" cy="10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>
              <a:alpha val="54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Openbaar vervoer</a:t>
            </a: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Transporto publico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_x0016_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5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329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000000">
              <a:alpha val="39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TREINE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Rapido 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= sneltrein, soms met toesla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Intercity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= intercity, in Itali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ë met toesla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Espresso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= lange afstandstrei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Diretto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= sneltrei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Locale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= stoptrein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_x0016_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ee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Waar?                     Dov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deze trein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questo tren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deze bus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questo autob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ove va?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aar gaat u naar toe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aar gaat deze trein naar toe?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ove va questo treno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Stopt deze bus in Cernobbio?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Questo autobus si ferma a Cernobbio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ilt u me zeggen waar ik moet uitstappen?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Mi potrebbe indicare la fermata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Siamo arrivati.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Hier is het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Dov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è …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Waar is …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il autobus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de b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il bagno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de w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la via Regina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de straat Regi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ufficio postale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het postkanto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la buca delle lettere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de brievenb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una banca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een ba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man_3pijlen_3622913"/>
          <p:cNvPicPr/>
          <p:nvPr/>
        </p:nvPicPr>
        <p:blipFill>
          <a:blip r:embed="rId1"/>
          <a:stretch/>
        </p:blipFill>
        <p:spPr>
          <a:xfrm>
            <a:off x="1832040" y="1495440"/>
            <a:ext cx="5060880" cy="50418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0" y="777960"/>
            <a:ext cx="9144000" cy="53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_x0016_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Bank Gothic Light"/>
              </a:rPr>
              <a:t>           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rechtdoor = dritto         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links = sinistra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              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rechts =       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dest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Quanto costa …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Wat kost …</a:t>
            </a:r>
            <a:br>
              <a:rPr sz="36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n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ndata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een enkele re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n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ndata e retorno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een reto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n biglietto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een kaartj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n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ndata per Como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Een enkele reis naar Com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n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ndata e retorno all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eroporto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Een retourtje naar de luchthaven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Siamo in ….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We zijn met … person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Biglietti prego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w kaartje, alstublief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La prossima stazione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è ….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et volgende station is…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3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kstvak 6"/>
          <p:cNvSpPr/>
          <p:nvPr/>
        </p:nvSpPr>
        <p:spPr>
          <a:xfrm>
            <a:off x="457200" y="546876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400" spc="-1" strike="noStrike">
                <a:solidFill>
                  <a:srgbClr val="660066"/>
                </a:solidFill>
                <a:latin typeface="Calibri"/>
              </a:rPr>
              <a:t> 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1 uno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2 due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3 tre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4 quarttro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5 cinqu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6 sei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7 sette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8 otto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9 nove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10 die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Afbeelding 8" descr=""/>
          <p:cNvPicPr/>
          <p:nvPr/>
        </p:nvPicPr>
        <p:blipFill>
          <a:blip r:embed="rId1"/>
          <a:stretch/>
        </p:blipFill>
        <p:spPr>
          <a:xfrm>
            <a:off x="2346480" y="941400"/>
            <a:ext cx="2033280" cy="1089000"/>
          </a:xfrm>
          <a:prstGeom prst="rect">
            <a:avLst/>
          </a:prstGeom>
          <a:ln w="0">
            <a:noFill/>
          </a:ln>
        </p:spPr>
      </p:pic>
      <p:pic>
        <p:nvPicPr>
          <p:cNvPr id="72" name="Afbeelding 10" descr=""/>
          <p:cNvPicPr/>
          <p:nvPr/>
        </p:nvPicPr>
        <p:blipFill>
          <a:blip r:embed="rId2"/>
          <a:stretch/>
        </p:blipFill>
        <p:spPr>
          <a:xfrm>
            <a:off x="6815160" y="71280"/>
            <a:ext cx="1658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Afbeelding 5" descr=""/>
          <p:cNvPicPr/>
          <p:nvPr/>
        </p:nvPicPr>
        <p:blipFill>
          <a:blip r:embed="rId1"/>
          <a:stretch/>
        </p:blipFill>
        <p:spPr>
          <a:xfrm>
            <a:off x="0" y="0"/>
            <a:ext cx="1978200" cy="22590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talen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  Pag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192320" y="1244160"/>
            <a:ext cx="749448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Waar is de kassa?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ove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è la cassa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e rekening a.u.b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Ci porte il conto, per favor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Alles bij elkaar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Tutto insiem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Ieder betaalt afzonderlijk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Il conto all aroman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Wat kost het?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Quanto costa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Kan ik met een creditkaart 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Potrei pagare con una cart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betalen?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i credito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Houdt u het wisselgeld maar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Tenga il resto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Kunt u me een bonnetje geven?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Mi pottrebbe dare una 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ricevut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at vind ik te duur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E troppo caro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it klopt niet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ja-JP" sz="22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è une error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kstvak 3"/>
          <p:cNvSpPr/>
          <p:nvPr/>
        </p:nvSpPr>
        <p:spPr>
          <a:xfrm>
            <a:off x="328680" y="5883120"/>
            <a:ext cx="8604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Bank Gothic Light"/>
              </a:rPr>
              <a:t>In een café moet je vaak eerst betalen en met het bonnetje kan je de consumptie halen aan de b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Bank Gothic Light"/>
              </a:rPr>
              <a:t>In een restaurant rekenen ze soms ook het gebruik van het bestek, servetten enzovoorts me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kstvak 3"/>
          <p:cNvSpPr/>
          <p:nvPr/>
        </p:nvSpPr>
        <p:spPr>
          <a:xfrm>
            <a:off x="0" y="0"/>
            <a:ext cx="9144000" cy="64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il menù 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de menuka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il primo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het warme voorgere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Come antipasto prende ...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ls voorgerecht neem ik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e lasagne 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lasag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il risotto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het rijstgere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risotto alla marinara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rijst met v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il secondo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het hoofdgere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come secondo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prende…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ls hoofdgerecht neem ik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a bistecca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karbon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il fungo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paddensto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bistecca ai funghi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karbonade met paddenstoel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a melanzana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auberg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melanzane alla parmigiana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ubergines met ka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Lucida Handwriting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il contorno 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het bijgere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E come contorno?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En als bijgerech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'insalata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sal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a patata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aardapp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fritto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gebakk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e patatine fritte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frietj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il pane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het broo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Dolce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Zoete nagerech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18:24:43Z</dcterms:created>
  <dc:creator>Govert en Yvonne Visser-Koorengevel</dc:creator>
  <dc:description/>
  <dc:language>en-US</dc:language>
  <cp:lastModifiedBy>heuvelejvanden</cp:lastModifiedBy>
  <dcterms:modified xsi:type="dcterms:W3CDTF">2012-11-29T15:31:04Z</dcterms:modified>
  <cp:revision>30</cp:revision>
  <dc:subject/>
  <dc:title>Dia 1</dc:title>
</cp:coreProperties>
</file>