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99D296-4596-434F-9C76-DE3752926042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9E59D1-1A2C-4AA8-92C6-D153833FB6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937CCB-ECF9-44D8-94D6-25D59F4308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1B5F-7CB9-4B9D-8C43-840D9A6F5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D2EF-05A7-444A-8AF0-02B0B27E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3E7E-4772-4561-9B45-CACF95293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EAC8-8589-45A1-901D-98FAD9BB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6DD8-3D1D-4E8B-A4FF-72A84A49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A6B5-0426-4F52-88D3-2AC9D085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423E-E9EC-405D-809B-BE46EE43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BBEB-C1F5-413F-BC17-679940B1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9B1B-86E6-4D79-808A-7208BC8F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C2F1-DAC9-4635-9343-5ECA5F8E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4F8F-68BD-4E11-8AAD-732FAE48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D850-6D47-438C-A6E4-808CCBC9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91300D-8574-40E8-ADAF-0F7D0EF8D7D3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602A34-C9F3-49E0-9CBC-384AA48AD01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foto+vliegveld+faro&amp;source=images&amp;cd=&amp;cad=rja&amp;docid=EMeTGB2Jw1tcDM&amp;tbnid=53LNAPCSM4noaM:&amp;ved=0CAUQjRw&amp;url=http%3A%2F%2Fvakantie.sunplugged.nl%2Fportugal%2Falbufeira-portugal-vliegveld.html&amp;ei=AiUKUbb2GeHV0QWRkoGICA&amp;bvm=bv.41642243,d.d2k&amp;psig=AFQjCNE-HBVo67g2CjM_yEi2b8pCHupx1w&amp;ust=1359705551933405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76320" y="344520"/>
            <a:ext cx="9009000" cy="635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Fr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2705040" y="1787400"/>
            <a:ext cx="375120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artjes"/>
          <p:cNvPicPr/>
          <p:nvPr/>
        </p:nvPicPr>
        <p:blipFill>
          <a:blip r:embed="rId2"/>
          <a:stretch/>
        </p:blipFill>
        <p:spPr>
          <a:xfrm>
            <a:off x="324792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5280" y="1600200"/>
            <a:ext cx="890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us sourire si dou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us avez ce jolis yeu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us danserons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 danses très bi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pense que c’est très agréabl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’être avec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’ai rêvè de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’ai besoin tous les jour à penser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e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’ils disent t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e prenons pa de risqu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 je vous reverra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hthoek 1"/>
          <p:cNvSpPr/>
          <p:nvPr/>
        </p:nvSpPr>
        <p:spPr>
          <a:xfrm>
            <a:off x="996840" y="636480"/>
            <a:ext cx="7759800" cy="58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Mocht je meer willen weten. Vraag het aan je docent Frans op schoo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http://www.paradise-in-portugal.com/blog/wp-content/uploads/2008/12/faro-airpor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9760" y="3189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2936880" y="318960"/>
            <a:ext cx="562284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é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épart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 s’il vous plaît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irez-vous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À Pari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Parij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e n’est pas ma sac/val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manque toujours un s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Je suis originaire de Holl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u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u revoir mad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soir monsieu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nomme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suis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gréa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ment avez-vou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rès bien et avec vou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s si b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u revoir, salu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À bientô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ne nu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ui, bien sû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n, je suis désol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ne sais p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e ri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 sa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’il te plaî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15"/>
          <p:cNvSpPr/>
          <p:nvPr/>
        </p:nvSpPr>
        <p:spPr>
          <a:xfrm>
            <a:off x="63360" y="-15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7"/>
          <p:cNvSpPr/>
          <p:nvPr/>
        </p:nvSpPr>
        <p:spPr>
          <a:xfrm>
            <a:off x="216000" y="-1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9"/>
          <p:cNvSpPr/>
          <p:nvPr/>
        </p:nvSpPr>
        <p:spPr>
          <a:xfrm>
            <a:off x="368280" y="150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1"/>
          <p:cNvSpPr/>
          <p:nvPr/>
        </p:nvSpPr>
        <p:spPr>
          <a:xfrm>
            <a:off x="520560" y="303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2"/>
          <a:stretch/>
        </p:blipFill>
        <p:spPr>
          <a:xfrm>
            <a:off x="6119640" y="839880"/>
            <a:ext cx="1987560" cy="1576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"/>
          <p:cNvPicPr/>
          <p:nvPr/>
        </p:nvPicPr>
        <p:blipFill>
          <a:blip r:embed="rId3"/>
          <a:stretch/>
        </p:blipFill>
        <p:spPr>
          <a:xfrm>
            <a:off x="7283520" y="2725560"/>
            <a:ext cx="1646280" cy="1144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"/>
          <p:cNvPicPr/>
          <p:nvPr/>
        </p:nvPicPr>
        <p:blipFill>
          <a:blip r:embed="rId4"/>
          <a:stretch/>
        </p:blipFill>
        <p:spPr>
          <a:xfrm>
            <a:off x="5611680" y="4302000"/>
            <a:ext cx="2495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42920" y="1417680"/>
            <a:ext cx="8858160" cy="50497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 en commun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7445520" cy="417204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e/express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ain 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GV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Hoge snelheidslij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Thalys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= Trein die rijdt vanaf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Amsterdam via Brussel naar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Parijs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O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09520" y="1600200"/>
            <a:ext cx="873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Ce tr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C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irez-vous?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aller ce trai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Far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e bus s’arrête à Pari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ourriez-vous me dire où je dois descendr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oici le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Où se trouv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e 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toilett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ru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e Bureau de post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oîte aux lettre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 banqu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tout droit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gauche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ro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Ce qui coûte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seul voyage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llet de retou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ticket/ un billet d’alle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voyage aller simple à Paris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Parij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aller-retour pour l’aéropor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ous sommes 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tre billet s’il vous plaî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chaine station e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eux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o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ix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pt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huit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euf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1"/>
          <a:stretch/>
        </p:blipFill>
        <p:spPr>
          <a:xfrm>
            <a:off x="6591240" y="878040"/>
            <a:ext cx="2327400" cy="1079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2"/>
          <a:stretch/>
        </p:blipFill>
        <p:spPr>
          <a:xfrm>
            <a:off x="2763720" y="990720"/>
            <a:ext cx="180828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2004840" cy="2290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y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1244520"/>
            <a:ext cx="9144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ù est la caiss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e compte s’il vous plaî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ns l’ensemb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hargés chacun séparém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ombien cela coûte-t-il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uis-je payer par carte de créd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’il vous plaît changer ma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urez-vous me donner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’ingénieur de bon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e que je trouve trop ch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e n’est pas vrai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La carte de menu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Le démarreur à chaud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entrée, je prend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s lasagne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lat de riz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z avec poisso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Le plat principal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plat principal, je prends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côtelette de porc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champigno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ôtelette de porc avec champignon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’augbergin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gbergine au fromag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Le plat d’accompagnement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t comme plat d’accompagnement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salad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omme de terr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uit au four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s frite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i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Dessert sucré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reedijkr</cp:lastModifiedBy>
  <dcterms:modified xsi:type="dcterms:W3CDTF">2013-01-31T14:54:45Z</dcterms:modified>
  <cp:revision>52</cp:revision>
  <dc:subject/>
  <dc:title>Dia 1</dc:title>
</cp:coreProperties>
</file>