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735D2-27B6-452C-B3E3-F4377BBE26D8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9044F-8A13-4394-B98A-E479826F50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03A8B-59B5-4D1D-AB6B-993CC90D21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8D88-E209-4F30-9E4B-4F3F0826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8EE2-FF3B-42B1-B1C9-551A385E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B3D8-940D-4F88-8833-9DFFB95B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AC62-E38F-4162-BC63-3C60D98A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AEE5-8124-4FBB-B93F-9BD48A27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0FE-45AE-4051-B93B-D33566C9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4FC2-3260-4B0D-B3BC-0D6197D9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6093-357C-46E0-AA84-B4EC7CEB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1681-A0BF-4D86-A9A1-55FDFB49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E633-8B29-4FAB-821C-54E16529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B58-E3A2-4D2F-BDB7-BD1234D6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797A-857A-417F-ADAD-7CC305FF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BE42A-73D8-4D24-8238-B9352F094B55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71C34-7A5E-4D23-AE37-B477063499C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www.spreekbeurten.info/portu6.gif"/>
          <p:cNvPicPr/>
          <p:nvPr/>
        </p:nvPicPr>
        <p:blipFill>
          <a:blip r:embed="rId1"/>
          <a:stretch/>
        </p:blipFill>
        <p:spPr>
          <a:xfrm>
            <a:off x="208080" y="485640"/>
            <a:ext cx="8772480" cy="6042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Portuge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Lighthouse, Cabo Da Roca, Portugal"/>
          <p:cNvPicPr/>
          <p:nvPr/>
        </p:nvPicPr>
        <p:blipFill>
          <a:blip r:embed="rId2"/>
          <a:stretch/>
        </p:blipFill>
        <p:spPr>
          <a:xfrm>
            <a:off x="5459400" y="3708360"/>
            <a:ext cx="32241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ri tão do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tem esses olhos lin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ós vai dançar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dança muito b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acho que é bom estar com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já sonhei com 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preciso o dia inteiro para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pensa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 dezim tu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amos não correr nenhum risc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verei você novamen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61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hebben Bassie en Adriaan er een liedje van gemaakt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mbria"/>
              </a:rPr>
              <a:t>http://www.youtube.com/watch?v=kb4SW-au0L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/>
          <p:cNvPicPr/>
          <p:nvPr/>
        </p:nvPicPr>
        <p:blipFill>
          <a:blip r:embed="rId1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2560" y="318960"/>
            <a:ext cx="599940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hega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i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u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m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or favor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idade de fa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Fa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ão se trate de minha saco/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inda está faltando um s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u venho da H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lá/ Al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a de Senho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 Senh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ngratulo-me com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sou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adá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o você está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uito bem, e com você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 é tão bo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té ma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 vejo dep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m, é cla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me descul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não se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d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dê-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://t3.gstatic.com/images?q=tbn:ANd9GcRgJPadEt3z4ypCiYD5pQkY60eBz6ZbB1-_OAjlnJ-7BQajF5YO"/>
          <p:cNvPicPr/>
          <p:nvPr/>
        </p:nvPicPr>
        <p:blipFill>
          <a:blip r:embed="rId2"/>
          <a:stretch/>
        </p:blipFill>
        <p:spPr>
          <a:xfrm>
            <a:off x="6046920" y="1001880"/>
            <a:ext cx="1549440" cy="134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http://t1.gstatic.com/images?q=tbn:ANd9GcRBCPKsqCYnK4EJ7lr7hImArUdQWfy5lWGi6zH-e6y8egt9jlyqtw"/>
          <p:cNvPicPr/>
          <p:nvPr/>
        </p:nvPicPr>
        <p:blipFill>
          <a:blip r:embed="rId3"/>
          <a:stretch/>
        </p:blipFill>
        <p:spPr>
          <a:xfrm>
            <a:off x="5818320" y="3811680"/>
            <a:ext cx="1474560" cy="14745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7526160" y="4444920"/>
            <a:ext cx="1160640" cy="135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"/>
          <p:cNvPicPr/>
          <p:nvPr/>
        </p:nvPicPr>
        <p:blipFill>
          <a:blip r:embed="rId5"/>
          <a:stretch/>
        </p:blipFill>
        <p:spPr>
          <a:xfrm>
            <a:off x="7526160" y="2490840"/>
            <a:ext cx="123696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49006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es públic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dade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Sud-expres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nationale 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lfa Pendular (AP) = confortabele trei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Lissabon - Porto e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richting Algar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n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t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autoca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este trem vai par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ste autocarro pára em Far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cê poderia me dizer onde eu deveria desc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qui é 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nde 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autocar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wc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s correio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aixa de correi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banc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irec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esquerd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ire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O que custa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única viagem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lhete de regress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het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a única viagem a Far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Fa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 bilhete de regresso ao 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stamos com….pessoa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rtão por favo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 estação mais próxima 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m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é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c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i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78000" y="878040"/>
            <a:ext cx="1368720" cy="1244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6719760" y="662040"/>
            <a:ext cx="20955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nde é o caix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 conta, por fav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do em tu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ada cobrado separadam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u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sso pagar com meu cartão de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ré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ntenha pressionado o dinheiro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 troca m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cê pode me dar o menino d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u acho que é muit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sso não é verda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O mapa de menus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aperitivo quente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o um fermento que devo tomar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lasanha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rato de arro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rroz com peix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O prato principal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Tomo como prato principal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Uma costeleta de porc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cogumel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steleta com cogumelo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com queij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prato de lad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como um prato lateral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slalad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b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zid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s batatas frita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ã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Sobremesas doces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2:54:02Z</dcterms:modified>
  <cp:revision>43</cp:revision>
  <dc:subject/>
  <dc:title>Dia 1</dc:title>
</cp:coreProperties>
</file>