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58F34-79E0-48C5-B1FA-D4E0E1C5803C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E8DCD-F086-47AE-BEF8-F902EEE6CF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6388A-6963-4E12-97B4-3B1943C685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A14-A1E1-4A1F-A51C-C4FD1358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BFBB-8FCA-4875-B458-7CB0AC0B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2C83-AB65-4215-853E-55AB11EA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0740-70F8-4942-A1F1-B6E3DBE9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1DA-53F8-47BF-9E10-9036E7BA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9B4-120D-4945-8815-8D0E1C1C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1CE-5189-40B3-8C7A-0DE4B009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EF1-5F1A-42A3-AE8E-8EC137FD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6D2-6AE3-4093-B2A0-5AF0602D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312C-AABF-4771-929D-311508C5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80F-48A2-45CA-AE74-4926C564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417D-9B91-4D73-9A85-43258F96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2E0E5-255E-4998-A6CF-68E012799BE4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FC641-5BE2-478E-A8F1-8AB4EACDE4B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1:04Z</dcterms:modified>
  <cp:revision>30</cp:revision>
  <dc:subject/>
  <dc:title>Dia 1</dc:title>
</cp:coreProperties>
</file>