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61C2D4-C831-4C20-858F-9BBE55542A74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5F7969-E837-4581-994C-E75D7BF370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05DC3-3C0E-4F56-BC20-A8ECED1E68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59CE-BB51-481B-BEB3-109A4BB5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4EA8-63BD-4DC7-AAD7-1A1138A5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2834-5505-45FF-9F3A-CBD71010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EDDC-CB24-481C-BDC3-01401540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7C20-3D1B-4F0E-9DE2-4DF65C19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D59B-09CF-40DF-AC27-5096C715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F3A8-161D-4A96-B8EC-EC12019B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12A6-1141-4E87-9D14-E576E4C2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0733-1C88-40E4-807C-921858C8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691E-EA9D-4EB2-A414-2E10F50A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6F79-1F0D-475F-B5DA-6C320D91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DED2-CEDC-48E9-A74C-CAFED0C6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66ABF8-B682-4A3C-82DF-195D5E2C91EA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8AA469-2E18-40EE-BA83-19C769A0853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foto+vliegveld+faro&amp;source=images&amp;cd=&amp;cad=rja&amp;docid=EMeTGB2Jw1tcDM&amp;tbnid=53LNAPCSM4noaM:&amp;ved=0CAUQjRw&amp;url=http%3A%2F%2Fvakantie.sunplugged.nl%2Fportugal%2Falbufeira-portugal-vliegveld.html&amp;ei=AiUKUbb2GeHV0QWRkoGICA&amp;bvm=bv.41642243,d.d2k&amp;psig=AFQjCNE-HBVo67g2CjM_yEi2b8pCHupx1w&amp;ust=1359705551933405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76320" y="344520"/>
            <a:ext cx="9009000" cy="635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Fr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2705040" y="1787400"/>
            <a:ext cx="37512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sourire si do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avez ce jolis ye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us danserons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 danses très bi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pense que c’est très agréab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’être avec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rêvè 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besoin tous les jour à penser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’ils disent t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e prenons pa de risqu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 je vous reverra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hthoek 1"/>
          <p:cNvSpPr/>
          <p:nvPr/>
        </p:nvSpPr>
        <p:spPr>
          <a:xfrm>
            <a:off x="996840" y="636480"/>
            <a:ext cx="7759800" cy="58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Mocht je meer willen weten. Vraag het aan je docent Frans op scho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6880" y="318960"/>
            <a:ext cx="562284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é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épart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 s’il vous plaît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À Pari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Parij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n’est pas ma sac/val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manque toujours un s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Je suis originaire de Holl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 mad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soir monsie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omme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suis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é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ment avez-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rès bien et avec 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s si b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, 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À bientô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ne nu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ui, bien sû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n, je suis désol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e sais p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e ri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 sa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’il te plaî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2"/>
          <a:stretch/>
        </p:blipFill>
        <p:spPr>
          <a:xfrm>
            <a:off x="6119640" y="839880"/>
            <a:ext cx="1987560" cy="1576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"/>
          <p:cNvPicPr/>
          <p:nvPr/>
        </p:nvPicPr>
        <p:blipFill>
          <a:blip r:embed="rId3"/>
          <a:stretch/>
        </p:blipFill>
        <p:spPr>
          <a:xfrm>
            <a:off x="7283520" y="2725560"/>
            <a:ext cx="1646280" cy="114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4"/>
          <a:stretch/>
        </p:blipFill>
        <p:spPr>
          <a:xfrm>
            <a:off x="5611680" y="4302000"/>
            <a:ext cx="2495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5049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 en commun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e/express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ain 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GV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Hoge snelheidslij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Thalys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= Trein die rijdt vanaf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msterdam via Brussel naar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Parijs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tr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aller ce trai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bus s’arrête à Pari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ourriez-vous me dire où je dois descend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ici le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ù se trouv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toilet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reau de pos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oîte aux lettre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 banq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tout droit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gauche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ro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Ce qui coûte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seul voyag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let de retou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ticket/ un billet d’alle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voyage aller simple à Pari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Pari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aller-retour pour l’aéropor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ous sommes 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tre billet s’il vous plaî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chaine station e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eu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i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p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hui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euf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6591240" y="878040"/>
            <a:ext cx="2327400" cy="1079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2"/>
          <a:stretch/>
        </p:blipFill>
        <p:spPr>
          <a:xfrm>
            <a:off x="2763720" y="990720"/>
            <a:ext cx="180828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ù est la caiss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e compte s’il vous plaî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ns l’ensemb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hargés chacun séparé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ombien cela coûte-t-il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uis-je payer par carte de créd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’il vous plaît changer ma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urez-vous me donne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’ingénieur de bon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que je trouve trop c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n’est pas vra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La carte de menu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démarreur à chaud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entrée, je prend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lasagn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lat de ri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z avec poiss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Le plat principal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plat principal, je prends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côtelette de porc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champign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ôtelette de porc avec champignon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’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au fromag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plat d’accompagnement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t comme plat d’accompagnement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salad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omme de terr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uit au four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frit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i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Dessert sucré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4:54:45Z</dcterms:modified>
  <cp:revision>52</cp:revision>
  <dc:subject/>
  <dc:title>Dia 1</dc:title>
</cp:coreProperties>
</file>