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png" ContentType="image/pn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9.jpeg" ContentType="image/jpe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9C2212-E44C-4E0A-8614-532AAB00F935}" type="datetime">
              <a:rPr b="0" lang="nl-NL" sz="1200" spc="-1" strike="noStrike">
                <a:solidFill>
                  <a:srgbClr val="000000"/>
                </a:solidFill>
                <a:latin typeface="Calibri"/>
              </a:rPr>
              <a:t>29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C76108-5CCB-43BC-90AA-334ABB84682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FCB9E5-8D5A-4C1D-A34C-0D6EA23B7ED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EC9B-EE46-4C2C-B1C3-8D622CF7E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287D-6C53-486F-92F1-4A142A5AF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14E7-A736-4803-AB12-13DF5123A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B075-FD5B-43A2-B11A-4AC655A70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1142-F973-44F0-883D-5EACF606E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5BFE-89F6-45A0-95EC-08927C2F1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1F97-28A8-4DB5-98AA-467CB0FDE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10A2-6F26-4691-A309-BA8285C41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3F47-901D-4411-AB75-ED2562396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1154-76E9-4EBA-8337-23825CDF7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6282-EF60-477C-AFA6-6D65F84FD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902B-D023-4DF6-83F3-D0CE254A6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0D1CBF-BCC7-429A-B384-311F64F2757E}" type="datetime">
              <a:rPr b="0" lang="nl-NL" sz="1200" spc="-1" strike="noStrike">
                <a:solidFill>
                  <a:srgbClr val="898989"/>
                </a:solidFill>
                <a:latin typeface="Calibri"/>
              </a:rPr>
              <a:t>29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EAADEF-096A-459A-AB41-1750D1577EFE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foto+vliegveld+faro&amp;source=images&amp;cd=&amp;cad=rja&amp;docid=EMeTGB2Jw1tcDM&amp;tbnid=53LNAPCSM4noaM:&amp;ved=0CAUQjRw&amp;url=http%3A%2F%2Fvakantie.sunplugged.nl%2Fportugal%2Falbufeira-portugal-vliegveld.html&amp;ei=AiUKUbb2GeHV0QWRkoGICA&amp;bvm=bv.41642243,d.d2k&amp;psig=AFQjCNE-HBVo67g2CjM_yEi2b8pCHupx1w&amp;ust=1359705551933405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76320" y="344520"/>
            <a:ext cx="9009000" cy="63532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000000"/>
                </a:solidFill>
                <a:latin typeface="Calibri"/>
              </a:rPr>
              <a:t>Franse les (basic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2"/>
          <a:stretch/>
        </p:blipFill>
        <p:spPr>
          <a:xfrm>
            <a:off x="2705040" y="1787400"/>
            <a:ext cx="3751200" cy="43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hartjes"/>
          <p:cNvPicPr/>
          <p:nvPr/>
        </p:nvPicPr>
        <p:blipFill>
          <a:blip r:embed="rId2"/>
          <a:stretch/>
        </p:blipFill>
        <p:spPr>
          <a:xfrm>
            <a:off x="3247920" y="915840"/>
            <a:ext cx="2084400" cy="17449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Iemand versiere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25280" y="1600200"/>
            <a:ext cx="890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lacht zo lief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ous sourire si doux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hebt zulke mooie og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ous avez ce jolis yeux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Zullen we dansen?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Nous danserons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danst heel goe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Tu danses très bie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vind het fijn om bij je te zijn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pense que c’est très agréable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d’être avec vou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heb van je gedroom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’ai rêvè de vou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moet de hele dag aan je denk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’ai besoin tous les jour à penser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de vou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Dat zeggen ze allemaal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Qu’ils disent tou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Laten we geen risico nem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Ne prenons pa de risqu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Wanneer zie ik je weer?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Quand je vous reverrai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hthoek 1"/>
          <p:cNvSpPr/>
          <p:nvPr/>
        </p:nvSpPr>
        <p:spPr>
          <a:xfrm>
            <a:off x="996840" y="636480"/>
            <a:ext cx="7759800" cy="58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660066"/>
                </a:solidFill>
                <a:latin typeface="Matura MT Script Capitals"/>
              </a:rPr>
              <a:t>Natuurlijk duurt het even eer je de taal goed beheerst…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660066"/>
                </a:solidFill>
                <a:latin typeface="Matura MT Script Capitals"/>
              </a:rPr>
              <a:t>Mocht je meer willen weten. Vraag het aan je docent Frans op schoo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http://www.paradise-in-portugal.com/blog/wp-content/uploads/2008/12/faro-airport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9760" y="31896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52" name="Tekstvak 5"/>
          <p:cNvSpPr/>
          <p:nvPr/>
        </p:nvSpPr>
        <p:spPr>
          <a:xfrm>
            <a:off x="2936880" y="318960"/>
            <a:ext cx="5622840" cy="4421880"/>
          </a:xfrm>
          <a:prstGeom prst="rect">
            <a:avLst/>
          </a:prstGeom>
          <a:solidFill>
            <a:srgbClr val="c6d9f1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9f0000"/>
                </a:solidFill>
                <a:latin typeface="Calibri"/>
              </a:rPr>
              <a:t>Op de luchtha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rrivé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ankom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épart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ertr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uan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u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agag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ag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ssaport s’il vous plaît.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spoort a.u.b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ù irez-vous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u naar to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À Paris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Naar Parij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it is niet mijn tas/koffer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Ce n’est pas ma sac/val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r ontbreekt nog een tas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l manque toujours un s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k kom uit Holland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Je suis originaire de Holl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groeten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2700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allo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alu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Dag mevrouw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u revoir mad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oedenavond mijnheer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onsoir monsieu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heet..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Je nomme…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ben …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Je suis…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angenaam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gréab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oe gaat het ermee?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omment avez-vous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rima, en met u?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rès bien et avec vous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iet zo goed.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as si bo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ot ziens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u revoir, salu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ot snel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À bientô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oede nach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onne nui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Ja, natuurlijk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Oui, bien sû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ee, het spijt me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on, je suis désol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weet het nie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Je ne sais pa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edank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Merc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een dank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de ri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ardon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ard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lstublieft (als je iets aangeeft)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on sa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lstublieft (als je iets vraagt)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’il te plaî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Afbeelding 3" descr=""/>
          <p:cNvPicPr/>
          <p:nvPr/>
        </p:nvPicPr>
        <p:blipFill>
          <a:blip r:embed="rId1"/>
          <a:stretch/>
        </p:blipFill>
        <p:spPr>
          <a:xfrm>
            <a:off x="1936800" y="274680"/>
            <a:ext cx="1214280" cy="113040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15"/>
          <p:cNvSpPr/>
          <p:nvPr/>
        </p:nvSpPr>
        <p:spPr>
          <a:xfrm>
            <a:off x="63360" y="-154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7"/>
          <p:cNvSpPr/>
          <p:nvPr/>
        </p:nvSpPr>
        <p:spPr>
          <a:xfrm>
            <a:off x="216000" y="-14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9"/>
          <p:cNvSpPr/>
          <p:nvPr/>
        </p:nvSpPr>
        <p:spPr>
          <a:xfrm>
            <a:off x="368280" y="1508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21"/>
          <p:cNvSpPr/>
          <p:nvPr/>
        </p:nvSpPr>
        <p:spPr>
          <a:xfrm>
            <a:off x="520560" y="3031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2"/>
          <a:stretch/>
        </p:blipFill>
        <p:spPr>
          <a:xfrm>
            <a:off x="6119640" y="839880"/>
            <a:ext cx="1987560" cy="1576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" descr=""/>
          <p:cNvPicPr/>
          <p:nvPr/>
        </p:nvPicPr>
        <p:blipFill>
          <a:blip r:embed="rId3"/>
          <a:stretch/>
        </p:blipFill>
        <p:spPr>
          <a:xfrm>
            <a:off x="7283520" y="2725560"/>
            <a:ext cx="1646280" cy="1144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5" descr=""/>
          <p:cNvPicPr/>
          <p:nvPr/>
        </p:nvPicPr>
        <p:blipFill>
          <a:blip r:embed="rId4"/>
          <a:stretch/>
        </p:blipFill>
        <p:spPr>
          <a:xfrm>
            <a:off x="5611680" y="4302000"/>
            <a:ext cx="24955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142920" y="1417680"/>
            <a:ext cx="8858160" cy="504972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2920" y="274320"/>
            <a:ext cx="8858160" cy="114300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Openbaar vervoer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Transport en commun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599840"/>
            <a:ext cx="7445520" cy="4172040"/>
          </a:xfrm>
          <a:prstGeom prst="rect">
            <a:avLst/>
          </a:prstGeom>
          <a:solidFill>
            <a:srgbClr val="000000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TREIN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Rapide/express 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sneltre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Train intercity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interc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TGV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Hoge snelheidslij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Thalys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= Trein die rijdt vanaf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Amsterdam via Brussel naar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Parijs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_x0016_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aar?                   Où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09520" y="1600200"/>
            <a:ext cx="8732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eze trein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Ce tra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eze bus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Ce 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ù irez-vous?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u naar to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deze trein naar toe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ù aller ce train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topt deze bus in Faro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Ce bus s’arrête à Paris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ilt u me zeggen waar ik moet uitstappen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ourriez-vous me dire où je dois descendr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oici le.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Hier is he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Où se trouve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aar is …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e bus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a toilett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w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a ru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straa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e Bureau de post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het postkanto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a boîte aux lettres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brieven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une banqu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een ba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man_3pijlen_3622913"/>
          <p:cNvPicPr/>
          <p:nvPr/>
        </p:nvPicPr>
        <p:blipFill>
          <a:blip r:embed="rId1"/>
          <a:stretch/>
        </p:blipFill>
        <p:spPr>
          <a:xfrm>
            <a:off x="1832040" y="1495440"/>
            <a:ext cx="5060880" cy="50418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0" y="777960"/>
            <a:ext cx="9144000" cy="53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Bank Gothic Light"/>
              </a:rPr>
              <a:t>  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rechtdoor = tout droit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links = gauche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     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rechts =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droi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Ce qui coûte…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Wat kost …</a:t>
            </a:r>
            <a:br>
              <a:rPr sz="36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 seul voyage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enkele re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 billet de retour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reto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 ticket/ un billet d’aller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kaart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 voyage aller simple à Paris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en enkele reis naar Parij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 aller-retour pour l’aéroport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en retourtje naar de luchthave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ous sommes à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We zijn met … person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otre billet s’il vous plaît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w kaartje, alstublief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La prochaine station e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….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et volgende station is…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kstvak 6"/>
          <p:cNvSpPr/>
          <p:nvPr/>
        </p:nvSpPr>
        <p:spPr>
          <a:xfrm>
            <a:off x="457200" y="546876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1 un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2 deux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3 trois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4 quatr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5 cinq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6 six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7 sept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8 huit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9 neuf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10 d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7" descr=""/>
          <p:cNvPicPr/>
          <p:nvPr/>
        </p:nvPicPr>
        <p:blipFill>
          <a:blip r:embed="rId1"/>
          <a:stretch/>
        </p:blipFill>
        <p:spPr>
          <a:xfrm>
            <a:off x="6591240" y="878040"/>
            <a:ext cx="2327400" cy="10792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"/>
          <p:cNvPicPr/>
          <p:nvPr/>
        </p:nvPicPr>
        <p:blipFill>
          <a:blip r:embed="rId2"/>
          <a:stretch/>
        </p:blipFill>
        <p:spPr>
          <a:xfrm>
            <a:off x="2763720" y="990720"/>
            <a:ext cx="1808280" cy="13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Afbeelding 5" descr=""/>
          <p:cNvPicPr/>
          <p:nvPr/>
        </p:nvPicPr>
        <p:blipFill>
          <a:blip r:embed="rId1"/>
          <a:stretch/>
        </p:blipFill>
        <p:spPr>
          <a:xfrm>
            <a:off x="0" y="0"/>
            <a:ext cx="2004840" cy="22906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talen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 Pay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0" y="1244520"/>
            <a:ext cx="9144000" cy="47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Waar is de kassa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Où est la caiss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e rekening a.u.b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Le compte s’il vous plaî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Alles bij elkaa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ans l’ensembl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Ieder betaalt afzonderlijk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hargés chacun séparémen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Wat kost het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ombien cela coûte-t-il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an ik met een creditkaart betalen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Puis-je payer par carte de crédi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Houdt u het wisselgeld maa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S’il vous plaît changer mai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unt u me een bonnetje geven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Pourez-vous me donner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l’ingénieur de bon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at vind ik te duu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e que je trouve trop che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it klopt niet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e n’est pas vrai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kstvak 3"/>
          <p:cNvSpPr/>
          <p:nvPr/>
        </p:nvSpPr>
        <p:spPr>
          <a:xfrm>
            <a:off x="0" y="0"/>
            <a:ext cx="9144000" cy="64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La carte de menu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de menuka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Le démarreur à chaud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het warme voor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n entrée, je prends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ls voorgerecht neem ik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es lasagnes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lasag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e plat de riz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het rijst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Riz avec poisson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rijst met v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Le plat principal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het hoofd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n plat principal, je prends…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ls hoofdgerecht neem ik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a côtelette de porc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karbon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e champignon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paddensto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Côtelette de porc avec champignons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karbonade met paddenstoe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’augbergine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auberg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ugbergine au fromage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ubergines met ka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Le plat d’accompagnement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het bij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t comme plat d’accompagnement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n als bijgerech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a salade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sal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a pomme de terre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aardapp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Cuit au four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gebak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es frites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frietj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e pain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het bro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Dessert sucré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Zoete nagerech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8:24:43Z</dcterms:created>
  <dc:creator>Govert en Yvonne Visser-Koorengevel</dc:creator>
  <dc:description/>
  <dc:language>en-US</dc:language>
  <cp:lastModifiedBy>reedijkr</cp:lastModifiedBy>
  <dcterms:modified xsi:type="dcterms:W3CDTF">2013-01-31T14:54:45Z</dcterms:modified>
  <cp:revision>52</cp:revision>
  <dc:subject/>
  <dc:title>Dia 1</dc:title>
</cp:coreProperties>
</file>