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0B-517C-4B88-ACBB-062CF1EA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9E6-8AC6-45D8-B84B-D64E9B8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A74-3051-4159-B5FA-A5E517C4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048-75CF-4995-864D-4931ED13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78D9-286C-4B17-8E5A-AB22608F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DE47-FB20-4E7E-8116-5F73B4F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0AF3-3D59-43D8-9F71-BFF10EA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482-86E8-423B-8F08-83A950A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60A-350E-4394-B93C-49A5A83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B8F8-F505-4038-BA62-BA97339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D0CC-3431-4C2E-A794-42166FE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F16-B3A9-45CA-A5C3-943600E4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367-B110-4C40-BA6B-9051D4D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E74B-9DC2-423E-B551-7490D8A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CB9-6345-4C44-AABD-9503B75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AFC6-7E62-41C7-B506-FCA9EE31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EB07-2FDF-465A-BD50-400E1C18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B53-7E2A-42F9-9037-9EA2EA3A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CAC-BCA0-4D21-A6B9-DD28529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BF2-B2F8-4417-A078-3F127A7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FA4-77E4-419C-9A13-0E678ED6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61D-4D52-45A5-9D2B-E1CDB3E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114-08D1-4632-ADD5-A958F0A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37A-7E57-49B5-BAE3-00A08B0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D67-3AA9-43FF-A16C-6D8F03EF82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EC5-118B-4165-9F8D-FE4EBDC9D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22720"/>
        </p:xfrm>
        <a:graphic>
          <a:graphicData uri="http://schemas.openxmlformats.org/drawingml/2006/table">
            <a:tbl>
              <a:tblPr/>
              <a:tblGrid>
                <a:gridCol w="1828800"/>
                <a:gridCol w="5257800"/>
                <a:gridCol w="144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om  dit proje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6T21:40:41Z</dcterms:modified>
  <cp:revision>13</cp:revision>
  <dc:subject/>
  <dc:title>Projectmanagement</dc:title>
</cp:coreProperties>
</file>