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138-4840-4586-9588-88AB3106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E83-E057-409E-AF7D-918BCB80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323-0933-4576-8824-B6304891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C39-4A43-4352-B9AE-3C95806D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C798-D402-4A72-AAD6-7193FEB6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FEFC-4740-44F5-9229-4EDC51F6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C210-7E56-4CD9-B159-532A9E9B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D445-202F-485C-AC30-3ACAD720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3F7F-7847-4504-BB0D-9919D26F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0ADD-59F2-46DC-A4F1-FE46C50E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E992-E1E4-4D04-988D-FE37E2C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280-E03C-49CF-AE4F-6BCA4419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FE2C-DDF4-4710-BA22-1E3B56C2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48D3-5AEF-4CC2-8260-6430AB38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034F-7987-4106-8DA9-DAF4A16C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0AC9-4DA0-4A42-80FF-E97F936D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06F8-7E84-4B7C-ABE9-053CCA57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9D7-65D8-41C4-B16C-6CBE74B5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460-7A7E-4668-A9C1-DD4ECA7A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666-8A5A-4282-BB8C-5BA76AB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655-7A82-439C-B53C-2144C35F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F42-A040-4E8E-8024-64FF4FC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9A5-ACC2-4BE0-8AE9-F78A51C2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AB8-E20B-4800-AED7-1AC2C47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01B6-D35F-4EDA-8292-63609F1B73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32D7-ABED-436E-8706-9ADB7B0445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22720"/>
        </p:xfrm>
        <a:graphic>
          <a:graphicData uri="http://schemas.openxmlformats.org/drawingml/2006/table">
            <a:tbl>
              <a:tblPr/>
              <a:tblGrid>
                <a:gridCol w="1828800"/>
                <a:gridCol w="5257800"/>
                <a:gridCol w="1447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om  dit proje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6T21:40:41Z</dcterms:modified>
  <cp:revision>13</cp:revision>
  <dc:subject/>
  <dc:title>Projectmanagement</dc:title>
</cp:coreProperties>
</file>