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FEA-2324-4433-84DC-F14ED8CF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E91-03CC-4AB1-BCFB-2360603A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AF6-BAD1-4C7A-870B-900359F3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CA0-300D-4699-BC1B-D45BA984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F003-F8A1-45AC-B92D-0EE0773E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5062-E8A1-4DF9-927A-1409ABF8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26C1-3179-4B4F-BC77-2203B40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9A31-2D7E-4688-AA86-ED25EEC5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1483-08E1-405D-BB74-B0CC9530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1961-5D58-4CC8-A346-81A1B5E3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84DF-531C-4BA3-A62D-533C1F1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562-D4CD-453F-AB44-31FF447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601A-175B-476A-8E76-D7A7E22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F2E-DF46-4F6B-B345-8367759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AE90-78ED-4435-981C-D2E62C1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C2AB-1FF2-4A0B-A807-EA465217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AD89-D52F-4DE1-911D-5C3C2197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728-31DE-4168-97F8-28B0D13D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882-3FF9-4478-9B62-9C079D4A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FEA-0CCD-4A4A-BA52-EAAA2FBA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298-A348-499A-97D6-3725BEA9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812-4BF1-407F-B7A9-40D1E94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320-24A3-425C-ABC9-20D829A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848-EFD2-48F1-8010-168A4C32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B1C8-F0DA-497C-BCCC-CF834A11D8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0A7E-9F81-4F9E-93B6-7DA2119AD2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22720"/>
        </p:xfrm>
        <a:graphic>
          <a:graphicData uri="http://schemas.openxmlformats.org/drawingml/2006/table">
            <a:tbl>
              <a:tblPr/>
              <a:tblGrid>
                <a:gridCol w="1828800"/>
                <a:gridCol w="5257800"/>
                <a:gridCol w="144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om  dit proje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6T21:40:41Z</dcterms:modified>
  <cp:revision>13</cp:revision>
  <dc:subject/>
  <dc:title>Projectmanagement</dc:title>
</cp:coreProperties>
</file>