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8B48-5208-4F86-8028-4D8CCB7F8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53D3-D3E4-43E0-86BC-F992338F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B9F7-AB5B-43FF-A120-6C30B4DF5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89BA-13E4-4CA7-95B8-A18B6BEEB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943F-334C-4A7F-ADAF-3F4D128A3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BEEB-D662-4960-BBBE-D5499755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CADC-08A5-4025-8516-D7E0F903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E02D-43B3-44ED-9D8B-931C93D4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06DC-C23C-4950-9E02-802C1A23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46FB-64AD-4669-8B40-6B936811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6E8F-D3F9-4DF9-AD31-C49FE167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EC45-C7C9-45DF-976E-71D1C704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FCB9-1B59-462C-B183-8708E977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A8A4-6D7A-4366-8D5B-496AB8DE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1E18-D2FA-4F8E-9F02-72DA8CD8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0CF8-9963-4B28-A494-5EA6578A5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7E21-74D3-4B10-A540-66A53C0B6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C752-C8A2-456B-8666-2B507DA1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05D7-27FE-4AA7-A2A5-96AE254B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9F7C-601E-487F-8F7B-16EB6364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E9B2-D48A-46D9-B89F-3AAD2199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0106-AD71-49CF-82D8-B4FF6DBE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7A19-E2A4-4E0E-BBC9-4EABDD98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D7CD-38D2-4F6B-92E9-D4CE6937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C867-F7ED-4489-96E3-61ED663EB9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2B10-671C-4362-8B88-6ED7090DB3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oject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lan van Aanpak (P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 Project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Geldbeheers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begro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dement van he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bewaking en evt. deelbudgetbehee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kenbevoegdhe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e mag hoeveel geld aan wat uitgeven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Kwalitei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 welke 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teitseisen moet h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ultaat voldo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lke instrumenten voor kwaliteitscontrole ga je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g va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 er met (ISO)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rm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dt gewer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De projectorganisati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eel de func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Projectleid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en p</a:t>
            </a: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rojec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ie met onderaannem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n 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bevoegdheden v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pdrachtgever, projectleider, lijnmanager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f aan hoeveel tijd iedereen he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ijdverantwoordingsformuli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11. Communicatiepla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e communic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 communic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6672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e 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urgro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ankbordgro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levering van tussenevalu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dos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12. Risicoanaly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mene projectrisico’s (checkl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eke risico’s (brainsto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tabel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jst van preventieve maatregelen en noodscenario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Bijlag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nnen die geraadpleegd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oek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son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detailleerde begrot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k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Arial"/>
              </a:rPr>
              <a:t>Plan van aanpa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04920" y="762120"/>
          <a:ext cx="8534160" cy="5922720"/>
        </p:xfrm>
        <a:graphic>
          <a:graphicData uri="http://schemas.openxmlformats.org/drawingml/2006/table">
            <a:tbl>
              <a:tblPr/>
              <a:tblGrid>
                <a:gridCol w="1828800"/>
                <a:gridCol w="5257800"/>
                <a:gridCol w="14475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htergrond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arom  dit projec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elstelling en projectopdrac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grenzen en randvoorwaard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 gaan we doe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activitei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ructuur van het proj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e houden we alles onder control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ldbeheersin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waliteitsbeheersin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organisati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catiepla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icoanaly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jla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chtergronden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520" y="1523520"/>
            <a:ext cx="853452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eef een beschrijving va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rgan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doet het bedr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w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leiding voor het p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ject (probleem / k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s er een relatie met andere projec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akeholdersanal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800"/>
            </a:b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Doelstellingen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 en projectopdrach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7524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arom wordt het project uitgevoe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Je moet met de doelstelling duidelijk kunnen maken wat de opdrachtgever van het project verwach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van Eisen (P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er klaar als het projec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ar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jectresulta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dg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 zijn de gebruikers van het resulta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Projectgrenzen en randvoorwaard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hoort er wel en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nie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bij he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noem vooral waar me</a:t>
            </a: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ver zou kunnen twijfel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 geeft de opdrachtgever de gelegenheid om bij te stur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g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n eind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tum van he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heb je per sé nodig om het project tot een goed einde te bre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De projectactiviteiten</a:t>
            </a:r>
            <a:r>
              <a:rPr b="1" lang="nl-NL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rijf alle projectactiviteiten o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als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chr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voorber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beh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uitvo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De product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ga je oplever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rij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produ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n gebeurteni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t zijn zaken waar de gebruikers </a:t>
            </a: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 zitten te wacht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jv. een tuin, een evenement, een presentati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 producten samen leveren uiteindelij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 projec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ult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Hoofdstructuur v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n het projec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k een WBS (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k Breakdown Structu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t alle projec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tiviteit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producten in d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beer de activiteiten logisch te groep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t activiteiten die een vergelijkbare hoeveelheid werk kosten op hetzelfde niv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ofdfasering met mijlpalen in de 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De plann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3733920" y="1523880"/>
            <a:ext cx="16002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3200400" y="2819520"/>
            <a:ext cx="266688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eiten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2819520" y="4191120"/>
            <a:ext cx="34290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erk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2438280" y="5562720"/>
            <a:ext cx="419112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ken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0"/>
          <p:cNvSpPr/>
          <p:nvPr/>
        </p:nvSpPr>
        <p:spPr>
          <a:xfrm>
            <a:off x="4343400" y="22860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1"/>
          <p:cNvSpPr/>
          <p:nvPr/>
        </p:nvSpPr>
        <p:spPr>
          <a:xfrm>
            <a:off x="4343400" y="35812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2"/>
          <p:cNvSpPr/>
          <p:nvPr/>
        </p:nvSpPr>
        <p:spPr>
          <a:xfrm>
            <a:off x="4343400" y="49528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10:20:10Z</dcterms:created>
  <dc:creator>Ruud</dc:creator>
  <dc:description/>
  <dc:language>en-US</dc:language>
  <cp:lastModifiedBy>Robbert Oosterom</cp:lastModifiedBy>
  <dcterms:modified xsi:type="dcterms:W3CDTF">2013-10-16T21:40:41Z</dcterms:modified>
  <cp:revision>13</cp:revision>
  <dc:subject/>
  <dc:title>Projectmanagement</dc:title>
</cp:coreProperties>
</file>