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C08B1AC-3995-45C2-BA5F-48D69F07C5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er = ener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ltijd afvragen  Hoe groot is de energienehoefte van mijn paard.  (afhankelijk van gewicht, prestatie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oerageerged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elen domesticatie = gedragsprob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roeger en 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uisvesting stro bedekking, beweging, soicaal contact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4F5-63B8-4DA8-B7EF-1BFB9DCC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2DB-EEBA-4B72-81DB-23DAF781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379-59A0-4F9D-B314-30109E9B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677-2C71-4657-8004-FCD2838A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125-3BE7-45C2-BBC3-D7E595BE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C4A-B9A7-44C1-92B1-7EC57AA9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D23-A9D8-4B8E-963A-AC79BAD8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A5D-3022-4C45-81DE-A78AB704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2D6-9A7B-4246-9283-F80A5A23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2D5-F11C-4401-94F6-7F3F20F6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98C-C4C7-4526-A488-DB66BE9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977-78F3-4455-88E3-DA8C2FEB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8FD2-B4FC-4FE0-8DD3-E38DAF9B8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3640" y="458136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NHB DEUR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Waarom is voeding belangrijk?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zondheid, levensduur, prestatie en wel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is van de eisen en behoe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urlijk gedrag en voerbehoe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36320" y="333000"/>
            <a:ext cx="690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De natuur van het paard</a:t>
            </a: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 komen paarden vanda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rd wordt gedomestic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adische voedselzoe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rie leert veulen wat wel en niet eetbaa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08720" y="4508640"/>
            <a:ext cx="3240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c"/>
                </a:solidFill>
                <a:latin typeface="Arial"/>
              </a:rPr>
              <a:t>Wat betekend dat voor het voeren?</a:t>
            </a:r>
            <a:endParaRPr b="0" lang="en-US" sz="32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arden eten vaak en in kleine hoeveel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eten dag en n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arden zoeken structuurrijk ruw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blijven dooreten, ook bij voldoende energie op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besteden 60% van hun tijd aan 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bewegen veel tijdens het 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er moeten wij rekening mee houd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Dag bested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loed huisvesting op gedrag en vo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drags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035520" cy="338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040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Leefwijze vroeger &amp; nu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394020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304812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o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we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 16 u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6 u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tg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ije keu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perkte keu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tso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 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rij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ed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urrijk ruwvo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er structu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. c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dde g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ele huisv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5403960" cy="367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03T08:46:45Z</dcterms:modified>
  <cp:revision>33</cp:revision>
  <dc:subject/>
  <dc:title>PowerPoint-presentatie</dc:title>
</cp:coreProperties>
</file>