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189BDFC-5F22-48C3-8E42-A2CB05E6969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urhoudende stoffen = complexe koolhydraten = vez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B kauwbewe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der gras goed voor spijsver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wit weetj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zond paard is te veel eiwit geen probleem. De nieren scheiden de N uit, waardoor het paard vaker plast en meer gaat drin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el eiwit voeren geeft niet altijd extra waarde want een groot deel blijft onbruikbaar voor het pa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arden krijgen geen dikke benen van eiwit, maar soms wel van te veel suiker en zetmeel in het voer. En natuurlijk van te weinig bewe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g bladrijk gras (lichtgroen van kleur) bevat veel eiwit en sui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nduranc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t is pure energie, maar veel tijd nodig om het naar bruikbare energie om te zet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aard laten wennen aan vet vo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nvorm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gen in vele kronkels in bu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jsverteringssappen toegevoegd aan voedselbrij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edingstoffen worden door darmvlokken opgen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oli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ooit meer dan 200 gram suiker per 100 kg lichaamsgewicht per maaltij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as op met mais uiteindelijk zetmeel omgezet in suik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6FCE-C2BD-4CB6-8366-6301B123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E14-0460-4CE8-AE9D-3FBF110F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9DA-2A9D-4D59-847A-B9978F88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8EAC-DA6B-4301-A1B7-16AC992A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CF0E-A16F-40DC-8576-8E848593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51B-F7F1-469C-A407-8768075C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BDF-6EB2-4B54-9164-01A9E913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EE2-DB3C-4C02-B5B5-BEC29046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1C5-B485-4411-89F5-ACF5E0E2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A06-1B92-4E32-BBA8-5A1DA280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646-2ECE-41A7-8172-BAFCA23A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8502-93DF-45F2-A6EE-7D58BEBF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4760-4FF1-48FF-8A6F-22D868812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3640" y="836640"/>
            <a:ext cx="5543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8c"/>
                </a:solidFill>
                <a:latin typeface="Arial"/>
              </a:rPr>
              <a:t>Voeding</a:t>
            </a:r>
            <a:endParaRPr b="0" lang="en-US" sz="11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6 Van mond tot me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Complexe Koolhydraten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dere planten meer structuurhoudend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kke darm breken bacteriën deze stoffen 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uchtige vetzuren opgenomen in bl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tsoen min. 50% hieruit opb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deel structuurrijk vo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armen blijven in bewe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eer KB = meer speek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iet dik of ‘heet’ mak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oedk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erkt verveling t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12000" y="3716280"/>
            <a:ext cx="21430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Eiwitten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hele maagdarmkanaal afgebroken tot aminozuren (AZ) en stikstof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Z alleen in dunne darm opgen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dikke darm benutten alleen bacteriën de 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essentiële aminozuren worden door de bacteriën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95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Vet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braak en opname: vooral in maag en dunne d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rt veel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r dan 3 uur trainen veel v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Vitamines en mineralen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ig v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otgroei (Ca ,P, M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p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pnam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unctioneren enzymen en horm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9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Totaal overzicht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1032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47640" y="6922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Vrag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90600" y="184320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 Black"/>
              </a:rPr>
              <a:t>Maag-darmkanaal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08000" y="1773360"/>
            <a:ext cx="486108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9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Maag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verhouding kl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ard 600 kg niet meer dan 3 kg krachtvoer per maaltij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maagvulling bepaald de maagle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35640" y="189000"/>
            <a:ext cx="3348000" cy="2136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19640" y="4659480"/>
            <a:ext cx="3456000" cy="20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Dunne darm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e: 15 tot 26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n breken de voedingstoffen af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ffen direct in de bloedb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na alle vet, zetmeel, suiker en eiwit wordt vert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angrijkste deel krachtvoer in dunne darm vert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2737080" cy="1692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300720" y="5157720"/>
            <a:ext cx="2305080" cy="13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Dikke darm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ngeveer 4 m 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eft een inhoud van 80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dat vocht wordt opgen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t scherpe boch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ndedarm = fermen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435640" y="1052640"/>
            <a:ext cx="3097080" cy="2146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00720" y="4076640"/>
            <a:ext cx="33130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Endeldarm en rectum 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deld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Laatste deel dikke d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Zorgt ook voor vocht op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Mestballen worden gevor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ste stukje van de dar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ringspier sluit het rectum 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64000" y="981000"/>
            <a:ext cx="3384720" cy="2090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84292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Doorloop snelheid van voer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00040" y="1562040"/>
            <a:ext cx="69883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Bouwstenen in het voer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1197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1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2205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rganisch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220500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norganisch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56000" y="1484280"/>
            <a:ext cx="1440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3500280"/>
            <a:ext cx="2952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w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olhydraten (suik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00720" y="3357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7708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0836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79640" y="537372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oplosbare koolhydr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5445000"/>
            <a:ext cx="24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e koolhydrat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ez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916000" y="486900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7640" y="4797360"/>
            <a:ext cx="865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195280" y="1557360"/>
            <a:ext cx="1081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Oplosbare koolhydraten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ker en zetm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gebroken door enzymen in maag en dunne d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el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adelijke voor dikke dar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cterië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skoliek &amp; hoefbevangen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659640" y="4508640"/>
            <a:ext cx="210024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Noëlla van de Sande</cp:lastModifiedBy>
  <dcterms:modified xsi:type="dcterms:W3CDTF">2011-02-03T13:19:49Z</dcterms:modified>
  <cp:revision>50</cp:revision>
  <dc:subject/>
  <dc:title>PowerPoint-presentatie</dc:title>
</cp:coreProperties>
</file>