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967FE4E-A502-4E48-AE43-11147EDB84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2 – 2,4 % = of zo’n 2 kg per 100 kg lichaamsgewicht). Droog voer is voer met meer dan 80 procent droge stof, zoals hooi, stro, granen, krachtvoer brok, droog voordroogkuil en mues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reef naar 1,5 procent (1,5 kg per 100 kg lichaamsgewich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zig? Leg hooi op het water in de e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t langer dan 8 uur zonder vo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per dag voeren is ide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z 113 en verder staan overzicht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F12-4189-4DA7-A755-1F875B23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FFC-59D5-4A0B-8F7D-A3CA32E3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D06-73A6-486C-87B3-5A9B31A2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354-4DFC-42B8-9475-847146BA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FE4-6670-4B7D-A242-F375F548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977-081B-4FA5-97EC-449D117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7E5-2983-469E-ACFD-9BCFE54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6F6-4208-4D31-8320-CC9C8D3D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129-B4E4-4FE9-BF5F-E0D61B0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D35-98D4-4891-87BB-6077C82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285-24B6-4E0A-B14D-8A4729A1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992-4D32-4C85-8FB1-E1931A2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9882-B80C-44B3-B938-0B62AC8EF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12: Afsluiting &amp; 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er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2 tot 2,4 procent van het LG per dag als droogvo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minimaal 1,2 procent van het lichaamsgewicht per dag als structuurrijk ruwvoer. (1,5 = streef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 je paard in een goede lichaams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er in lijn met de 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doende schoo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gulzig laten drinken na 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wvoer en kracht 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voldoende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er kw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 zo veel mogelijk vast aan een soort KV en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 verdelen over d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zo min mogelijk KV, en meer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ertijdsti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e tijden en alle paarden teg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te lang zonder vo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cht met training na voeren (1-3 u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direct na training 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04000" y="3789360"/>
            <a:ext cx="1905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er en 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f dagelijkse uitloop of weide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te veel jong gras in één 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anderingen rustig door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ker en minder 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worm regelma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7196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ederwaar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907920"/>
            <a:ext cx="9144000" cy="5949720"/>
            <a:chOff x="0" y="907920"/>
            <a:chExt cx="9144000" cy="59497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1596960" y="-689040"/>
              <a:ext cx="5949720" cy="914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5403960" cy="367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35280" y="544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 Black"/>
              </a:rPr>
              <a:t>Succes met de toet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10T11:33:00Z</dcterms:modified>
  <cp:revision>37</cp:revision>
  <dc:subject/>
  <dc:title>PowerPoint-presentatie</dc:title>
</cp:coreProperties>
</file>