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9DF49ED-7705-42DF-98D5-5CF70759D4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ontrijnigingen (bermhooi , andere giftige planten (j.kruid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wvoeder (gras, hooi, voordroogkuil en luzer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achtvoer: (brokken, muesli en ha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ras is meest natuurlijke vo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oede wei is belagrijk voor het kwaliteit van het ruwvoe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rasplantje dat langer wordt maakt meer structuurrijke vezels aan. Het deel waar de energie inzit wordty kle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 ouder het gras hoe stengeliger het wordt = meer vezels = moeilijker te verteren dan jong gras maar voorziet wel in de behoefte aan ruwvoe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ipgrazen: steeds maar een klein stuk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ntegras bevat voldoende energie voor zogende merries en veu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omt beter overeen met natuurlijk gedrag (fouranger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t je: dat Koe graast met tong dus laat gras langer en paard met tanden dus gras k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ge stof maat waar mee gemeten wordt door product te wegen in oven te drogen al het water eruit en dan wat overblijft is droge st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walitei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t op met klaver in de wei. Er mag niet meer dan 30% klaver in de wei staan ivm eiwit overschot (fo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veelheid paarden: 1 ha grasland is voor 1 jaar voldoende energie voor 3 grote paarden, hou ook gedrag in de gaten (rangorde,etc) voor het beoordelen of bijvoeren noodzakelijk is. ( kijk naar de lichaamscondit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udbaarheid 1,5 ja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anaf de grond ivm stof en za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odra je paard verkouden is nat hooi voeren dan ontwikkelen ze een stof aller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a gras het beste voedermid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ard eet ze nu wel op terwijl in de wei hij deze laat sta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s dat is wat je werkelijk vo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uilgras : vers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droogkuil: gras dat enkele dagen op land heeft ge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chimmelvoering + rottingsbac bij opening gestar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droog bevat meer energie dan hooi, maar heeft niet altijd de hoeveelheid structuurrijke vezels die een paard nodig he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deel kuil = stofvr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s 55-65% is ideaal = voordroogkuil genoe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uilgras is relatief energier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ef geen koeien kuil: &lt;45% ds, en teweinig structuur (geeft koliek , maagzweren. Min 50% moet hij hebben uit ku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oed bewaard en lucht dicht kan 2 jaar bewaard blij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55D-0B12-4430-BFAD-6B49D957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FDC-252C-4B12-A620-260FA467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5DE-E6C2-4E95-BD06-99056B10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B3C-3B1F-4E4F-94EF-D4C0ECE2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D87-C8A4-4F40-BE0D-3802A7D8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1EB-DFD1-4873-914D-CB8B27A2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020-2A64-44E6-A9CD-C17BC2F3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992-44D9-4E2C-8CBC-B9BE0A01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BF2-73B0-4AF0-9726-489A1F9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B4E-0BD8-48B5-8D5A-A681CB39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538-17A5-4283-B659-9A17E90D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8DB-AD97-49A0-9E99-76A55FC8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18D1-41E1-46BF-9DF9-B8FDC247D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2 Soorten 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ontrole van hooi en kuil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aler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u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ntreinigin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610080" cy="2411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076720" y="3429000"/>
            <a:ext cx="35276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5403960" cy="36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4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Soorten vo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bivoor = planten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chtvoer vs Ruwv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chtv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vo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ntsoen aanvullen met verse groenten, olie e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Gras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ge grasplant veel energie (suik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el blad en weinig sten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langer dan structuurrijke vez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nig blad en veel sten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gel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lexe koolhydraten (ruwe celstof = vez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4191120"/>
            <a:ext cx="3047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om gewens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e conta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as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600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beperkt grasland kan dus ook teveel energie levere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22720" cy="388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10080" y="4572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d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Droge Stof (DS)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0" y="1989000"/>
            <a:ext cx="4392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ge sto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 na drogen overblij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ie uit     =   Energie ui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uur grazen       2 kg hooi of 1 kg K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39640" y="188640"/>
            <a:ext cx="61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Grasland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aliteit gra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p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land gezond hou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w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t verwij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24360" y="981000"/>
            <a:ext cx="30387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Hooi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te drogen langer houd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i goed 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jd giftige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2521080" cy="189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36000" y="404640"/>
            <a:ext cx="1765080" cy="482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835280" y="458136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03640" y="544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kobskruiskr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Gras, hooi en DS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09120" cy="3152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472428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voeren kijk je naar de DS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5067360"/>
            <a:ext cx="9144000" cy="1790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Kuilgras en Voordroogkuil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uilg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droogku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gesloten geen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kzuurbacteriën verlagen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as wordt zuurder= rottingsbacteriën krijgen geen k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nnen 3 tot 5 dagen opvo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03T09:30:02Z</dcterms:modified>
  <cp:revision>37</cp:revision>
  <dc:subject/>
  <dc:title>PowerPoint-presentatie</dc:title>
</cp:coreProperties>
</file>