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1.wmf" ContentType="image/x-wmf"/>
  <Override PartName="/ppt/media/image3.png" ContentType="image/png"/>
  <Override PartName="/ppt/media/image15.png" ContentType="image/png"/>
  <Override PartName="/ppt/media/image10.jpeg" ContentType="image/jpeg"/>
  <Override PartName="/ppt/media/image14.png" ContentType="image/png"/>
  <Override PartName="/ppt/media/image9.png" ContentType="image/png"/>
  <Override PartName="/ppt/media/image1.jpeg" ContentType="image/jpeg"/>
  <Override PartName="/ppt/media/image2.png" ContentType="image/png"/>
  <Override PartName="/ppt/media/image5.wmf" ContentType="image/x-wmf"/>
  <Override PartName="/ppt/media/image6.png" ContentType="image/png"/>
  <Override PartName="/ppt/media/image7.jpeg" ContentType="image/jpe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128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lstStyle>
            <a:lvl1pPr indent="0" algn="r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44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8c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00008c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lstStyle>
            <a:lvl1pPr indent="0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1280" y="942984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78316DC0-3803-4737-82D2-22A8CF5F8AF3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Times New Roman"/>
              </a:rPr>
              <a:t>De meeste paarden gaan giftige planten uit de weg. Een van deze giftige planten 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800" spc="-1" strike="noStrike">
                <a:solidFill>
                  <a:srgbClr val="000000"/>
                </a:solidFill>
                <a:latin typeface="Times New Roman"/>
              </a:rPr>
              <a:t>jakobskruiskruid</a:t>
            </a:r>
            <a:r>
              <a:rPr b="0" lang="nl-NL" sz="800" spc="-1" strike="noStrike">
                <a:solidFill>
                  <a:srgbClr val="000000"/>
                </a:solidFill>
                <a:latin typeface="Times New Roman"/>
              </a:rPr>
              <a:t>. Dit kruid komt het meest voor in weilanden, wegbermen 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Times New Roman"/>
              </a:rPr>
              <a:t>natuurlijk grasland. Paarden eten jakobskruiskruid wel in gedroogde vorm, dus he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800" spc="-1" strike="noStrike">
                <a:solidFill>
                  <a:srgbClr val="000000"/>
                </a:solidFill>
                <a:latin typeface="Times New Roman"/>
              </a:rPr>
              <a:t>Fig. 5.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800" spc="-1" strike="noStrike">
                <a:solidFill>
                  <a:srgbClr val="000000"/>
                </a:solidFill>
                <a:latin typeface="Times New Roman"/>
              </a:rPr>
              <a:t>Een gezond paard herken j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800" spc="-1" strike="noStrike">
                <a:solidFill>
                  <a:srgbClr val="000000"/>
                </a:solidFill>
                <a:latin typeface="Times New Roman"/>
              </a:rPr>
              <a:t>aan de volgende zaken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nl-NL" sz="800" spc="-1" strike="noStrike">
                <a:solidFill>
                  <a:srgbClr val="000000"/>
                </a:solidFill>
                <a:latin typeface="Times New Roman"/>
              </a:rPr>
              <a:t>Goed geb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nl-NL" sz="800" spc="-1" strike="noStrike">
                <a:solidFill>
                  <a:srgbClr val="000000"/>
                </a:solidFill>
                <a:latin typeface="Times New Roman"/>
              </a:rPr>
              <a:t>Het ontwormingsschema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nl-NL" sz="800" spc="-1" strike="noStrike">
                <a:solidFill>
                  <a:srgbClr val="000000"/>
                </a:solidFill>
                <a:latin typeface="Times New Roman"/>
              </a:rPr>
              <a:t>De vacht is glanzend en d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Times New Roman"/>
              </a:rPr>
              <a:t>ogen zijn helder, de or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Times New Roman"/>
              </a:rPr>
              <a:t>alert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nl-NL" sz="800" spc="-1" strike="noStrike">
                <a:solidFill>
                  <a:srgbClr val="000000"/>
                </a:solidFill>
                <a:latin typeface="Times New Roman"/>
              </a:rPr>
              <a:t>Het tandvlees is zalmroz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nl-NL" sz="800" spc="-1" strike="noStrike">
                <a:solidFill>
                  <a:srgbClr val="000000"/>
                </a:solidFill>
                <a:latin typeface="Times New Roman"/>
              </a:rPr>
              <a:t>De temperatuur is 37-38°C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nl-NL" sz="800" spc="-1" strike="noStrike">
                <a:solidFill>
                  <a:srgbClr val="000000"/>
                </a:solidFill>
                <a:latin typeface="Times New Roman"/>
              </a:rPr>
              <a:t>Hartslag: 38-40 slagen p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Times New Roman"/>
              </a:rPr>
              <a:t>minuut in rust (te voel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Times New Roman"/>
              </a:rPr>
              <a:t>aan de binnenkant van d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Times New Roman"/>
              </a:rPr>
              <a:t>onderkaak)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nl-NL" sz="800" spc="-1" strike="noStrike">
                <a:solidFill>
                  <a:srgbClr val="000000"/>
                </a:solidFill>
                <a:latin typeface="Times New Roman"/>
              </a:rPr>
              <a:t>Ademhaling: ongeveer 12-1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Times New Roman"/>
              </a:rPr>
              <a:t>ademhalingen per minuut 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Times New Roman"/>
              </a:rPr>
              <a:t>rust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nl-NL" sz="800" spc="-1" strike="noStrike">
                <a:solidFill>
                  <a:srgbClr val="000000"/>
                </a:solidFill>
                <a:latin typeface="Times New Roman"/>
              </a:rPr>
              <a:t>De mest is van de juis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Times New Roman"/>
              </a:rPr>
              <a:t>samenstelling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nl-NL" sz="800" spc="-1" strike="noStrike">
                <a:solidFill>
                  <a:srgbClr val="000000"/>
                </a:solidFill>
                <a:latin typeface="Times New Roman"/>
              </a:rPr>
              <a:t>Het paard drinkt voldoend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nl-NL" sz="800" spc="-1" strike="noStrike">
                <a:solidFill>
                  <a:srgbClr val="000000"/>
                </a:solidFill>
                <a:latin typeface="Times New Roman"/>
              </a:rPr>
              <a:t>De stalbodem is niet ongewo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Times New Roman"/>
              </a:rPr>
              <a:t>overhoop gehaald of nat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800" spc="-1" strike="noStrike">
                <a:solidFill>
                  <a:srgbClr val="000000"/>
                </a:solidFill>
                <a:latin typeface="Times New Roman"/>
              </a:rPr>
              <a:t>Fig. 5.1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Times New Roman"/>
              </a:rPr>
              <a:t>Ga Jakobskruiskruid te lij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Times New Roman"/>
              </a:rPr>
              <a:t>Neem bij het verwijderen van Jakobskruiskrui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Times New Roman"/>
              </a:rPr>
              <a:t>geen halve maatregelen. Trek d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Times New Roman"/>
              </a:rPr>
              <a:t>planten uit de grond en graaf de wortel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Times New Roman"/>
              </a:rPr>
              <a:t>op en verbrand deze. Gebruik handschoenen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Times New Roman"/>
              </a:rPr>
              <a:t>want het gif is ook schadelijk vo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Times New Roman"/>
              </a:rPr>
              <a:t>mensen en kan door je huid binnendringen!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Times New Roman"/>
              </a:rPr>
              <a:t>Neem het land in de lente onder handen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Times New Roman"/>
              </a:rPr>
              <a:t>want dan staat het kruid nog niet in bloei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Times New Roman"/>
              </a:rPr>
              <a:t>In hooi kan de rode stengel aangeven da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Times New Roman"/>
              </a:rPr>
              <a:t>het om Jakobskruiskruid gaat. Let op: al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Times New Roman"/>
              </a:rPr>
              <a:t>je op zeer jonge leeftijd maait is de stenge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Times New Roman"/>
              </a:rPr>
              <a:t>nog niet rood. Je kunt dus niet altij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Times New Roman"/>
              </a:rPr>
              <a:t>zien dat paarden het eten na maaien. De vieze smaak is er dan wel af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Times New Roman"/>
              </a:rPr>
              <a:t>maar het gif blijft werken en verspreidt zich zelfs door het hele hooikuilgras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Times New Roman"/>
              </a:rPr>
              <a:t>De meeste zekerheid krijg je door monsters te laten nemen o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Times New Roman"/>
              </a:rPr>
              <a:t>de weide te kennen waar het ruwvoer vandaan komt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Times New Roman"/>
              </a:rPr>
              <a:t>104 ❑ PAARD EN VO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Times New Roman"/>
              </a:rPr>
              <a:t>mag niet in het hooi terechtkomen. Goedkoop hooi dat van de bermen komt, word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Times New Roman"/>
              </a:rPr>
              <a:t>daarom afgeraden voor paarden. Je herkent het effect van een vergiftiging vaak niet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Times New Roman"/>
              </a:rPr>
              <a:t>omdat het gif zich ophoopt in de lever van het paard. Verschijnselen openbaren zic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Times New Roman"/>
              </a:rPr>
              <a:t>pas als de ophoping van gif een niveau bereikt waarbij de lever beschadigd raakt. D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Times New Roman"/>
              </a:rPr>
              <a:t>kan jaren duren en uiteindelijk de dood tot gevolg hebbe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Times New Roman"/>
              </a:rPr>
              <a:t>Ook boterbloemen zijn giftig als ze in grote hoeveelheden worden gegete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Times New Roman"/>
              </a:rPr>
              <a:t>Vergiftigingsverschijnselen zijn: overproductie van speeksel, diarree en koliek, 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Times New Roman"/>
              </a:rPr>
              <a:t>komen deze verschijnselen zelden voor. Boterbloemen komen veel voor in nat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Times New Roman"/>
              </a:rPr>
              <a:t>gebieden. Een goede drainage en bemesting kunnen de groei van boterbloem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Times New Roman"/>
              </a:rPr>
              <a:t>vermindere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Times New Roman"/>
              </a:rPr>
              <a:t>Mijd ook taxus- of buxusplanten. Ze zijn eveneens giftig. Eikels zijn ook giftig, maa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Times New Roman"/>
              </a:rPr>
              <a:t>paarden eten ze zelden. Eikels kunnen verstopping veroorzaken, gevolgd door diarr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Times New Roman"/>
              </a:rPr>
              <a:t>en, op langere termijn, leveraandoeningen. Als je paard toch eikels eet, kun je z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Times New Roman"/>
              </a:rPr>
              <a:t>verzamelen of het gedeelte rondom de boom afzetten. De bomen zelf zijn overige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Times New Roman"/>
              </a:rPr>
              <a:t>heel nuttig als bescherming tegen zon en win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A=Boterblo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B=Tax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C= Jakobskruiskru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D=Bux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Welke van de figuren geeft een wedstrijdpaard aan en welke een recreatie paard en waaro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(links = recreati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Niet meer dan 8 uur zonder eten staan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Volle buik werken ze niet graa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Vervoer: balanceren is werken! Langer dan 3 uur rijden?</a:t>
            </a:r>
            <a:r>
              <a:rPr b="0" lang="nl-NL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 dan pauzeren met water en (nat) hooi  zorg dat je optijd bent (min 30 min) voor de wed om het paard te laten herstell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Glycogeen = reserve energiebron (opgeslagen suike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Glucose dip: laag gehalte glucose: slecht voor intensieve prestati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Vetzuren: zijn belangrijk voor werk van lange duur (endurance, gemengde competitie heel de dag etc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RV tot voor een uur van de training / w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Wei / hooi, vocht etc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Kribbebijten, weven, schrapen, slaan, dekenbijten, luchtzuigen, tongspelen, flankbijten, hout eten, rondjes draaien, overmatig drinken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Vermoeden bestaat dat het erfelijk aangelegd is, maar huisvesting en andere omstandigheden waaronder we paarden houden spelen sterk mee (kunnen natuurlijk gedrag niet vertone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Voorkomen: sociaal contact, voldoende rv, weidegang in groepen, verbeter leefonstandigheden! Soms vermindering K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Maag pijn door verzuring </a:t>
            </a:r>
            <a:r>
              <a:rPr b="0" lang="nl-NL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 te weinig RV </a:t>
            </a:r>
            <a:r>
              <a:rPr b="0" lang="nl-NL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 maagzwer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Riemen, weefrek helpen niet, ze halen het niet kunnen tonen later wel weer in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op tijd’ voeren: is op bepaalde vaste tijdstipp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: gesneden vezels (stro, hooi, gras) en muslie geven in plaats van brok, of liksteen, stenen in voerbak </a:t>
            </a:r>
            <a:r>
              <a:rPr b="0" lang="nl-NL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 tegen snel et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Stress: kan leiden tot slecht eten.. </a:t>
            </a:r>
            <a:r>
              <a:rPr b="0" lang="nl-NL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 pas werkschema aan of kijk of die wel gezond is. Maak het voer lekker (mint) stroop, appels wortele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Zuur voer : koeienku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Paard met maagzweer: rusteloos, kauwen, luchtzuigen, verminderde conditie,, rondjes draaien, koliek (verschijnsele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Ponys gevoeliger dan paard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Gebruik kv dat goed verteerbaar is. Gebruik een kale weide en geef structuurrijk ruwvo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Acute klachten: geef slobberpap van zemelen om de gifstoffen te binden geen vers gras geven!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Vroege veulens: blijven langer op stal en gaan sneller kv mee et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Zet ze liefst op een kalere wei, laat ze niet meeeten met de moeder. Geef supplement Lysine voor de gezonde botgroei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EA98B-F7D0-45D7-B78B-8E87ADCFB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79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B1D65-9B7D-4EC1-915B-AB6935D19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79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28BDA-CA36-4334-87E5-229F0B1C7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79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D21D6-318B-44D1-AB98-6A92228F3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79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CC615-9431-433F-967D-8B1DE616B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79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F3B31-12CF-48C9-8872-B77326B8B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79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75EAA-FA99-4649-818C-B5AC65081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79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223CF-2EBF-4550-871C-F44FC43CC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7964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151CD-33D5-4801-9267-DAA01627A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79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9BAD0-66D9-4A42-8EED-69317C692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79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DEFE7-AFB9-4D98-967D-38765D8E6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79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10933-0E6B-4F93-B949-452CA7B88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79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8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8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DF8B7-9170-4158-AB7A-22F6CC88DB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123640" y="836640"/>
            <a:ext cx="554364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0" spc="-1" strike="noStrike">
                <a:solidFill>
                  <a:srgbClr val="00008c"/>
                </a:solidFill>
                <a:latin typeface="Arial"/>
              </a:rPr>
              <a:t>Voeding</a:t>
            </a:r>
            <a:endParaRPr b="0" lang="en-US" sz="11000" spc="-1" strike="noStrike">
              <a:solidFill>
                <a:srgbClr val="000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s 11 voermanagement en gezondhe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340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8c"/>
                </a:solidFill>
                <a:latin typeface="Arial"/>
              </a:rPr>
              <a:t>Giftige planten</a:t>
            </a:r>
            <a:endParaRPr b="0" lang="en-US" sz="4000" spc="-1" strike="noStrike">
              <a:solidFill>
                <a:srgbClr val="00008c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68280"/>
            <a:ext cx="77724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 op giftige plante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kobskruiskru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terbloe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xus-buxusplan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ik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8436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8c"/>
                </a:solidFill>
                <a:latin typeface="Arial"/>
              </a:rPr>
              <a:t>Giftige planten</a:t>
            </a:r>
            <a:endParaRPr b="0" lang="en-US" sz="4000" spc="-1" strike="noStrike">
              <a:solidFill>
                <a:srgbClr val="00008c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4572000" y="1268280"/>
            <a:ext cx="2054160" cy="24480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2484360" y="3789360"/>
            <a:ext cx="2027160" cy="28224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6659640" y="3789360"/>
            <a:ext cx="2058840" cy="2878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5"/>
          <a:stretch/>
        </p:blipFill>
        <p:spPr>
          <a:xfrm>
            <a:off x="324000" y="1268280"/>
            <a:ext cx="2116080" cy="252108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900000" y="3860640"/>
            <a:ext cx="10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276720" y="328464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219640" y="371628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524720" y="3284640"/>
            <a:ext cx="10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547640" y="692280"/>
            <a:ext cx="5181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8c"/>
                </a:solidFill>
                <a:latin typeface="Arial"/>
              </a:rPr>
              <a:t>Vragen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90600" y="1843200"/>
            <a:ext cx="4762800" cy="317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19564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8c"/>
                </a:solidFill>
                <a:latin typeface="Arial"/>
              </a:rPr>
              <a:t>Voermanagement</a:t>
            </a:r>
            <a:endParaRPr b="0" lang="en-US" sz="4000" spc="-1" strike="noStrike">
              <a:solidFill>
                <a:srgbClr val="00008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24000" y="1268280"/>
            <a:ext cx="8496000" cy="433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voeren goed afstemmen op het pa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erdere maaltijden per da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avond veel RV voor de nac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imaal 1 uur tussen voer en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ud rekening met vervoer en inspan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5219640" y="4010040"/>
            <a:ext cx="2592360" cy="2575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3276720" y="4508640"/>
            <a:ext cx="1771560" cy="12762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539640" y="4005360"/>
            <a:ext cx="2548080" cy="241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05092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8c"/>
                </a:solidFill>
                <a:latin typeface="Arial"/>
              </a:rPr>
              <a:t>Voeren voor het werk</a:t>
            </a:r>
            <a:endParaRPr b="0" lang="en-US" sz="4000" spc="-1" strike="noStrike">
              <a:solidFill>
                <a:srgbClr val="00008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50560" y="1484280"/>
            <a:ext cx="85690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er binnen 3 uur voor wed. geen KV omda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15 min na voeren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uikers opgenomen als gluco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Glucose wordt opgeslagen als glycoge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Na 2 uur: glucosed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Grote hoeveelheid KV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vrije vetzuren in het blo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leine hoeveelheden RV voor de wed. kan w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nachts RV / in de wei is gewen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284720" y="3284640"/>
            <a:ext cx="0" cy="36036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979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c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1547640" y="1052640"/>
            <a:ext cx="5774040" cy="47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90800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8c"/>
                </a:solidFill>
                <a:latin typeface="Arial"/>
              </a:rPr>
              <a:t>Stereotiep gedrag rondom voeding</a:t>
            </a:r>
            <a:endParaRPr b="0" lang="en-US" sz="3600" spc="-1" strike="noStrike">
              <a:solidFill>
                <a:srgbClr val="00008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7772400" cy="433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reotiep gedrag = stalondeug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rfelij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uisv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iet af te le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arden kopiëren nie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orkom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6012000" y="2852640"/>
            <a:ext cx="2582640" cy="24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0800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8c"/>
                </a:solidFill>
                <a:latin typeface="Arial"/>
              </a:rPr>
              <a:t>   </a:t>
            </a:r>
            <a:r>
              <a:rPr b="0" lang="en-US" sz="4000" spc="-1" strike="noStrike">
                <a:solidFill>
                  <a:srgbClr val="00008c"/>
                </a:solidFill>
                <a:latin typeface="Arial"/>
              </a:rPr>
              <a:t>Stalondeugden en voeding</a:t>
            </a:r>
            <a:endParaRPr b="0" lang="en-US" sz="4000" spc="-1" strike="noStrike">
              <a:solidFill>
                <a:srgbClr val="00008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11280" y="1341360"/>
            <a:ext cx="777240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ag pijn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ucht zuigen &amp; kribbebij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 tijd’ voeren + weinig RV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e snel eten &amp; voernij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 weinig RV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ten stalbodem &amp; dippen aan w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 weinig mineralen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out eten &amp; metaal likk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5076720" y="4560840"/>
            <a:ext cx="3792600" cy="229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979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8c"/>
                </a:solidFill>
                <a:latin typeface="Arial"/>
              </a:rPr>
              <a:t>   </a:t>
            </a:r>
            <a:r>
              <a:rPr b="0" lang="en-US" sz="4000" spc="-1" strike="noStrike">
                <a:solidFill>
                  <a:srgbClr val="00008c"/>
                </a:solidFill>
                <a:latin typeface="Arial"/>
              </a:rPr>
              <a:t>Maagzweren en voeding</a:t>
            </a:r>
            <a:endParaRPr b="0" lang="en-US" sz="4000" spc="-1" strike="noStrike">
              <a:solidFill>
                <a:srgbClr val="00008c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4360" y="1484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 veel maag zuur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aagzwe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orzake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Te lange periodes zonder vo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Te veel zetmeel en suik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Onvoldoende R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Voeren zuur voe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Stress en zenuw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08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8c"/>
                </a:solidFill>
                <a:latin typeface="Arial"/>
              </a:rPr>
              <a:t>Hoefbevangenheid en voeding</a:t>
            </a:r>
            <a:endParaRPr b="0" lang="en-US" sz="4000" spc="-1" strike="noStrike">
              <a:solidFill>
                <a:srgbClr val="000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798984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erdere mogelijke oorzak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e veel suikers en zetmeel </a:t>
            </a:r>
            <a:r>
              <a:rPr b="0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niet alles opgenomen</a:t>
            </a:r>
            <a:r>
              <a:rPr b="0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dikke darm </a:t>
            </a:r>
            <a:r>
              <a:rPr b="0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fermentati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lotselinge dood Bac. in darm </a:t>
            </a:r>
            <a:r>
              <a:rPr b="0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gifstoffen </a:t>
            </a:r>
            <a:r>
              <a:rPr b="0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ho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5280" y="3657600"/>
            <a:ext cx="2693880" cy="22352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7164360" y="3716280"/>
            <a:ext cx="1636920" cy="221148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4788000" y="2349360"/>
            <a:ext cx="0" cy="36036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276720" y="4149720"/>
            <a:ext cx="388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ef dus juiste voeding en laat ze niet te dik worden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0509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8c"/>
                </a:solidFill>
                <a:latin typeface="Arial"/>
              </a:rPr>
              <a:t>Koliek, O.C. en voeding</a:t>
            </a:r>
            <a:endParaRPr b="0" lang="en-US" sz="4000" spc="-1" strike="noStrike">
              <a:solidFill>
                <a:srgbClr val="00008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557000"/>
            <a:ext cx="777240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oli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e voedingsregels van belang bij koli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schillende vormen en oorzak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steochondrose (O.C.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tvorming begint al vroeg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errie goed vo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efst ‘latere’ veulens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eweging + minder snel KV e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5619600" y="4724280"/>
            <a:ext cx="3524400" cy="19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3T12:28:48Z</dcterms:created>
  <dc:creator>Bedrijfsbureau</dc:creator>
  <dc:description/>
  <dc:language>en-US</dc:language>
  <cp:lastModifiedBy>Noëlla van de Sande</cp:lastModifiedBy>
  <dcterms:modified xsi:type="dcterms:W3CDTF">2011-02-10T11:33:32Z</dcterms:modified>
  <cp:revision>63</cp:revision>
  <dc:subject/>
  <dc:title>PowerPoint-presentatie</dc:title>
</cp:coreProperties>
</file>